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5678-159F-4C3C-93BA-11C7434A1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3846-E491-4512-86E9-43C0E68D84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B04E-6760-4EAC-B067-686F248CF2C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D009-ED9A-4556-BD17-C035DBA7093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151FC-E458-4EF9-8DA1-C90B0B1BC9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2541-E42F-4B76-97E7-DA7F69B0FBD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AB84-44CF-4333-A97A-0AEF3A6AAAA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A86F-2D0D-4292-B743-C39712ACD8C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3CB5C-9963-41D7-BD18-CEA08C60843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A4523-9101-4F2F-8FC5-5DF703F768F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A51D-7BCF-4D42-B1DD-7A36BB8428D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BE0E1-AD01-4C12-937A-1D6AA3EA2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D9D8-AF84-47F3-A396-4B34945B3AC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56B39F-A79B-4257-9B67-1F4AF0EDFCE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043F5-89E1-4035-9693-5234FC420A3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03A2FD-A431-46BE-B032-35B64EB554F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6116E-9EDA-4964-96F7-0D2B80AE295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0DB3A-C79E-4574-8F88-0DAC60D1435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32CF5-932D-44C6-8C3A-80E4CB76CF4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C08785-5221-444A-A4D7-038F90DB401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D0C3A-E50E-4129-A4E9-509A80A79FD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DE9F9-1460-4A17-B2F0-A29E657D2A1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331F6-D93B-4251-B292-EBB4A5AEF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B6CF-0B44-42B2-B02B-5165B599250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EB0A6F-273E-41DC-9576-B22CE71796B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9DCE0-E7EC-4787-BE37-28F5CAE7A49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8B638-1C9D-4F30-A78D-57A24D6D7AA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6B9E3-74AD-4EC2-A385-405CF652146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28745-CA83-4DE1-B1F5-3C24C83F519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F7E6E-8D5B-4B83-8748-4AD7626E2A8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5F19C-2A82-46E4-8CDE-0D43254B974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D8E5E-867E-410D-AE13-04D21F0F19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EC645-57E9-4D74-A78F-C992C86B8A3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433E9-6F3D-49E9-93E2-7287D68F6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D3D88-0E68-4215-A1EF-768B85A9D93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23C94-4DA2-456E-8533-03D053A2AC8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D9EFB-E63F-4FF5-8096-F16A1562C22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82F4A-FD4B-4110-ADA0-95D945E06C6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4AC2C-76AA-4697-8C59-A4E0D673933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66F01-C529-4C21-93EE-3982BDAD7E9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FFA2A-B14E-4AFB-A375-C994128077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378EF-6A72-41D7-9255-627DC12A7B8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EF62-8B80-4D9C-8964-A42F5DC0940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159BE-17A8-4F56-9FFD-B1CFAF2C1F5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A6996-5E4C-474F-8FF7-0992CAF070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A824-ADA3-46CB-887D-614DE40E601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259E-DDF0-4F3A-8D08-B4E9D6DB141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196FE-F272-476D-BA4A-2B42C86F324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65353-3C75-44FE-B058-2C56C87C208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D68AA-09DC-4F01-99A4-2D0E2993514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E982F-3243-4B63-B14F-B9A9410319F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656C57-F7F2-4321-A71F-A74BE8F3428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990023-03C1-45D1-BF99-F8CFD9D09E6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041DE0-0D9D-4771-A624-82F18AC35FF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BB922-2A18-4703-93CD-D3A6228A16F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4C3EF-F238-48FA-A398-3E09BEAE71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2520-647B-477C-8B46-EC0361B6757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8602DA-7CAB-4993-93EC-D9EDD806E76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AB2290-6619-4205-9190-A672F0106D1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F9ABD9-B694-443A-895B-B2E9013CBBC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6AF5B1-F866-41FE-8B62-458D556D1C4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7730A2-8F27-4B78-8CA3-5E11CA2C65C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CD7070-587E-4B5C-8A04-163BE21C52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4A05AC-1AA7-4299-8C9E-98DF191E7AB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9CA77-E884-4380-A207-54931EE88F5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B552A-1F83-411A-80EA-B37111A9890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C5A2F-135F-4667-B134-513CA3E89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A984-36FE-4D68-8A33-D8F6622D6AF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93281-EDDB-4B57-B987-7FEE7833329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7CFF5-538A-4302-BF33-1705FC3AD9F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9B97C-E849-4CFE-86B7-A9FF273DFE7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D49C0-0AFB-46C5-A15C-DBDA5C58CCE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7B87F-A09D-4452-A8CE-668183F130D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64E98-AD26-4405-9E8D-895B9DE8167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2348F-7B41-44B7-A99C-3ACC531F299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EFA89-A962-4D68-91D2-B3A43172E02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B6F5F-49C2-4896-82BF-976E55FAFC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F9A0-C056-4EE7-B248-909FB388E6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8755-C0E8-4EA0-A815-E21B307F17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1719-BF79-4835-BD7A-8C88094A3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CA1F-45AF-4D08-BC6F-9551C7B66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313E-862D-4575-B974-BA48AF545A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C5AF-C878-40C0-8697-F371CC589D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C8ED-399F-4654-B744-C1F4EFC72D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5AAA-7FCA-4D0A-8F33-0F3A494418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7EE4-C41F-4A9A-B365-7C525F0234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AB9-4D5B-4146-8D84-BF119096B3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45B-8454-4A09-9C71-3DA9483200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F6C-C071-400D-8D96-8463EA7640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DC4-7A78-4269-B4B8-705B95CE90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220-9AEB-4DA1-B3F8-9277AC497F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7BB7-3249-439F-A461-B6F3CF92EF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A3C-E5A1-4C1C-B7D8-7217CF09B2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192-D2C7-4524-97D1-9AA6E3E891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11E-94A0-40F0-A8EE-447808AE8A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539-2BB0-4559-87A8-D874CD8739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761-0FA3-4384-BCB2-2C3B267E77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943-CBD8-4E73-AD95-2195819405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72B-C301-4B00-A978-39DE81CEB6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EA963-9369-4570-87C2-8EAC7D2735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CD230-3CA9-4B7D-AF55-0EF93321AB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FCEA4-F1F4-4E85-9141-DD2CE1CF5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427D-5E51-45C7-8CB9-D8AD015C12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6B2CD-D02C-49B0-A319-A61D2C0579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F2545-8263-4656-809D-6A1EE864F1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67070-C3B6-4101-86A0-85FFEE120D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08E88-2E52-4B90-9006-25B1C06DD2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8F58E-1102-410E-BEC6-2E27807D15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63BF6-69E5-4030-A9D8-002F1A276A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DF5C7-F3EA-4C40-A817-7E5D8A2288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A106D-F463-4524-A68C-3AB80DA1E8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C50D4-C46F-4329-830D-40A8804AC46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CA5F2-BA7B-4412-9EF7-F9AEAAEFB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6B0D-373C-4314-9320-4470D8732E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D86F6-0A97-48A6-927F-51EC370E16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55804-CC6A-4EFE-9ABE-CB799094065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E2CFE-0862-4220-A2AD-F05C8A2785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BF93E-A598-4B1B-8FE2-DFAE77D83E3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54048-A3BE-4D63-823A-048A939AB5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C785F-74FD-433F-905E-F249E28889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109D4-3E29-4643-AC89-62321D14861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D812B-1D66-4A17-B02A-622B9773BB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6EE1E-FDA3-4ED1-A15B-841A6849859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CF981-3703-4C23-968B-065A7EC9B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B5BF-A828-41E5-AA21-D76095A83AC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9A79E-C874-4728-8FA3-A969E1CDAB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19CC-47FD-4F8C-8AF5-8DAAEF2F18E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62F7-4995-4E71-BFA3-E390079D32F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89C8-1B79-4D44-A50B-C0370A82DB0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3E4B-B32C-4A14-BB32-33EE77A0889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A0BE-4C8B-4DD4-9BCD-00320AD3095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B7EE-6081-4C0E-8511-83B347268C4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5003-21D1-4B3A-BFCB-4C1BAB60D8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8645-3A8A-46C5-ABD8-655A9FBDCF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E827-2DF0-4897-98B6-7B618D6FC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3FAD-0B5B-4FCC-B950-6BC627ACA59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D42B-C1CB-4D70-9BDE-BBB4B9974B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28B8-2450-4823-9C67-3F7D3321BD7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4618-166A-42B9-8319-FE769042EA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16D6A-E7C9-44C7-9974-85498F295D4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59C872-5191-4EE1-82FE-DE17EA07E7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453EB9-BA16-4202-962C-F8C79B9E59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3598E-D300-4609-9745-94541772C5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11AD1-FB1D-4444-8657-4D5958BB65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30BC73-21E4-440B-B1F9-BBF23C737A9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14ECB-D64D-4E86-89CB-2608E07B3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193D-C8E3-4065-BAC3-03C15237CE6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CD37D-F661-4576-918E-A2A1A4281F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A34743-1C63-4468-8731-BCFEE1AEBD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EF10B-59E6-464A-A7E6-FA8834165FB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DB65C-01F2-4860-961D-1E2723772EC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53AF51-826C-4000-BD42-25EA3F91954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A2791-97AB-42AE-998E-0B88CC4421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DC9CB-0164-4A92-9350-6E4B6DEC678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B5564-9F0B-48C4-9096-760C570F02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EEB1C-1412-4D49-87E0-1C912C49A30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707ED-C30B-4B3A-88C0-FDC41EC50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89CC-0057-4520-944E-EAA85478A32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348BD-4262-4C6E-9C5C-C2564A6853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6D40E-E52E-44DF-B580-80AE51EB839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9878B-D204-472F-BA36-64198036798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FC345-601A-4157-93A4-5E727016AA5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FD823-0F37-438B-B2E2-CF34EA0E5C6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2CDBD-75FF-44BD-BDFA-38B057716D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D9A02-245B-4993-A397-564C0C170DE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EAC9-ED7F-412B-836F-B700ABA70E1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F2F6-C2A8-43CF-A4F2-47807F51718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64E4-3233-4337-91B6-B11DEF04F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210000" y="9003960"/>
            <a:ext cx="5713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A640-F586-4861-AC4D-25F89D465EA8}" type="slidenum"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Num" idx="10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4FA9-1117-4943-99B9-A13A4C2A7E98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1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81F7-7BA5-49C8-8C0A-86E505087188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2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9B90-760D-4B29-8820-8B02CB5EF1AE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13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83D5-7176-4537-8F56-AC2E71E0B34B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4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3AF8-7BDA-4C86-B98A-6FB6D45C82A9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826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27280" indent="-571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171880" indent="-571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61612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61612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61612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210000" y="9080640"/>
            <a:ext cx="571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9FAF-923D-4DF3-906C-2EFAE8F0BEF5}" type="slidenum"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E27E-F242-4DD6-9CF3-1F5B27DBBB51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4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7F65-F04F-4C2E-ADA9-26015C0A36E9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Num" idx="5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64B0-E84B-4B74-8246-8F02E43AB64C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6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0B97-F758-4835-A977-88A58A6A960D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7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58B0-CCF5-4418-8E48-89962CCA3C2E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8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9E83-1B8A-4A69-A092-38825D38D757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Num" idx="9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93A0-2D08-4AC6-A2C4-D8119658E04B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Updates from Address Selection Design Tea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ony Hai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F1E1-CC60-4D3E-8294-C272A62CDB9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ddress Selection Design Tea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Who ?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Composed of 16 people, working for almost 2 years ! 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Chartered to work on RFC3484 policy table updating mechainsm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What have we done ?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Examined the problematic cases to see: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706760" indent="-54864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how dynamic the updating mechanism needs to be.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706760" indent="-54864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what kind of policy needs be distributed.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Examined the solution space including a policy merging algorithm.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7F8C-EE42-48BB-883D-B3CE2D3422E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fter IETF 77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worked intensively after IETF77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discuss the remaining issues and almost reach consensus within the D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kicked by BBF’s demands for a mechanism to update address selection polic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35480" indent="-525600">
              <a:lnSpc>
                <a:spcPct val="100000"/>
              </a:lnSpc>
              <a:spcBef>
                <a:spcPts val="2401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959"/>
                </a:solidFill>
                <a:latin typeface="Gill Sans"/>
              </a:rPr>
              <a:t>draft-troan-ipv6-multihome-without-ipv6-n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propose the next step forward, after the investigation and discuss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1544-F9D9-4FC9-A352-F55FEF4854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cent discussions/changes in</a:t>
            </a:r>
            <a:br>
              <a:rPr sz="4200"/>
            </a:br>
            <a:r>
              <a:rPr b="0" lang="en-US" sz="4200" spc="-1" strike="noStrike">
                <a:solidFill>
                  <a:srgbClr val="fff959"/>
                </a:solidFill>
                <a:latin typeface="Gill Sans"/>
              </a:rPr>
              <a:t>draft-ietf-6man-addr-select-considerations-0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Configuration frequency and timin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requent policy changes are due to routing changes or host mobility, where routing hints (ICMP errors) for address selection may hel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In a managed site, there is likely to be a managed policy, and DHCP availabl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The handling policy conflict is a host issue, how to deliver the policy is a network issu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We focus on the network issue, since the host issue is common with many other parameter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We should avoid delaying progression of a 3484 policy update method applicable to e.g. managed enterprise network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F667-C5B3-4597-854E-8A409A814B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posal from DT 1/3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. Policy Merg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y its nature, conflict always happens when you merge two set of policie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724400" indent="-5544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heuristic approach can merge policies. But, there is no distinct/established algorithm for it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, we propose not to standardize the merging process. (at least for now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724400" indent="-5544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issue should be up to an implementation or a user, just like DNS server selection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2155680" indent="-5544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The NIF metrics are used for choosing primary interface and can be used for policy set selection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724400" indent="-5544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candidate algorithm is explored in </a:t>
            </a:r>
            <a:r>
              <a:rPr b="0" lang="en-US" sz="2800" spc="-1" strike="noStrike">
                <a:solidFill>
                  <a:srgbClr val="fff959"/>
                </a:solidFill>
                <a:latin typeface="Gill Sans"/>
              </a:rPr>
              <a:t>draft-arifumi-6man-addr-select-confli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343080" y="8178840"/>
            <a:ext cx="1269720" cy="127008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439200" y="6788160"/>
            <a:ext cx="420840" cy="1339920"/>
          </a:xfrm>
          <a:prstGeom prst="line">
            <a:avLst/>
          </a:prstGeom>
          <a:ln w="63360">
            <a:solidFill>
              <a:srgbClr val="ffff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077840" y="7284600"/>
            <a:ext cx="222480" cy="830520"/>
          </a:xfrm>
          <a:prstGeom prst="line">
            <a:avLst/>
          </a:prstGeom>
          <a:ln w="63360">
            <a:solidFill>
              <a:srgbClr val="ffff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156960" y="6165720"/>
            <a:ext cx="103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olicy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6775200"/>
            <a:ext cx="103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olicy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3974-0353-4EAF-8D8E-7E79B58E90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posal 2/3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79840" indent="-56556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Re. What protocol carries the policy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RA is better to work with the routing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2" marL="1760040" indent="-56592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Easy to reflect routing status, easy to update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DHCP is better in management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2" marL="1760040" indent="-56592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it has a lot more space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2" marL="1760040" indent="-56592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host-specific policy enforcement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2" marL="1760040" indent="-56592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DHCP-relay function is useful in large-scale network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Don’t see any other good protocols if we will support general environments like enterprise, residential network, etc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So, we propose to go with DHCP, and if necessary RA and ICMP error based mechiansm supplementary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81DE-FE98-450E-8248-6388B554C3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posal 3/3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Re. RFC 3484 revision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13200" indent="-51984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It’s known to have several faults, and oviously needs update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13200" indent="-51984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DT improves the revision proposal: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617840" indent="-520200">
              <a:lnSpc>
                <a:spcPct val="100000"/>
              </a:lnSpc>
              <a:spcBef>
                <a:spcPts val="1888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959"/>
                </a:solidFill>
                <a:latin typeface="Gill Sans"/>
              </a:rPr>
              <a:t>draft-arifumi-6man-rfc3484-revise-03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617840" indent="-52020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6to4/teredo is de-prioritized than IPv4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617840" indent="-52020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protection from mis-use of deprecated addresses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617840" indent="-52020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TBD: NAT64 WKP should be included in the default policy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13200" indent="-51984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DT proposes these changes to the default rules should be made, along with policy distribution mechiansm.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FBC40-AB22-4786-A685-0ADBF8AFEE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In the e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ady for WG adoption 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6man should be the right place for RFC3484 revis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959"/>
                </a:solidFill>
                <a:latin typeface="Gill Sans"/>
              </a:rPr>
              <a:t>draft-arifumi-6man-rfc3484-revise-03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home for DHCP policy distribution mechanism should also be 6man, with some review from dhc and mif w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959"/>
                </a:solidFill>
                <a:latin typeface="Gill Sans"/>
              </a:rPr>
              <a:t>draft-fujisaki-dhc-addr-select-op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1546-68CC-4F97-A635-F62EC6508AF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