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6F50-327C-4748-9C97-D0F1AC217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1699-4A6F-4122-8517-5389739149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76B6-BEE7-4317-92DD-08AA17C739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48A3-DCE8-4B5A-989D-A4EFC7BA21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5A45-F7E1-4AFF-B48A-6B5B9EF9AD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22AA-1362-4713-8AA0-CE8BFC031D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3602-2378-4E55-ADA5-C0EAC48F9E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0F90-8D87-411D-A377-F903440FB0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ABF8-D149-435C-8533-F76584E5D1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3E07-12B0-4CD3-B76B-648AADA3D0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276A-5552-4CCB-9E37-012D658ABFB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50EEA-5962-45F8-8740-78F30DB40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600A-F5ED-4BC1-AB91-209C72CCC4E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1164E-D42B-4193-8D6A-B6D373C895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92FD6-96DF-4735-A336-5863E2A382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B32D1-3C88-44BC-877A-E74B7F5FDA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C02C6-5B4E-4322-8001-CFBB353E72D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74839-D4C5-444B-8848-57D0B1B269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E328E-DB26-4FFD-A5C8-B326C709D6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FA951-0EBB-469A-9A1C-50855C8C54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FF57B-49BD-4B4E-A426-D0A8B8F03DE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08E76-764B-4C53-9775-8A9112737C2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4FAA3-4D35-4491-B8A9-90E8163F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5E40-568B-4706-A20D-B0DD7A96AF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D26EE-33A3-4339-B5AD-81F9FC6790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28098-E9E9-4B17-B302-3E588A3136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41D46-EFAE-4F9C-BD25-6305DA0BB5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5F885-7901-4EF7-8DAE-E97773C5BA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E1F5F-87A0-40DF-9515-CD056E5448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B4152-42FF-46A2-8AB7-D26765C224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9AD6D-A8B1-47BE-917D-8106406F4B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78EB4-921A-442D-BBAF-0A7A437537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DBF52-8C5D-42FA-8753-11437739F4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E4608-D92C-4F04-95CD-C7F7625E4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6C9B-9EBC-4F67-948A-CE53F070D7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34DED-35B6-4C4D-A01F-90EC44B274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5F96D-8F35-47D3-9636-5251D54157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97583-7586-4E83-BE4F-941E37ACFF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B810-5C3F-467E-A93B-7D1F557753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3A5C-E312-4EA5-91C9-A5C84A7C7CE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6335-EFF8-4AC6-BD5C-10A28439B8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59FD-9131-428F-8FA0-320DAE997B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AC61-A8FD-4AFB-A2D6-37C4405852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ECAB-BA9C-40FB-9889-18367418EE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10E2-AF20-411C-91F9-4E3DCD4F2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A131-56C3-4F77-8A6F-DD0E3443CE4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2BEE-9468-46AC-A16C-EFA94515A4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0ECB-BD76-4D69-B91C-8387A3AD0D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FC89-372E-468E-859F-B93E811A90A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1B1C-CB56-4A28-80A6-64012C0DE85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8BB7-5644-4F66-BE1D-047218563C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5552E-E9AB-4EED-87E7-2CAA96BA33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8B06A-66FD-4729-A975-1D8817B5B9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0ADF1-1A7D-456E-9AAF-58C6DF2D47D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513A1-A1E2-4D1F-851E-783DEC2784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0127D-E35F-46AF-92CB-C90DC9D330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3DBA-A647-4CDA-B881-9CA86AC66A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31386-F391-44C1-A00A-321CA64D78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F5D7F-882E-4BD7-BDE5-8B1CAE105A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93266-8F58-4F65-BE90-58B4D31FA0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3F83F-4708-4713-8616-2DCFBFC041A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49534-644B-45B4-B839-363ECAD6FFF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04FF3-FCE6-44F6-9EC3-5A466DD8DE2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834F3-199A-4C7E-8823-F5E9300340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9F382-60AD-44B6-9C9E-01D95430F3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775C2-68C6-43D8-BA5E-F92AA1C2126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CC123-9E34-4540-986C-F441293F6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1C52-FC97-47EF-8733-422EEEEBA6E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44126-9DA3-4EBB-9365-D5935BAC47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4E6AA-BFCC-416B-896D-DB1F1AC22C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78686-E4C6-4059-A559-31F5488525D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925F4-156E-42B6-8E1F-9E52DBF7B4F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450C1-9D4E-4D48-A7B5-8FEFCDF41AD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01D3D-0519-4DF8-A316-BB277019330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0A986-5262-4919-999C-8B3F89CCA1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54014-2A68-4C0D-B6C9-989E123662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11E40-D302-4EA4-9693-3AD6BB174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15C7-4083-463B-B6C7-017152A60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1168-9E88-47CC-8AA6-613D34D6D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6FC6-13EC-454E-937A-D3F049754B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1D11-DEDF-4B7A-A749-30F2C915F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D95E-6C79-490D-AD9B-893CF2C9B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A8FD-9EBB-4781-ABC4-B9A0BE327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7D02-73FA-4817-A1BB-908AFC1E6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D9DA-C44A-409A-B623-BB4119BCA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3263-44B9-4126-B964-0D3E9F037A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362-79E3-4852-919F-92D354F606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7F7-BDF5-4518-BAA2-3F5B59591A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9DD-6A1C-4571-B8E4-9BEEA33405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46B-C1F8-4493-BD6F-FD6337F948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402-3636-4AE2-A5B2-667DA3B11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4487-2434-42B9-8D6D-EA2F653E30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C15-C572-4025-9C9B-8D5F9D6C2D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BAD-5313-4000-98AE-BB1B73EA81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67A-76AC-41B5-B4ED-3ECF8F3231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C43-794E-4428-A60C-7284ED52D3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86F-2CC8-4A68-B72B-93A94BCA51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12E-ABB1-4401-B3B9-093D10A6F1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E48-4B6E-4C4B-B990-3F98D62633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09B4-8A6D-4ECA-8ECB-EAAFDBCC62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18A9A-D68D-49F7-A73D-3E7A500195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A836-196D-424A-92B0-0462BDCE2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E86B-8180-4488-BBB1-A1485C0BD8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D100-708A-4AA3-A49C-4406AB124A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35DB-FA77-41FA-8607-DC7291815B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4E87F-8680-4A7E-8DD4-C3F6A2DB63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61D3B-B2AD-4649-86E5-A7868BDE2D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C1E8-569F-4DE8-9433-56217CC061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2FA0-7AA3-420D-8685-73C0136998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58C81-E71D-4F66-9490-68CF4D39FF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658E2-E4D5-47CB-A663-D894573B91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9DE1-14B4-4006-9EE6-C461719ABB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1699-F6A3-471C-877A-A3DE852DF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D7C4-073E-42FA-BDE9-4583559FA9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014D-B063-4F9C-A5FC-390F63F16B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C2CA-E80E-40F0-922A-2F7756A4AA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3C166-2E40-40F6-B4F1-ED7FDEF67E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3C0D-95E4-4004-B621-8354C10040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13FE-A544-44E8-B36E-4FBEE96DF1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7246-C4D4-43DB-BC2C-00F1A658D1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9A759-7530-4B5A-9FAE-F6A10A67B9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56869-81C0-40FE-A090-BF90B13C68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4DEE-EE19-479D-A8C3-6278A8ED87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9BDC-7553-4E31-9C68-53372F05C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3B22-80FE-48E5-85A6-C27A1276FB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3A83-AB6A-4239-AC70-646AE52ACB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C86E-2FEA-4F45-B47C-E6A6C0461E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F3F-5E0C-4B07-9556-60FF456930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10F-B334-49F0-82C9-FF75A2D95F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505F-F81E-485E-8955-85E31CA69B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C04C-B3A4-4199-A62B-9E55750311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EDA-517C-4BB1-8D25-9540E5DE56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F23F-F016-4029-AB1E-ACEA91EF03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5D0D-AEE2-418C-8F68-093BE36714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D204-8BD3-43ED-A9BF-C61489DBE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48B-6DAC-4F3E-9DEA-DF6C613A38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66B-7DD1-4D79-9377-53B251A426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1DD-48ED-43F5-9853-2FDBB3581E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539B-09B3-4398-9110-B45D436524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CAD41-0C1E-4790-8201-019EA061C3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15607-DE29-4CD8-BC8B-AAB4476EA2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601EA-4B87-469A-8CED-1E8F714472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FDD03-4484-4B4B-BB77-DE074989AA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4D9E8-0A45-43C1-9CE5-DF274B3972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50CB2-C9B4-4D57-870E-CBD4E836BA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70FBC-C6F2-4485-ADB8-FEAF6DCEF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7945-21D2-42A9-96BA-6C4A0325BB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5E2E6-3418-4DB5-ADF2-B714C7B3E1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9464A-9395-4C16-B676-BDA3131228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75812-64C7-488D-8214-288CD97E9A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901D8-FE56-4AED-86C8-1D620EA0C9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A9E42-F55F-4508-904B-497E6DD0D2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0CFC1-1530-42B1-BF74-8380DA4EEC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D70CA-3114-45E2-BD09-E95A8CA185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30AC1-FA79-4AA0-8F18-AF1F989D30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EB407-8B0C-4093-8FF6-D3FD85404E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E9D7E-EC3C-41CC-9CBB-DC8E2DF3E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3682-89BA-44DA-B9CB-1A3426B51E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6F258-B770-4D59-ADC8-99195811CD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C82F5-436D-4C1F-99C0-35E9BA8692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3D8E7-4A39-479C-A0C6-D2968D4A0C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86925-D108-4874-978A-6047930CF3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5000" y="5965200"/>
            <a:ext cx="1197612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79693-DD5F-4487-9092-79748D67F6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48904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500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5965200"/>
            <a:ext cx="58442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8AC23-1E4E-472F-8D7C-7710F4AD98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428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593200" y="248904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50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428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593200" y="5965200"/>
            <a:ext cx="385596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5893E-3854-4342-9050-BE667FE0F5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D469-9C54-4600-A3C0-2E729816E3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8E45-BF96-416B-8169-90C05D2CB7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5454-2C2B-464B-9D60-20BBA59D5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10000" y="9003960"/>
            <a:ext cx="571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47F-EB38-42FE-AC16-AF9BF7F3DDFD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D75-3073-459E-B334-E2EAF44AC1D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19C4-506B-4AED-80DE-2609163439C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FF0C-9E10-4F71-A90A-581A2CFA779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4A2-1203-4B3D-9D3C-228819E3088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AAC4-D64D-4DCD-A06F-B677C02456D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26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27280" indent="-571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71880" indent="-571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6161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210000" y="9080640"/>
            <a:ext cx="571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1FAB-7334-4A66-989F-CF11E41E01DB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48E4-AB21-4E67-A2E3-1A8BF813295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F7B-BB66-4F63-847F-3D329728A10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0D8B-7299-4381-9AEB-3A16BBE74AC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8CE-2A43-46ED-A6E6-83E5DEC67D0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B98-0562-42DD-84E7-D13ACE87414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652-718F-4D71-B338-8F2AEE38A4D5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5B8F-4AF9-412E-B2CD-70DD6F16ECF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pdates from 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ony Hai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827C-3F87-47CE-B6EE-89837FED1D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dress Selection Design Tea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o ?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Composed of 16 people, working for almost 2 years ! 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Chartered to work on RFC3484 policy table updating mechainsm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at have we done ?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Examined the problematic cases to see: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how dynamic the updating mechanism needs to be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what kind of policy needs be distributed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Examined the solution space including a policy merging algorithm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9B55-B396-4FFB-AA74-3EE040DF01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fter IETF 77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worked intensively after IETF7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discuss the remaining issues and almost reach consensus within the D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cked by BBF’s demands for a mechanism to update address selection polic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35480" indent="-52560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troan-ipv6-multihome-without-ipv6-n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propose the next step forward, after the investigation and discus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AAB0-63C3-4449-927D-B304956B89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ent discussions/changes in</a:t>
            </a:r>
            <a:br>
              <a:rPr sz="4200"/>
            </a:b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ietf-6man-addr-select-considerations-0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onfiguration frequency and timi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requent policy changes are due to routing changes or host mobility, where routing hints (ICMP errors) for address selection may hel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In a managed site, there is likely to be a managed policy, and DHCP avail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e handling policy conflict is a host issue, how to deliver the policy is a network issu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e focus on the network issue, since the host issue is common with many other parameter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e should avoid delaying progression of a 3484 policy update method applicable to e.g. managed enterprise network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559-8A28-4BBF-AFB7-B0C2F23730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from DT 1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. Policy Merg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y its nature, conflict always happens when you merge two set of polici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heuristic approach can merge policies. But, there is no distinct/established algorithm for it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, we propose not to standardize the merging process. (at least for now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issue should be up to an implementation or a user, just like DNS server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215568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The NIF metrics are used for choosing primary interface and can be used for policy set sele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andidate algorithm is explored in </a:t>
            </a:r>
            <a:r>
              <a:rPr b="0" lang="en-US" sz="2800" spc="-1" strike="noStrike">
                <a:solidFill>
                  <a:srgbClr val="fff959"/>
                </a:solidFill>
                <a:latin typeface="Gill Sans"/>
              </a:rPr>
              <a:t>draft-arifumi-6man-addr-select-confli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343080" y="8178840"/>
            <a:ext cx="1269720" cy="1270080"/>
          </a:xfrm>
          <a:prstGeom prst="rect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439200" y="6788160"/>
            <a:ext cx="420840" cy="133992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077840" y="7284600"/>
            <a:ext cx="222480" cy="830520"/>
          </a:xfrm>
          <a:prstGeom prst="line">
            <a:avLst/>
          </a:prstGeom>
          <a:ln w="63360">
            <a:solidFill>
              <a:srgbClr val="ffff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616572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6775200"/>
            <a:ext cx="103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B609-9803-4652-90DE-24C7502B35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2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Re. What protocol carries the policy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RA is better to work with the routing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Easy to reflect routing status, easy to update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HCP is better in management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it has a lot more space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host-specific policy enforcement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2" marL="1760040" indent="-56592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HCP-relay function is useful in large-scale network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lvl="1" marL="131976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Don’t see any other good protocols if we will support general environments like enterprise, residential network, etc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</a:rPr>
              <a:t>So, we propose to go with DHCP, and if necessary RA and ICMP error based mechiansm supplementary.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BB11-CD46-4C38-B4F3-4873398369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sal 3/3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Re. RFC 3484 revision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It’s known to have several faults, and oviously needs update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DT improves the revision proposal: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6to4/teredo is de-prioritized than IPv4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protection from mis-use of deprecated addresses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2" marL="1617840" indent="-52020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TBD: NAT64 WKP should be included in the default policy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1213200" indent="-519840">
              <a:lnSpc>
                <a:spcPct val="100000"/>
              </a:lnSpc>
              <a:spcBef>
                <a:spcPts val="1888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DT proposes these changes to the default rules should be made, along with policy distribution mechiansm.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7911-8C35-44E4-966C-E1A91AFDFE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 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2489040"/>
            <a:ext cx="119761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ady for WG adoption 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6man should be the right place for RFC3484 revi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arifumi-6man-rfc3484-revise-0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home for DHCP policy distribution mechanism should also be 6man, with some review from dhc and mif w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959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959"/>
                </a:solidFill>
                <a:latin typeface="Gill Sans"/>
              </a:rPr>
              <a:t>draft-fujisaki-dhc-addr-select-op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B62E-2172-4E5C-BA8C-CCB08F601C2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