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Updates from Address Selection Design Tea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rifumi Matsumoto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TT PF Labs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ddress Selection Design Tea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o 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hartered to work on RFC3484 policy table updating mechain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osed of XX people, working for 2 years !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have we done 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ined the problematic cases to se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724400" indent="-5544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 dynamic the updating mechanism needs to be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724400" indent="-5544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kind of policy needs be distributed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ined the solution space including a policy merging algorithm. </a:t>
            </a:r>
            <a:r>
              <a:rPr b="0" lang="en-US" sz="2800" spc="-1" strike="noStrike">
                <a:solidFill>
                  <a:srgbClr val="fff959"/>
                </a:solidFill>
                <a:latin typeface="Gill Sans"/>
              </a:rPr>
              <a:t>draft-arifumi-6man-addr-select-confli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fter IETF 77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e worked intensively after IETF77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o discuss the remaining issues and reach consensus within the DT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kicked by BBF’s demands for a mechanism to update address selection policy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635480" indent="-525600">
              <a:lnSpc>
                <a:spcPct val="100000"/>
              </a:lnSpc>
              <a:spcBef>
                <a:spcPts val="2100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959"/>
                </a:solidFill>
                <a:latin typeface="Gill Sans"/>
              </a:rPr>
              <a:t>draft-troan-ipv6-multihome-without-ipv6-n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o propose the next step forward, after the investigation and discussio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posal 1/3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. Policy Merg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y its nature, conflict always happens when you merge two set of policie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742400" indent="-56016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heuristic approach can merge policies. But, there is no distinct/established algorithm for it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, we propose not to standardize the merging process. (at least for now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742400" indent="-56016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issue should be up to an implementation or a user, just like DNS server selection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742400" indent="-56016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The NIF metrics are used for choosing primary interface and can be used for policy set selection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812880" y="8178840"/>
            <a:ext cx="1270080" cy="127008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813960" y="7170840"/>
            <a:ext cx="515880" cy="955440"/>
          </a:xfrm>
          <a:prstGeom prst="line">
            <a:avLst/>
          </a:prstGeom>
          <a:ln w="63360">
            <a:solidFill>
              <a:srgbClr val="ffff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547640" y="7176600"/>
            <a:ext cx="516240" cy="938520"/>
          </a:xfrm>
          <a:prstGeom prst="line">
            <a:avLst/>
          </a:prstGeom>
          <a:ln w="63360">
            <a:solidFill>
              <a:srgbClr val="ffff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258480" y="6750000"/>
            <a:ext cx="103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olicy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1460160" y="6750000"/>
            <a:ext cx="103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olicy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posal 2/3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Re. What protocol carries the policy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RA is better to work with the routing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2" marL="1653480" indent="-5313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Easy to reflect routing status, easy to update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DHCP is better in management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2" marL="1653480" indent="-5313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it has a lot more space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2" marL="1653480" indent="-5313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host-specific policy enforcement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2" marL="1653480" indent="-5313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DHCP-relay function is useful in large-scale network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Don’t see any other good protocols if we will support general environments like enterprise, residential network, etc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So, we propose to go with DHCP, and if necessary RA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posal 3/3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. RFC 3484 revis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t’s known to have several faults, and oviously needs upda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T improves the revision proposal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635480" indent="-525600">
              <a:lnSpc>
                <a:spcPct val="100000"/>
              </a:lnSpc>
              <a:spcBef>
                <a:spcPts val="1599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59"/>
                </a:solidFill>
                <a:latin typeface="Gill Sans"/>
              </a:rPr>
              <a:t>draft-arifumi-6man-rfc3484-revise-03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635480" indent="-5256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6to4/teredo is de-prioritized than IPv4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635480" indent="-5256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tection from mis-use of deprecated addres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universal problems can/should be solved by revising RFC 3484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T proposes these changes should be made, along with policy distribution mechiansm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In the e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Ready for WG adoption ?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6man should be the right place for RFC3484 revision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2200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959"/>
                </a:solidFill>
                <a:latin typeface="Gill Sans"/>
              </a:rPr>
              <a:t>draft-arifumi-6man-rfc3484-revise-0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The home for DHCP policy distribution mechanism should also be 6man, with some review from dhc wg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2200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959"/>
                </a:solidFill>
                <a:latin typeface="Gill Sans"/>
              </a:rPr>
              <a:t>draft-fujisaki-dhc-addr-select-op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