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矩形 6"/>
          <p:cNvSpPr/>
          <p:nvPr/>
        </p:nvSpPr>
        <p:spPr>
          <a:xfrm>
            <a:off x="8423640" y="6553080"/>
            <a:ext cx="94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1197A-F815-46B5-BD78-B3E36D2AF665}" type="slidenum">
              <a:rPr b="1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e Cases Li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"/>
          <p:cNvSpPr txBox="1"/>
          <p:nvPr/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 pools configuration on BNGs / IPv6 transition devi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HCP server p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ic address configu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/DHCP v6 deleg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 configuration API of IP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T &amp; CG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 IP address p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DN controll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Interfaces to the RPK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Resource</a:t>
            </a:r>
            <a:r>
              <a:rPr b="0" lang="zh-CN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Certificates</a:t>
            </a:r>
            <a:r>
              <a:rPr b="0" lang="zh-CN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and</a:t>
            </a:r>
            <a:r>
              <a:rPr b="0" lang="zh-CN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Signed</a:t>
            </a:r>
            <a:r>
              <a:rPr b="0" lang="zh-CN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Local</a:t>
            </a:r>
            <a:r>
              <a:rPr b="0" lang="zh-CN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Trust</a:t>
            </a:r>
            <a:r>
              <a:rPr b="0" lang="zh-CN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Anchor</a:t>
            </a:r>
            <a:r>
              <a:rPr b="0" lang="zh-CN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and</a:t>
            </a:r>
            <a:r>
              <a:rPr b="0" lang="zh-CN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RPKI</a:t>
            </a:r>
            <a:r>
              <a:rPr b="0" lang="zh-CN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RPs</a:t>
            </a:r>
            <a:r>
              <a:rPr b="0" lang="zh-CN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in</a:t>
            </a:r>
            <a:r>
              <a:rPr b="0" lang="zh-CN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IS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e case 7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PK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矩形: 圆角 4"/>
          <p:cNvSpPr/>
          <p:nvPr/>
        </p:nvSpPr>
        <p:spPr>
          <a:xfrm>
            <a:off x="262080" y="1380960"/>
            <a:ext cx="2709720" cy="21607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等线"/>
                <a:ea typeface="等线"/>
              </a:rPr>
              <a:t>IP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: 圆角 7"/>
          <p:cNvSpPr/>
          <p:nvPr/>
        </p:nvSpPr>
        <p:spPr>
          <a:xfrm>
            <a:off x="5489640" y="1380960"/>
            <a:ext cx="3166920" cy="21607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: 圆角 8"/>
          <p:cNvSpPr/>
          <p:nvPr/>
        </p:nvSpPr>
        <p:spPr>
          <a:xfrm>
            <a:off x="228600" y="4316400"/>
            <a:ext cx="2743200" cy="21607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: 圆角 9"/>
          <p:cNvSpPr/>
          <p:nvPr/>
        </p:nvSpPr>
        <p:spPr>
          <a:xfrm>
            <a:off x="5489640" y="4316400"/>
            <a:ext cx="3166920" cy="21607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: 圆角 14"/>
          <p:cNvSpPr/>
          <p:nvPr/>
        </p:nvSpPr>
        <p:spPr>
          <a:xfrm>
            <a:off x="6303960" y="1979640"/>
            <a:ext cx="1576440" cy="5698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等线"/>
                <a:ea typeface="等线"/>
              </a:rPr>
              <a:t>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: 圆角 15"/>
          <p:cNvSpPr/>
          <p:nvPr/>
        </p:nvSpPr>
        <p:spPr>
          <a:xfrm>
            <a:off x="6300720" y="2811600"/>
            <a:ext cx="1576440" cy="5680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等线"/>
                <a:ea typeface="等线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: 圆角 16"/>
          <p:cNvSpPr/>
          <p:nvPr/>
        </p:nvSpPr>
        <p:spPr>
          <a:xfrm>
            <a:off x="817560" y="4599000"/>
            <a:ext cx="1620720" cy="719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等线"/>
                <a:ea typeface="等线"/>
              </a:rPr>
              <a:t>Local Trust Anch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: 圆角 17"/>
          <p:cNvSpPr/>
          <p:nvPr/>
        </p:nvSpPr>
        <p:spPr>
          <a:xfrm>
            <a:off x="817560" y="5537160"/>
            <a:ext cx="1620720" cy="720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等线"/>
                <a:ea typeface="等线"/>
              </a:rPr>
              <a:t>RPKI</a:t>
            </a:r>
            <a:r>
              <a:rPr b="1" lang="zh-CN" sz="1800" spc="-1" strike="noStrike">
                <a:solidFill>
                  <a:srgbClr val="000000"/>
                </a:solidFill>
                <a:latin typeface="等线"/>
                <a:ea typeface="等线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等线"/>
                <a:ea typeface="等线"/>
              </a:rPr>
              <a:t>Relying</a:t>
            </a:r>
            <a:r>
              <a:rPr b="1" lang="zh-CN" sz="1600" spc="-1" strike="noStrike">
                <a:solidFill>
                  <a:srgbClr val="000000"/>
                </a:solidFill>
                <a:latin typeface="等线"/>
                <a:ea typeface="等线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等线"/>
                <a:ea typeface="等线"/>
              </a:rPr>
              <a:t>Par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文本框 18"/>
          <p:cNvSpPr/>
          <p:nvPr/>
        </p:nvSpPr>
        <p:spPr>
          <a:xfrm>
            <a:off x="5689440" y="1519200"/>
            <a:ext cx="279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等线"/>
                <a:ea typeface="等线"/>
              </a:rPr>
              <a:t>ISP’s RPKI</a:t>
            </a:r>
            <a:r>
              <a:rPr b="1" lang="zh-CN" sz="1800" spc="-1" strike="noStrike">
                <a:solidFill>
                  <a:srgbClr val="000000"/>
                </a:solidFill>
                <a:latin typeface="等线"/>
                <a:ea typeface="等线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等线"/>
                <a:ea typeface="等线"/>
              </a:rPr>
              <a:t>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" name="直接箭头连接符 20"/>
          <p:cNvCxnSpPr>
            <a:endCxn id="46" idx="1"/>
          </p:cNvCxnSpPr>
          <p:nvPr/>
        </p:nvCxnSpPr>
        <p:spPr>
          <a:xfrm flipV="1">
            <a:off x="2971800" y="2265120"/>
            <a:ext cx="3332880" cy="208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" name="直接箭头连接符 25"/>
          <p:cNvCxnSpPr/>
          <p:nvPr/>
        </p:nvCxnSpPr>
        <p:spPr>
          <a:xfrm>
            <a:off x="2971440" y="3047760"/>
            <a:ext cx="332964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直接箭头连接符 26"/>
          <p:cNvCxnSpPr>
            <a:stCxn id="42" idx="2"/>
            <a:endCxn id="48" idx="0"/>
          </p:cNvCxnSpPr>
          <p:nvPr/>
        </p:nvCxnSpPr>
        <p:spPr>
          <a:xfrm>
            <a:off x="1617840" y="3541320"/>
            <a:ext cx="10080" cy="10580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直接箭头连接符 31"/>
          <p:cNvCxnSpPr>
            <a:stCxn id="48" idx="2"/>
            <a:endCxn id="49" idx="0"/>
          </p:cNvCxnSpPr>
          <p:nvPr/>
        </p:nvCxnSpPr>
        <p:spPr>
          <a:xfrm>
            <a:off x="1628280" y="5318280"/>
            <a:ext cx="1080" cy="219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5" name="文本框 34"/>
          <p:cNvSpPr/>
          <p:nvPr/>
        </p:nvSpPr>
        <p:spPr>
          <a:xfrm>
            <a:off x="5943600" y="4495680"/>
            <a:ext cx="2147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等线"/>
                <a:ea typeface="等线"/>
              </a:rPr>
              <a:t>Inter-Dom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等线"/>
                <a:ea typeface="等线"/>
              </a:rPr>
              <a:t>Rou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: 圆角 35"/>
          <p:cNvSpPr/>
          <p:nvPr/>
        </p:nvSpPr>
        <p:spPr>
          <a:xfrm>
            <a:off x="6300720" y="5519880"/>
            <a:ext cx="1576440" cy="7887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等线"/>
                <a:ea typeface="等线"/>
              </a:rPr>
              <a:t>BGP Speak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" name="直接箭头连接符 38"/>
          <p:cNvCxnSpPr>
            <a:stCxn id="49" idx="3"/>
            <a:endCxn id="56" idx="1"/>
          </p:cNvCxnSpPr>
          <p:nvPr/>
        </p:nvCxnSpPr>
        <p:spPr>
          <a:xfrm>
            <a:off x="2437920" y="5897160"/>
            <a:ext cx="3863160" cy="183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直接箭头连接符 42"/>
          <p:cNvCxnSpPr>
            <a:stCxn id="46" idx="2"/>
            <a:endCxn id="47" idx="0"/>
          </p:cNvCxnSpPr>
          <p:nvPr/>
        </p:nvCxnSpPr>
        <p:spPr>
          <a:xfrm flipH="1">
            <a:off x="7089480" y="2549520"/>
            <a:ext cx="2160" cy="2628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9" name="文本框 26"/>
          <p:cNvSpPr/>
          <p:nvPr/>
        </p:nvSpPr>
        <p:spPr>
          <a:xfrm>
            <a:off x="1676520" y="3657600"/>
            <a:ext cx="3047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vate/Protected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resses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cation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cal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ing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igin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r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文本框 28"/>
          <p:cNvSpPr/>
          <p:nvPr/>
        </p:nvSpPr>
        <p:spPr>
          <a:xfrm>
            <a:off x="3048120" y="1752480"/>
            <a:ext cx="3047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ress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ck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cation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ources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rtificat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suanc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文本框 34"/>
          <p:cNvSpPr/>
          <p:nvPr/>
        </p:nvSpPr>
        <p:spPr>
          <a:xfrm>
            <a:off x="3352680" y="5334120"/>
            <a:ext cx="2133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lidated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che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G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文本框 35"/>
          <p:cNvSpPr/>
          <p:nvPr/>
        </p:nvSpPr>
        <p:spPr>
          <a:xfrm>
            <a:off x="3124080" y="2585880"/>
            <a:ext cx="3048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ress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ck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ignment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gned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椭圆 12290"/>
          <p:cNvSpPr/>
          <p:nvPr/>
        </p:nvSpPr>
        <p:spPr>
          <a:xfrm>
            <a:off x="1447920" y="3429000"/>
            <a:ext cx="304560" cy="304920"/>
          </a:xfrm>
          <a:prstGeom prst="ellipse">
            <a:avLst/>
          </a:prstGeom>
          <a:gradFill rotWithShape="0">
            <a:gsLst>
              <a:gs pos="0">
                <a:srgbClr val="afe0e4"/>
              </a:gs>
              <a:gs pos="100000">
                <a:srgbClr val="85aaad"/>
              </a:gs>
            </a:gsLst>
            <a:lin ang="5400000"/>
          </a:gra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椭圆 37"/>
          <p:cNvSpPr/>
          <p:nvPr/>
        </p:nvSpPr>
        <p:spPr>
          <a:xfrm>
            <a:off x="2819520" y="2133720"/>
            <a:ext cx="304560" cy="304560"/>
          </a:xfrm>
          <a:prstGeom prst="ellipse">
            <a:avLst/>
          </a:prstGeom>
          <a:gradFill rotWithShape="0">
            <a:gsLst>
              <a:gs pos="0">
                <a:srgbClr val="afe0e4"/>
              </a:gs>
              <a:gs pos="100000">
                <a:srgbClr val="85aaad"/>
              </a:gs>
            </a:gsLst>
            <a:lin ang="5400000"/>
          </a:gra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椭圆 38"/>
          <p:cNvSpPr/>
          <p:nvPr/>
        </p:nvSpPr>
        <p:spPr>
          <a:xfrm>
            <a:off x="2819520" y="2895480"/>
            <a:ext cx="304560" cy="304920"/>
          </a:xfrm>
          <a:prstGeom prst="ellipse">
            <a:avLst/>
          </a:prstGeom>
          <a:gradFill rotWithShape="0">
            <a:gsLst>
              <a:gs pos="0">
                <a:srgbClr val="afe0e4"/>
              </a:gs>
              <a:gs pos="100000">
                <a:srgbClr val="85aaad"/>
              </a:gs>
            </a:gsLst>
            <a:lin ang="5400000"/>
          </a:gra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unqiong</dc:creator>
  <dc:description/>
  <dc:language>en-US</dc:language>
  <cp:lastModifiedBy>me662 123</cp:lastModifiedBy>
  <dcterms:modified xsi:type="dcterms:W3CDTF">2017-03-26T21:27:38Z</dcterms:modified>
  <cp:revision>22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  <property fmtid="{D5CDD505-2E9C-101B-9397-08002B2CF9AE}" pid="3" name="_2015_ms_pID_725343">
    <vt:lpwstr>(2)BCpyMVAFezqNIOP2nGQbzlOZCki4QNevGPzVC9yqT8oXdNEF3xGc1TBe2nO9GueUOFlvTiSY
kLR1Q3s1MceiWKR0tHKwoocsbTCQdT5eqNyXzUHCnFEt4V4BgqU2olInKJVcYGzal9McmCZU
H9eXZog+6YlMq22VB/VK5dD2OijP6joc39zpFc/pCM0Uzhch6LW4Ss5h0Y57Lj2PRZzTt4mZ
dcDqVbFwytSIWJsRGH</vt:lpwstr>
  </property>
  <property fmtid="{D5CDD505-2E9C-101B-9397-08002B2CF9AE}" pid="4" name="_2015_ms_pID_7253431">
    <vt:lpwstr>lfer1zOg+y0zd3f8Zjf1VT8PhQLCKU4feLuyC9n0mTJ8t/Vx1vS5+G
T5eowsr1rQ+SOsa8CcAeGoJkNJ+mPtSe/C7lI2bFK4J1SjFKat+lwz+jiEhtxOHnyOfQ79hY
3YVYILjJ3FMnnL8Tqv3tEPsmpYJJcB8aaF3Ce5L+MI/M/E9YGd83BOKWIXK6ztJabPpv9f6a
KZxZEHidLr6lF5lx</vt:lpwstr>
  </property>
  <property fmtid="{D5CDD505-2E9C-101B-9397-08002B2CF9AE}" pid="5" name="_2015_ms_pID_7253431_00">
    <vt:lpwstr>_2015_ms_pID_7253431</vt:lpwstr>
  </property>
  <property fmtid="{D5CDD505-2E9C-101B-9397-08002B2CF9AE}" pid="6" name="_2015_ms_pID_725343_00">
    <vt:lpwstr>_2015_ms_pID_725343</vt:lpwstr>
  </property>
  <property fmtid="{D5CDD505-2E9C-101B-9397-08002B2CF9AE}" pid="7" name="_change">
    <vt:lpwstr/>
  </property>
  <property fmtid="{D5CDD505-2E9C-101B-9397-08002B2CF9AE}" pid="8" name="_full-control">
    <vt:lpwstr/>
  </property>
  <property fmtid="{D5CDD505-2E9C-101B-9397-08002B2CF9AE}" pid="9" name="_readonly">
    <vt:lpwstr/>
  </property>
  <property fmtid="{D5CDD505-2E9C-101B-9397-08002B2CF9AE}" pid="10" name="sflag">
    <vt:lpwstr>1468931495</vt:lpwstr>
  </property>
</Properties>
</file>