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6"/>
          <p:cNvSpPr/>
          <p:nvPr/>
        </p:nvSpPr>
        <p:spPr>
          <a:xfrm>
            <a:off x="8423640" y="655308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DA3C-DC1C-4F04-A7F7-75E91CF1EBAA}" type="slidenum"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Cases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pools configuration on BNGs / IPv6 transition de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HCP server 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address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DHCP v6 del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configuration API of IP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 &amp; C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IP address 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N control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nterfaces to the RP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source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ertificates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nd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igned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ocal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rust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nchor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nd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PKI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Ps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case 7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P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: 圆角 4"/>
          <p:cNvSpPr/>
          <p:nvPr/>
        </p:nvSpPr>
        <p:spPr>
          <a:xfrm>
            <a:off x="262080" y="1380960"/>
            <a:ext cx="2709720" cy="2160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等线"/>
                <a:ea typeface="等线"/>
              </a:rPr>
              <a:t>IP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: 圆角 7"/>
          <p:cNvSpPr/>
          <p:nvPr/>
        </p:nvSpPr>
        <p:spPr>
          <a:xfrm>
            <a:off x="5489640" y="1380960"/>
            <a:ext cx="3166920" cy="2160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: 圆角 8"/>
          <p:cNvSpPr/>
          <p:nvPr/>
        </p:nvSpPr>
        <p:spPr>
          <a:xfrm>
            <a:off x="228600" y="4316400"/>
            <a:ext cx="2743200" cy="2160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: 圆角 9"/>
          <p:cNvSpPr/>
          <p:nvPr/>
        </p:nvSpPr>
        <p:spPr>
          <a:xfrm>
            <a:off x="5489640" y="4316400"/>
            <a:ext cx="3166920" cy="2160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: 圆角 14"/>
          <p:cNvSpPr/>
          <p:nvPr/>
        </p:nvSpPr>
        <p:spPr>
          <a:xfrm>
            <a:off x="6303960" y="1979640"/>
            <a:ext cx="1576440" cy="569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等线"/>
                <a:ea typeface="等线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: 圆角 15"/>
          <p:cNvSpPr/>
          <p:nvPr/>
        </p:nvSpPr>
        <p:spPr>
          <a:xfrm>
            <a:off x="6300720" y="2811600"/>
            <a:ext cx="1576440" cy="568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等线"/>
                <a:ea typeface="等线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: 圆角 16"/>
          <p:cNvSpPr/>
          <p:nvPr/>
        </p:nvSpPr>
        <p:spPr>
          <a:xfrm>
            <a:off x="817560" y="4599000"/>
            <a:ext cx="1620720" cy="719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等线"/>
                <a:ea typeface="等线"/>
              </a:rPr>
              <a:t>Local Trust Anc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: 圆角 17"/>
          <p:cNvSpPr/>
          <p:nvPr/>
        </p:nvSpPr>
        <p:spPr>
          <a:xfrm>
            <a:off x="817560" y="5537160"/>
            <a:ext cx="1620720" cy="72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等线"/>
                <a:ea typeface="等线"/>
              </a:rPr>
              <a:t>RPKI</a:t>
            </a:r>
            <a:r>
              <a:rPr b="1" lang="zh-CN" sz="1800" spc="-1" strike="noStrike">
                <a:solidFill>
                  <a:srgbClr val="000000"/>
                </a:solidFill>
                <a:latin typeface="等线"/>
                <a:ea typeface="等线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等线"/>
                <a:ea typeface="等线"/>
              </a:rPr>
              <a:t>Relying</a:t>
            </a:r>
            <a:r>
              <a:rPr b="1" lang="zh-CN" sz="1600" spc="-1" strike="noStrike">
                <a:solidFill>
                  <a:srgbClr val="000000"/>
                </a:solidFill>
                <a:latin typeface="等线"/>
                <a:ea typeface="等线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等线"/>
                <a:ea typeface="等线"/>
              </a:rPr>
              <a:t>Par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18"/>
          <p:cNvSpPr/>
          <p:nvPr/>
        </p:nvSpPr>
        <p:spPr>
          <a:xfrm>
            <a:off x="5689440" y="1519200"/>
            <a:ext cx="27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等线"/>
                <a:ea typeface="等线"/>
              </a:rPr>
              <a:t>ISP’s RPKI</a:t>
            </a:r>
            <a:r>
              <a:rPr b="1" lang="zh-CN" sz="1800" spc="-1" strike="noStrike">
                <a:solidFill>
                  <a:srgbClr val="000000"/>
                </a:solidFill>
                <a:latin typeface="等线"/>
                <a:ea typeface="等线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等线"/>
                <a:ea typeface="等线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直接箭头连接符 20"/>
          <p:cNvCxnSpPr>
            <a:endCxn id="46" idx="1"/>
          </p:cNvCxnSpPr>
          <p:nvPr/>
        </p:nvCxnSpPr>
        <p:spPr>
          <a:xfrm flipV="1">
            <a:off x="2971800" y="2265120"/>
            <a:ext cx="3332880" cy="20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直接箭头连接符 25"/>
          <p:cNvCxnSpPr/>
          <p:nvPr/>
        </p:nvCxnSpPr>
        <p:spPr>
          <a:xfrm>
            <a:off x="2971440" y="3047760"/>
            <a:ext cx="33296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直接箭头连接符 26"/>
          <p:cNvCxnSpPr>
            <a:stCxn id="42" idx="2"/>
            <a:endCxn id="48" idx="0"/>
          </p:cNvCxnSpPr>
          <p:nvPr/>
        </p:nvCxnSpPr>
        <p:spPr>
          <a:xfrm>
            <a:off x="1617840" y="3541320"/>
            <a:ext cx="10080" cy="1058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直接箭头连接符 31"/>
          <p:cNvCxnSpPr>
            <a:stCxn id="48" idx="2"/>
            <a:endCxn id="49" idx="0"/>
          </p:cNvCxnSpPr>
          <p:nvPr/>
        </p:nvCxnSpPr>
        <p:spPr>
          <a:xfrm>
            <a:off x="1628280" y="5318280"/>
            <a:ext cx="1080" cy="219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文本框 34"/>
          <p:cNvSpPr/>
          <p:nvPr/>
        </p:nvSpPr>
        <p:spPr>
          <a:xfrm>
            <a:off x="5943600" y="4495680"/>
            <a:ext cx="2147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等线"/>
                <a:ea typeface="等线"/>
              </a:rPr>
              <a:t>Inter-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等线"/>
                <a:ea typeface="等线"/>
              </a:rPr>
              <a:t>Rou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: 圆角 35"/>
          <p:cNvSpPr/>
          <p:nvPr/>
        </p:nvSpPr>
        <p:spPr>
          <a:xfrm>
            <a:off x="6300720" y="5519880"/>
            <a:ext cx="1576440" cy="788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等线"/>
                <a:ea typeface="等线"/>
              </a:rPr>
              <a:t>BGP Spea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直接箭头连接符 38"/>
          <p:cNvCxnSpPr>
            <a:stCxn id="49" idx="3"/>
            <a:endCxn id="56" idx="1"/>
          </p:cNvCxnSpPr>
          <p:nvPr/>
        </p:nvCxnSpPr>
        <p:spPr>
          <a:xfrm>
            <a:off x="2437920" y="5897160"/>
            <a:ext cx="3863160" cy="1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直接箭头连接符 42"/>
          <p:cNvCxnSpPr>
            <a:stCxn id="46" idx="2"/>
            <a:endCxn id="47" idx="0"/>
          </p:cNvCxnSpPr>
          <p:nvPr/>
        </p:nvCxnSpPr>
        <p:spPr>
          <a:xfrm flipH="1">
            <a:off x="7089480" y="2549520"/>
            <a:ext cx="2160" cy="262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文本框 26"/>
          <p:cNvSpPr/>
          <p:nvPr/>
        </p:nvSpPr>
        <p:spPr>
          <a:xfrm>
            <a:off x="1676520" y="3657600"/>
            <a:ext cx="304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vate/Protecte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esse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cation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ing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r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28"/>
          <p:cNvSpPr/>
          <p:nvPr/>
        </p:nvSpPr>
        <p:spPr>
          <a:xfrm>
            <a:off x="3048120" y="1752480"/>
            <a:ext cx="304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cation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ificat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uanc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4"/>
          <p:cNvSpPr/>
          <p:nvPr/>
        </p:nvSpPr>
        <p:spPr>
          <a:xfrm>
            <a:off x="3352680" y="5334120"/>
            <a:ext cx="213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idate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che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G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5"/>
          <p:cNvSpPr/>
          <p:nvPr/>
        </p:nvSpPr>
        <p:spPr>
          <a:xfrm>
            <a:off x="3124080" y="2585880"/>
            <a:ext cx="304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ignment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e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12290"/>
          <p:cNvSpPr/>
          <p:nvPr/>
        </p:nvSpPr>
        <p:spPr>
          <a:xfrm>
            <a:off x="1447920" y="3429000"/>
            <a:ext cx="304560" cy="304920"/>
          </a:xfrm>
          <a:prstGeom prst="ellipse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37"/>
          <p:cNvSpPr/>
          <p:nvPr/>
        </p:nvSpPr>
        <p:spPr>
          <a:xfrm>
            <a:off x="2819520" y="2133720"/>
            <a:ext cx="304560" cy="304560"/>
          </a:xfrm>
          <a:prstGeom prst="ellipse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38"/>
          <p:cNvSpPr/>
          <p:nvPr/>
        </p:nvSpPr>
        <p:spPr>
          <a:xfrm>
            <a:off x="2819520" y="2895480"/>
            <a:ext cx="304560" cy="304920"/>
          </a:xfrm>
          <a:prstGeom prst="ellipse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unqiong</dc:creator>
  <dc:description/>
  <dc:language>en-US</dc:language>
  <cp:lastModifiedBy>me662 123</cp:lastModifiedBy>
  <dcterms:modified xsi:type="dcterms:W3CDTF">2017-03-26T21:27:38Z</dcterms:modified>
  <cp:revision>2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_2015_ms_pID_725343">
    <vt:lpwstr>(2)BCpyMVAFezqNIOP2nGQbzlOZCki4QNevGPzVC9yqT8oXdNEF3xGc1TBe2nO9GueUOFlvTiSY
kLR1Q3s1MceiWKR0tHKwoocsbTCQdT5eqNyXzUHCnFEt4V4BgqU2olInKJVcYGzal9McmCZU
H9eXZog+6YlMq22VB/VK5dD2OijP6joc39zpFc/pCM0Uzhch6LW4Ss5h0Y57Lj2PRZzTt4mZ
dcDqVbFwytSIWJsRGH</vt:lpwstr>
  </property>
  <property fmtid="{D5CDD505-2E9C-101B-9397-08002B2CF9AE}" pid="4" name="_2015_ms_pID_7253431">
    <vt:lpwstr>lfer1zOg+y0zd3f8Zjf1VT8PhQLCKU4feLuyC9n0mTJ8t/Vx1vS5+G
T5eowsr1rQ+SOsa8CcAeGoJkNJ+mPtSe/C7lI2bFK4J1SjFKat+lwz+jiEhtxOHnyOfQ79hY
3YVYILjJ3FMnnL8Tqv3tEPsmpYJJcB8aaF3Ce5L+MI/M/E9YGd83BOKWIXK6ztJabPpv9f6a
KZxZEHidLr6lF5lx</vt:lpwstr>
  </property>
  <property fmtid="{D5CDD505-2E9C-101B-9397-08002B2CF9AE}" pid="5" name="_2015_ms_pID_7253431_00">
    <vt:lpwstr>_2015_ms_pID_7253431</vt:lpwstr>
  </property>
  <property fmtid="{D5CDD505-2E9C-101B-9397-08002B2CF9AE}" pid="6" name="_2015_ms_pID_725343_00">
    <vt:lpwstr>_2015_ms_pID_725343</vt:lpwstr>
  </property>
  <property fmtid="{D5CDD505-2E9C-101B-9397-08002B2CF9AE}" pid="7" name="_change">
    <vt:lpwstr/>
  </property>
  <property fmtid="{D5CDD505-2E9C-101B-9397-08002B2CF9AE}" pid="8" name="_full-control">
    <vt:lpwstr/>
  </property>
  <property fmtid="{D5CDD505-2E9C-101B-9397-08002B2CF9AE}" pid="9" name="_readonly">
    <vt:lpwstr/>
  </property>
  <property fmtid="{D5CDD505-2E9C-101B-9397-08002B2CF9AE}" pid="10" name="sflag">
    <vt:lpwstr>1468931495</vt:lpwstr>
  </property>
</Properties>
</file>