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C814-3C60-499E-B352-18E3A5972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8902-727C-4F9F-806A-36C45AE0E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858D-1A23-4A43-9D55-A6CA70753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D10F-C22E-47B3-8605-CA1A85310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BCF7-C749-4FA9-889A-E0638E6F5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5EAD-88E3-44E3-99DA-D1EFA47D7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111B-2FE4-4C1C-A893-82EC37FAD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A942-10CD-4EB4-B65F-CB7D73D1F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48A8-F37B-41A7-BC61-E168A1392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026F-1E89-4B51-BA59-608EFAE3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C77B-A0BC-417F-8E20-18CB8337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33B3-AFC5-4114-A1E7-4E9A5184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5AAC1-CA86-467E-8357-B94CB9253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inology, Scope and Assum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3886200"/>
            <a:ext cx="7696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k Harrison</a:t>
            </a:r>
            <a:br>
              <a:rPr sz="3600"/>
            </a:b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.harrison@cantab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77080" y="5889600"/>
            <a:ext cx="2100240" cy="816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71800" y="5994360"/>
            <a:ext cx="309708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28600" y="5791320"/>
            <a:ext cx="99072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657600" y="2895480"/>
            <a:ext cx="1752480" cy="1295640"/>
          </a:xfrm>
          <a:prstGeom prst="ellipse">
            <a:avLst/>
          </a:prstGeom>
          <a:solidFill>
            <a:srgbClr val="fce5b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media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'Discove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029200"/>
            <a:ext cx="1295280" cy="1295280"/>
          </a:xfrm>
          <a:prstGeom prst="ellipse">
            <a:avLst/>
          </a:prstGeom>
          <a:solidFill>
            <a:srgbClr val="c1f97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EPC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762120"/>
            <a:ext cx="1295280" cy="1295280"/>
          </a:xfrm>
          <a:prstGeom prst="ellipse">
            <a:avLst/>
          </a:prstGeom>
          <a:solidFill>
            <a:srgbClr val="cbce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6400800"/>
            <a:ext cx="883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ff00"/>
                </a:solidFill>
                <a:uFillTx/>
                <a:latin typeface="Arial"/>
              </a:rPr>
              <a:t>Resources hold detailed information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about individual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76320"/>
            <a:ext cx="883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Query Clients wish to retrieve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complete information from multiple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2879640"/>
            <a:ext cx="2873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c290c"/>
                </a:solidFill>
                <a:latin typeface="Arial"/>
              </a:rPr>
              <a:t>A </a:t>
            </a:r>
            <a:r>
              <a:rPr b="0" lang="en-US" sz="2000" spc="-1" strike="noStrike" u="sng">
                <a:solidFill>
                  <a:srgbClr val="8c290c"/>
                </a:solidFill>
                <a:uFillTx/>
                <a:latin typeface="Arial"/>
              </a:rPr>
              <a:t>Discovery Service</a:t>
            </a:r>
            <a:r>
              <a:rPr b="0" lang="en-US" sz="2000" spc="-1" strike="noStrike">
                <a:solidFill>
                  <a:srgbClr val="8c290c"/>
                </a:solidFill>
                <a:latin typeface="Arial"/>
              </a:rPr>
              <a:t> can </a:t>
            </a:r>
            <a:r>
              <a:rPr b="0" lang="en-US" sz="2000" spc="-1" strike="noStrike" u="sng">
                <a:solidFill>
                  <a:srgbClr val="8c290c"/>
                </a:solidFill>
                <a:uFillTx/>
                <a:latin typeface="Arial"/>
              </a:rPr>
              <a:t>help</a:t>
            </a:r>
            <a:r>
              <a:rPr b="0" lang="en-US" sz="2000" spc="-1" strike="noStrike">
                <a:solidFill>
                  <a:srgbClr val="8c290c"/>
                </a:solidFill>
                <a:latin typeface="Arial"/>
              </a:rPr>
              <a:t> a Query Client </a:t>
            </a:r>
            <a:r>
              <a:rPr b="0" lang="en-US" sz="2000" spc="-1" strike="noStrike" u="sng">
                <a:solidFill>
                  <a:srgbClr val="8c290c"/>
                </a:solidFill>
                <a:uFillTx/>
                <a:latin typeface="Arial"/>
              </a:rPr>
              <a:t>to find multiple sources of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562720" y="685800"/>
            <a:ext cx="1676160" cy="5791320"/>
          </a:xfrm>
          <a:prstGeom prst="rect">
            <a:avLst/>
          </a:prstGeom>
          <a:noFill/>
          <a:ln w="381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238880" y="609480"/>
            <a:ext cx="1806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organization might make queries and might provide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447920" y="3892680"/>
            <a:ext cx="2361960" cy="136512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5257440" y="3886200"/>
            <a:ext cx="2438280" cy="137160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5029200" y="4038120"/>
            <a:ext cx="990720" cy="114300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543800" y="5029200"/>
            <a:ext cx="1295280" cy="1295280"/>
          </a:xfrm>
          <a:prstGeom prst="ellipse">
            <a:avLst/>
          </a:prstGeom>
          <a:solidFill>
            <a:srgbClr val="c1f97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EPC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34080" y="5029200"/>
            <a:ext cx="1295280" cy="1295280"/>
          </a:xfrm>
          <a:prstGeom prst="ellipse">
            <a:avLst/>
          </a:prstGeom>
          <a:solidFill>
            <a:srgbClr val="c1f97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EPC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048120" y="4038120"/>
            <a:ext cx="990360" cy="114300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114640" y="5029200"/>
            <a:ext cx="1295280" cy="1295280"/>
          </a:xfrm>
          <a:prstGeom prst="ellipse">
            <a:avLst/>
          </a:prstGeom>
          <a:solidFill>
            <a:srgbClr val="c1f97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EPC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4572000" y="4191120"/>
            <a:ext cx="0" cy="91440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24360" y="5029200"/>
            <a:ext cx="1295280" cy="1295280"/>
          </a:xfrm>
          <a:prstGeom prst="ellipse">
            <a:avLst/>
          </a:prstGeom>
          <a:solidFill>
            <a:srgbClr val="c1f97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EPC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1981080"/>
            <a:ext cx="0" cy="9144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86200" y="762120"/>
            <a:ext cx="1295280" cy="1295280"/>
          </a:xfrm>
          <a:prstGeom prst="ellipse">
            <a:avLst/>
          </a:prstGeom>
          <a:solidFill>
            <a:srgbClr val="cbce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724280" y="1981080"/>
            <a:ext cx="0" cy="9144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876920" y="4114800"/>
            <a:ext cx="990360" cy="11430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3200400" y="4114800"/>
            <a:ext cx="990720" cy="11430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1523880" y="4038480"/>
            <a:ext cx="2362320" cy="13716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762120"/>
            <a:ext cx="363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 query client</a:t>
            </a:r>
            <a:br>
              <a:rPr sz="2000"/>
            </a:b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queries a Discovery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62720" y="2362320"/>
            <a:ext cx="327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ff00"/>
                </a:solidFill>
                <a:uFillTx/>
                <a:latin typeface="Arial"/>
              </a:rPr>
              <a:t>Resources publish selected records to a DS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so that query clients can find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4800" y="1390680"/>
            <a:ext cx="31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nd </a:t>
            </a:r>
            <a:br>
              <a:rPr sz="2000"/>
            </a:b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receives links to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15000" y="3581280"/>
            <a:ext cx="327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They may also specify security policies to protect</a:t>
            </a:r>
            <a:br>
              <a:rPr sz="2000"/>
            </a:b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their 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7120" y="2057400"/>
            <a:ext cx="33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the policy allows them 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52280" y="152280"/>
            <a:ext cx="8991720" cy="65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s may include the following types of servi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C Information Services (EPC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Discovery Services (e.g. for a different reg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assume that a Discovery Service provides links to resources in the form of Uniform Resource Locators (UR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might not be possible to tell what kind of service is at each URL just by inspection of the UR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 so it might be a good idea for a DS to indicat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ervice ty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each URL (just like ONS 1.0 do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B.  Resources are not expected to publish all of their EPCIS events to a DS.  They should be encouraged to only publish the minimal number that allows a DS to link to them as a resource for a specific object (identified by EPC /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 resource publishes a 'record' (or 'event') to a DS, it will usually wan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protect the confidentiality of this record by specifying / linking to an access control policy to determine who is allowed to see the lin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52280" y="152280"/>
            <a:ext cx="8839440" cy="68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overy Services provide a lightweight framework that helps authorized authenticated clients to find links to multiple resources that hold more detailed information about an individual ob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overy Services might provide some resilient/redundant storage of link information to overcome the problem of the broken onward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overy Services might also provide some resilient/redundant storage about changes of aggregation or disaggregation or changes of I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n case the EPCIS that holds this becomes permanently unavailabl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overy Services are not heavyweight track &amp; trace applications.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particular, they are NOT expected to do the following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 end-to-end track &amp; trace queries for an individual objec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(even if the ID of the object to track temporarily chan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her complete event information from across a supply chain or life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ze event information to detect problems / deviations in supply ch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 where objects will be seen next - or where delays will hap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h functionality is the scope of more sophisticated applications that make use of Discovery Services - but not within the scope of Discovery Serv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4724280"/>
            <a:ext cx="4114800" cy="1905120"/>
          </a:xfrm>
          <a:custGeom>
            <a:avLst/>
            <a:gdLst>
              <a:gd name="textAreaLeft" fmla="*/ 904680 w 4114800"/>
              <a:gd name="textAreaRight" fmla="*/ 3210120 w 4114800"/>
              <a:gd name="textAreaTop" fmla="*/ 418680 h 1905120"/>
              <a:gd name="textAreaBottom" fmla="*/ 1486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1f97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very Service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304920"/>
            <a:ext cx="8686800" cy="4114800"/>
          </a:xfrm>
          <a:custGeom>
            <a:avLst/>
            <a:gdLst>
              <a:gd name="textAreaLeft" fmla="*/ 1910160 w 8686800"/>
              <a:gd name="textAreaRight" fmla="*/ 6776640 w 8686800"/>
              <a:gd name="textAreaTop" fmla="*/ 904680 h 4114800"/>
              <a:gd name="textAreaBottom" fmla="*/ 3210120 h 411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fc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-added track &amp; trace applicat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amp; supply-chain management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079720" y="1143000"/>
            <a:ext cx="5464080" cy="33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trieve complete end-to-end trace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2040" indent="-189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including multiple aggregation changes, relabel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event data from across supply chain / life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2040" indent="-189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detect problems (delays, deviations, duplicate ID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2040" indent="-189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identify root cause of probl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2040" indent="-189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predict ahead (when, where expected nex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2040" indent="-189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analyze trends and optimize for efficien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ndle / choreograph fine-grained product reca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2040" indent="-189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Generate alerts re problems (e-mail, S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19520" y="5011560"/>
            <a:ext cx="35812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p authorized authenticated clients to find one or mo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ly releva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resourc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n EPC o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41640" y="601992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bu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10:46:36Z</dcterms:created>
  <dc:creator>Mark Harrison</dc:creator>
  <dc:description/>
  <dc:language>en-US</dc:language>
  <cp:lastModifiedBy>Mark Harrison</cp:lastModifiedBy>
  <dcterms:modified xsi:type="dcterms:W3CDTF">2008-06-05T18:37:13Z</dcterms:modified>
  <cp:revision>12</cp:revision>
  <dc:subject/>
  <dc:title>PowerPoint Presentation</dc:title>
</cp:coreProperties>
</file>