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493-405B-4510-A540-8BAC2BC3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D14-446E-445B-9ED7-6EC657BC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A83-7A7E-4885-B808-3648475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0DD-EF18-43BB-AAFA-37CB4F12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968-D655-418A-98B5-2B5AF7C8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AF-6F0B-4DFF-AA36-D76B117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72E-3FD8-40FE-A9E5-DEA496B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65C-DDCA-40EE-95C1-E650433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B16-366D-4052-B70A-48A0C99D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72B-85DC-49A7-B5DF-1DF2CE3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A07-7193-4937-A638-9480A36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4A3-C585-476F-8233-D384B28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23C-0B18-477F-9217-1F9D198E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, Scope and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8862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Harrison</a:t>
            </a:r>
            <a:br>
              <a:rPr sz="36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.harrison@canta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889600"/>
            <a:ext cx="2100240" cy="8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5994360"/>
            <a:ext cx="309708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7600" y="2895480"/>
            <a:ext cx="1752480" cy="129564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7621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4008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Resources hold detailed information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about individual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632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Query Clients wish to retriev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mplete information from multipl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879640"/>
            <a:ext cx="287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Discovery Service</a:t>
            </a: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 can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help</a:t>
            </a: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 a Query Client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to find multiple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685800"/>
            <a:ext cx="1676160" cy="5791320"/>
          </a:xfrm>
          <a:prstGeom prst="rect">
            <a:avLst/>
          </a:prstGeom>
          <a:noFill/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609480"/>
            <a:ext cx="180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ganization might make queries and might provid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892680"/>
            <a:ext cx="2361960" cy="1365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257440" y="3886200"/>
            <a:ext cx="2438280" cy="13716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029200" y="4038120"/>
            <a:ext cx="990720" cy="1143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08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48120" y="4038120"/>
            <a:ext cx="990360" cy="1143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1464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572000" y="4191120"/>
            <a:ext cx="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7621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724280" y="198108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114800"/>
            <a:ext cx="99036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00400" y="4114800"/>
            <a:ext cx="99072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4038480"/>
            <a:ext cx="2362320" cy="1371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762120"/>
            <a:ext cx="363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query client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queries a Discove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3623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Resources publish selected records to a DS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so that query clients can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800" y="1390680"/>
            <a:ext cx="31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d 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ceives links to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5812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y may also specify security policies to protect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ir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120" y="2057400"/>
            <a:ext cx="33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he policy allows them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991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include the following types of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 Information Services (EPC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iscovery Services (e.g. for a different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ssume that a Discovery Service provides links to resources in the form of Uniform Resource Locators (UR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not be possible to tell what kind of service is at each URL just by inspection of the UR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so it might be a good idea for a DS to indicat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ice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URL (just like ONS 1.0 do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B.  Resources are not expected to publish all of their EPCIS events to a DS.  They should be encouraged to only publish the minimal number that allows a DS to link to them as a resource for a specific object (identified by EPC /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source publishes a 'record' (or 'event') to a DS, it will usually wa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tect the confidentiality of this record by specifying / linking to an access control policy to determine who is allowed to see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152280"/>
            <a:ext cx="883944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provide a lightweight framework that helps authorized authenticated clients to find links to multiple resources that hold more detailed information about an individua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might provide some resilient/redundant storage of link information to overcome the problem of the broken onward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might also provide some resilient/redundant storage about changes of aggregation or disaggregation or changes of 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case the EPCIS that holds this becomes permanently unavail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are not heavyweight track &amp; trace applications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they are NOT expected to do the followin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d-to-end track &amp; trace queries for an individual obj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even if the ID of the object to track temporarily cha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complete event information from across a supply chain or lif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event information to detect problems / deviations in supply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ere objects will be seen next - or where delays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functionality is the scope of more sophisticated applications that make use of Discovery Services - but not within the scope of Discove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4724280"/>
            <a:ext cx="4114800" cy="190512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1f9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686800" cy="4114800"/>
          </a:xfrm>
          <a:custGeom>
            <a:avLst/>
            <a:gdLst>
              <a:gd name="textAreaLeft" fmla="*/ 1910160 w 8686800"/>
              <a:gd name="textAreaRight" fmla="*/ 6776640 w 8686800"/>
              <a:gd name="textAreaTop" fmla="*/ 904680 h 4114800"/>
              <a:gd name="textAreaBottom" fmla="*/ 32101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c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added track &amp; trace appl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upply-chain managem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79720" y="1143000"/>
            <a:ext cx="546408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complete end-to-end trace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including multiple aggregation changes, relab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event data from across supply chain / life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detect problems (delays, deviations, duplicate 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identify root cause of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predict ahead (when, where expected n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analyze trends and optimize for ef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/ choreograph fine-grained product re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e alerts re problems (e-mail, S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011560"/>
            <a:ext cx="3581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uthorized authenticated clients to find one or m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relev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 EPC 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640" y="6019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46:36Z</dcterms:created>
  <dc:creator>Mark Harrison</dc:creator>
  <dc:description/>
  <dc:language>en-US</dc:language>
  <cp:lastModifiedBy>Mark Harrison</cp:lastModifiedBy>
  <dcterms:modified xsi:type="dcterms:W3CDTF">2008-06-05T18:37:13Z</dcterms:modified>
  <cp:revision>12</cp:revision>
  <dc:subject/>
  <dc:title>PowerPoint Presentation</dc:title>
</cp:coreProperties>
</file>