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B0E5-A81F-4789-A9EC-1F6D5686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023-02EC-4620-B6F0-1CCCCAF2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7045-F1FE-4654-9826-4AD6E32D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B147-766C-4FDF-99F4-62BFCFA3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11FC-D445-4E66-9CBD-445AB17E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F597-4397-42FC-A2DB-4708772D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AABE-DB5A-4F59-9773-737703EA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EC98-7C86-4B84-9EB7-E6A7B5F3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A5EF-AFE0-417D-9054-A17FAFA3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05E-EF63-476B-AFB8-AF1FAA24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814-179D-4F8F-A356-816D06C1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9561-78DF-4A89-AC8E-38507C07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EB14-7967-4507-8FF6-1A31D69E7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action models betwee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ry Client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tion Resourc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&amp; Discovery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3886200"/>
            <a:ext cx="7696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 Harrison</a:t>
            </a:r>
            <a:br>
              <a:rPr sz="3600"/>
            </a:b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.harrison@cantab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5889600"/>
            <a:ext cx="2100240" cy="816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71800" y="5994360"/>
            <a:ext cx="309708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28600" y="5791320"/>
            <a:ext cx="9907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ents, Intermediary &amp;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981080"/>
            <a:ext cx="1295280" cy="129564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543480"/>
            <a:ext cx="1752480" cy="129528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510552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61960" y="2149560"/>
            <a:ext cx="652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shes to retrieve information (e.g. event dat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one or more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63760" y="5213520"/>
            <a:ext cx="665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information about individu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an EPCIS - but also web pag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s, XML data and other servic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38257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s an internal list of associations and can help clients find resourc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or vice ver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te about the diagrams that follow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1676520"/>
            <a:ext cx="129564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3429000"/>
            <a:ext cx="1752840" cy="129528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iscov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533412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24160" y="533412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533412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00880" y="533412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38880" y="5334120"/>
            <a:ext cx="129564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9718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47242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4648320"/>
            <a:ext cx="8380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352680" y="4648320"/>
            <a:ext cx="91440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676520" y="4343400"/>
            <a:ext cx="220968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4191120"/>
            <a:ext cx="220968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676520"/>
            <a:ext cx="129528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800600" y="29718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6880" y="1295280"/>
            <a:ext cx="24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-lik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rot="1800000">
            <a:off x="7238160" y="2285640"/>
            <a:ext cx="1645920" cy="1752120"/>
          </a:xfrm>
          <a:custGeom>
            <a:avLst/>
            <a:gdLst>
              <a:gd name="textAreaLeft" fmla="*/ 360 w 1645920"/>
              <a:gd name="textAreaRight" fmla="*/ 1646640 w 1645920"/>
              <a:gd name="textAreaTop" fmla="*/ 0 h 1752120"/>
              <a:gd name="textAreaBottom" fmla="*/ 1752480 h 175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te about the diagrams that follow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52520" y="1981080"/>
            <a:ext cx="1295280" cy="129564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90800" y="1981080"/>
            <a:ext cx="1752840" cy="129564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iscov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86640" y="1981080"/>
            <a:ext cx="1295280" cy="129564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6880" y="129528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47800" y="2629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43640" y="2629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7440" y="362916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y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9960" y="3352680"/>
            <a:ext cx="3116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y EPCIS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or even another D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 other kinds of servic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0" y="4570560"/>
            <a:ext cx="90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B.1.  Even though the following diagrams only show one client and one resourc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for clarity, to show the sequence of interaction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t do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ply that only one client or one resource can connect to each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40" y="5591160"/>
            <a:ext cx="89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B.2.  When a resource is shown sending a message to an intermediary DS, this do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ire additional EPCIS functionality.  The resource may consist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PCIS repository and a separate 'DS publishing application' that publish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l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vents (or fields derived from EPCIS events) to a Discovery Ser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 message flow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'll look at different message flow sequences between Client, Resource &amp; Intermediary (Discovery Ser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 and analyze their merits in term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perform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time to queri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tiality of resource's inf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tiality of client's 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ree phases of interaction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304920"/>
            <a:ext cx="8001000" cy="205740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u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&amp; Resource interact with DS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interests &amp; capabilit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e security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666880"/>
            <a:ext cx="8001000" cy="1828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ove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either client or resource 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cient info to initiate service fulfill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4800600"/>
            <a:ext cx="8001000" cy="1828800"/>
          </a:xfrm>
          <a:prstGeom prst="rect">
            <a:avLst/>
          </a:prstGeom>
          <a:noFill/>
          <a:ln w="38160">
            <a:solidFill>
              <a:srgbClr val="ea4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 Fulfill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becomes aware of client reques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s able to mee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2057400"/>
            <a:ext cx="2743200" cy="2133720"/>
          </a:xfrm>
          <a:prstGeom prst="rect">
            <a:avLst/>
          </a:prstGeom>
          <a:solidFill>
            <a:srgbClr val="cbce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is quer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is publis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may be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4191120"/>
            <a:ext cx="2743200" cy="2133360"/>
          </a:xfrm>
          <a:prstGeom prst="rect">
            <a:avLst/>
          </a:prstGeom>
          <a:solidFill>
            <a:srgbClr val="cbce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is publis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is querying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may b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2057400"/>
            <a:ext cx="27432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4191120"/>
            <a:ext cx="27432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2057400"/>
            <a:ext cx="27432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4191120"/>
            <a:ext cx="27432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533520"/>
            <a:ext cx="2743200" cy="1523880"/>
          </a:xfrm>
          <a:prstGeom prst="rect">
            <a:avLst/>
          </a:prstGeom>
          <a:solidFill>
            <a:srgbClr val="cbce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/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533520"/>
            <a:ext cx="2743200" cy="1523880"/>
          </a:xfrm>
          <a:prstGeom prst="rect">
            <a:avLst/>
          </a:prstGeom>
          <a:solidFill>
            <a:srgbClr val="cbce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 &amp; Subscri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7440" y="457200"/>
            <a:ext cx="163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th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218960" y="33526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743200"/>
            <a:ext cx="129528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72080" y="2743200"/>
            <a:ext cx="1752480" cy="129528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274320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810000" y="1909800"/>
            <a:ext cx="4094640" cy="4094640"/>
            <a:chOff x="810000" y="1909800"/>
            <a:chExt cx="4094640" cy="4094640"/>
          </a:xfrm>
        </p:grpSpPr>
        <p:sp>
          <p:nvSpPr>
            <p:cNvPr id="118" name=""/>
            <p:cNvSpPr/>
            <p:nvPr/>
          </p:nvSpPr>
          <p:spPr>
            <a:xfrm rot="18900000">
              <a:off x="1409400" y="2509200"/>
              <a:ext cx="289512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6200" y="2971800"/>
              <a:ext cx="76320" cy="763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 flipH="1">
            <a:off x="5562720" y="3429000"/>
            <a:ext cx="175248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63000" y="777240"/>
            <a:ext cx="4094640" cy="4094640"/>
            <a:chOff x="963000" y="777240"/>
            <a:chExt cx="4094640" cy="4094640"/>
          </a:xfrm>
        </p:grpSpPr>
        <p:sp>
          <p:nvSpPr>
            <p:cNvPr id="122" name=""/>
            <p:cNvSpPr/>
            <p:nvPr/>
          </p:nvSpPr>
          <p:spPr>
            <a:xfrm rot="8100000">
              <a:off x="1562760" y="1376640"/>
              <a:ext cx="289512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1905120" y="3733560"/>
              <a:ext cx="76320" cy="763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-1621440" y="-4959360"/>
            <a:ext cx="12028680" cy="12028680"/>
            <a:chOff x="-1621440" y="-4959360"/>
            <a:chExt cx="12028680" cy="12028680"/>
          </a:xfrm>
        </p:grpSpPr>
        <p:sp>
          <p:nvSpPr>
            <p:cNvPr id="125" name=""/>
            <p:cNvSpPr/>
            <p:nvPr/>
          </p:nvSpPr>
          <p:spPr>
            <a:xfrm flipH="1" rot="13500000">
              <a:off x="49320" y="-3107160"/>
              <a:ext cx="8686080" cy="83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7466760" y="3962160"/>
              <a:ext cx="142920" cy="14292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-1721880" y="-5554080"/>
            <a:ext cx="13092480" cy="13092480"/>
            <a:chOff x="-1721880" y="-5554080"/>
            <a:chExt cx="13092480" cy="13092480"/>
          </a:xfrm>
        </p:grpSpPr>
        <p:sp>
          <p:nvSpPr>
            <p:cNvPr id="128" name=""/>
            <p:cNvSpPr/>
            <p:nvPr/>
          </p:nvSpPr>
          <p:spPr>
            <a:xfrm rot="8100000">
              <a:off x="40320" y="-3481560"/>
              <a:ext cx="9567720" cy="894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8" y="1"/>
                  </a:moveTo>
                  <a:arcTo wR="10800" hR="10800" stAng="-5448294" swAng="56652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8" y="1"/>
                  </a:moveTo>
                  <a:arcTo wR="10800" hR="10800" stAng="-5448294" swAng="5665222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1071000" y="3966840"/>
              <a:ext cx="147960" cy="15228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26880" y="30492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 of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93320" y="5305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94040" y="57769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91880" y="624852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2040" y="29718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,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205740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7339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724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EPCIS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57150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IS result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0760" y="2057400"/>
            <a:ext cx="1410480" cy="64260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PC, URL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ice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2743200"/>
            <a:ext cx="129528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72080" y="2743200"/>
            <a:ext cx="1752480" cy="129528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274320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392000" y="1909800"/>
            <a:ext cx="4094640" cy="4095000"/>
            <a:chOff x="4392000" y="1909800"/>
            <a:chExt cx="4094640" cy="4095000"/>
          </a:xfrm>
        </p:grpSpPr>
        <p:sp>
          <p:nvSpPr>
            <p:cNvPr id="144" name=""/>
            <p:cNvSpPr/>
            <p:nvPr/>
          </p:nvSpPr>
          <p:spPr>
            <a:xfrm flipH="1" rot="2700000">
              <a:off x="4991400" y="2509200"/>
              <a:ext cx="2895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334120" y="2971800"/>
              <a:ext cx="76320" cy="763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981080" y="3429000"/>
            <a:ext cx="175284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239000" y="776880"/>
            <a:ext cx="4094640" cy="4095000"/>
            <a:chOff x="4239000" y="776880"/>
            <a:chExt cx="4094640" cy="4095000"/>
          </a:xfrm>
        </p:grpSpPr>
        <p:sp>
          <p:nvSpPr>
            <p:cNvPr id="148" name=""/>
            <p:cNvSpPr/>
            <p:nvPr/>
          </p:nvSpPr>
          <p:spPr>
            <a:xfrm flipH="1" rot="13500000">
              <a:off x="4838400" y="1376640"/>
              <a:ext cx="2895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315200" y="3733560"/>
              <a:ext cx="76320" cy="763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-1621440" y="-4959360"/>
            <a:ext cx="12028680" cy="12028680"/>
            <a:chOff x="-1621440" y="-4959360"/>
            <a:chExt cx="12028680" cy="12028680"/>
          </a:xfrm>
        </p:grpSpPr>
        <p:sp>
          <p:nvSpPr>
            <p:cNvPr id="151" name=""/>
            <p:cNvSpPr/>
            <p:nvPr/>
          </p:nvSpPr>
          <p:spPr>
            <a:xfrm flipH="1" rot="13500000">
              <a:off x="49320" y="-3107160"/>
              <a:ext cx="8686080" cy="83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466760" y="3962160"/>
              <a:ext cx="142920" cy="14292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-1721880" y="-5554080"/>
            <a:ext cx="13092480" cy="13092480"/>
            <a:chOff x="-1721880" y="-5554080"/>
            <a:chExt cx="13092480" cy="13092480"/>
          </a:xfrm>
        </p:grpSpPr>
        <p:sp>
          <p:nvSpPr>
            <p:cNvPr id="154" name=""/>
            <p:cNvSpPr/>
            <p:nvPr/>
          </p:nvSpPr>
          <p:spPr>
            <a:xfrm rot="8100000">
              <a:off x="40320" y="-3481560"/>
              <a:ext cx="9567720" cy="894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8" y="1"/>
                  </a:moveTo>
                  <a:arcTo wR="10800" hR="10800" stAng="-5448294" swAng="56652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8" y="1"/>
                  </a:moveTo>
                  <a:arcTo wR="10800" hR="10800" stAng="-5448294" swAng="5665222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1071000" y="3966840"/>
              <a:ext cx="147960" cy="15228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26880" y="30492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 of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-1120680" y="-317160"/>
            <a:ext cx="12028680" cy="12028680"/>
            <a:chOff x="-1120680" y="-317160"/>
            <a:chExt cx="12028680" cy="12028680"/>
          </a:xfrm>
        </p:grpSpPr>
        <p:sp>
          <p:nvSpPr>
            <p:cNvPr id="158" name=""/>
            <p:cNvSpPr/>
            <p:nvPr/>
          </p:nvSpPr>
          <p:spPr>
            <a:xfrm flipH="1" rot="2700000">
              <a:off x="550080" y="1534320"/>
              <a:ext cx="8686080" cy="83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77240" y="2647800"/>
              <a:ext cx="142920" cy="142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7393320" y="5305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94040" y="57769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91880" y="624852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44320" y="26384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E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9018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,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2959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, Client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47116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EPCIS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5702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IS result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3568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, Client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31120" y="2209680"/>
            <a:ext cx="1652760" cy="36828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PC, Clien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2743200"/>
            <a:ext cx="129528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72080" y="2743200"/>
            <a:ext cx="1752480" cy="129528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274320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810000" y="1909800"/>
            <a:ext cx="4094640" cy="4094640"/>
            <a:chOff x="810000" y="1909800"/>
            <a:chExt cx="4094640" cy="4094640"/>
          </a:xfrm>
        </p:grpSpPr>
        <p:sp>
          <p:nvSpPr>
            <p:cNvPr id="174" name=""/>
            <p:cNvSpPr/>
            <p:nvPr/>
          </p:nvSpPr>
          <p:spPr>
            <a:xfrm rot="18900000">
              <a:off x="1409400" y="2509200"/>
              <a:ext cx="289512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86200" y="2971800"/>
              <a:ext cx="76320" cy="7632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H="1">
            <a:off x="1980720" y="3429000"/>
            <a:ext cx="17528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-1621440" y="-4959360"/>
            <a:ext cx="12028680" cy="12028680"/>
            <a:chOff x="-1621440" y="-4959360"/>
            <a:chExt cx="12028680" cy="12028680"/>
          </a:xfrm>
        </p:grpSpPr>
        <p:sp>
          <p:nvSpPr>
            <p:cNvPr id="178" name=""/>
            <p:cNvSpPr/>
            <p:nvPr/>
          </p:nvSpPr>
          <p:spPr>
            <a:xfrm flipH="1" rot="13500000">
              <a:off x="49320" y="-3107160"/>
              <a:ext cx="8686080" cy="83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66760" y="3962160"/>
              <a:ext cx="142920" cy="14292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-1721880" y="-5554080"/>
            <a:ext cx="13092480" cy="13092480"/>
            <a:chOff x="-1721880" y="-5554080"/>
            <a:chExt cx="13092480" cy="13092480"/>
          </a:xfrm>
        </p:grpSpPr>
        <p:sp>
          <p:nvSpPr>
            <p:cNvPr id="181" name=""/>
            <p:cNvSpPr/>
            <p:nvPr/>
          </p:nvSpPr>
          <p:spPr>
            <a:xfrm rot="8100000">
              <a:off x="40320" y="-3481560"/>
              <a:ext cx="9567720" cy="894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8" y="1"/>
                  </a:moveTo>
                  <a:arcTo wR="10800" hR="10800" stAng="-5448294" swAng="56652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8" y="1"/>
                  </a:moveTo>
                  <a:arcTo wR="10800" hR="10800" stAng="-5448294" swAng="5665222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1071000" y="3966840"/>
              <a:ext cx="147960" cy="15228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6880" y="30492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 of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562720" y="3429000"/>
            <a:ext cx="17524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93320" y="5305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94040" y="57769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91880" y="624852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44320" y="2955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,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057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, Client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29592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,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47116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EPCIS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5702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IS result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31120" y="2209680"/>
            <a:ext cx="1652760" cy="36828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PC, Clien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2743200"/>
            <a:ext cx="129528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72080" y="2743200"/>
            <a:ext cx="1752480" cy="129528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274320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392000" y="1909800"/>
            <a:ext cx="4094640" cy="4095000"/>
            <a:chOff x="4392000" y="1909800"/>
            <a:chExt cx="4094640" cy="4095000"/>
          </a:xfrm>
        </p:grpSpPr>
        <p:sp>
          <p:nvSpPr>
            <p:cNvPr id="198" name=""/>
            <p:cNvSpPr/>
            <p:nvPr/>
          </p:nvSpPr>
          <p:spPr>
            <a:xfrm flipH="1" rot="2700000">
              <a:off x="4991400" y="2509200"/>
              <a:ext cx="2895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334120" y="2971800"/>
              <a:ext cx="76320" cy="7632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981080" y="3429000"/>
            <a:ext cx="17528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-1621440" y="-4959360"/>
            <a:ext cx="12028680" cy="12028680"/>
            <a:chOff x="-1621440" y="-4959360"/>
            <a:chExt cx="12028680" cy="12028680"/>
          </a:xfrm>
        </p:grpSpPr>
        <p:sp>
          <p:nvSpPr>
            <p:cNvPr id="202" name=""/>
            <p:cNvSpPr/>
            <p:nvPr/>
          </p:nvSpPr>
          <p:spPr>
            <a:xfrm flipH="1" rot="13500000">
              <a:off x="49320" y="-3107160"/>
              <a:ext cx="8686080" cy="83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466760" y="3962160"/>
              <a:ext cx="142920" cy="14292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-1721880" y="-5554080"/>
            <a:ext cx="13092480" cy="13092480"/>
            <a:chOff x="-1721880" y="-5554080"/>
            <a:chExt cx="13092480" cy="13092480"/>
          </a:xfrm>
        </p:grpSpPr>
        <p:sp>
          <p:nvSpPr>
            <p:cNvPr id="205" name=""/>
            <p:cNvSpPr/>
            <p:nvPr/>
          </p:nvSpPr>
          <p:spPr>
            <a:xfrm rot="8100000">
              <a:off x="40320" y="-3481560"/>
              <a:ext cx="9567720" cy="894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8" y="1"/>
                  </a:moveTo>
                  <a:arcTo wR="10800" hR="10800" stAng="-5448294" swAng="56652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8" y="1"/>
                  </a:moveTo>
                  <a:arcTo wR="10800" hR="10800" stAng="-5448294" swAng="5665222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1071000" y="3966840"/>
              <a:ext cx="147960" cy="15228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26880" y="30492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 of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3429000"/>
            <a:ext cx="17524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-1120680" y="-317160"/>
            <a:ext cx="12028680" cy="12028680"/>
            <a:chOff x="-1120680" y="-317160"/>
            <a:chExt cx="12028680" cy="12028680"/>
          </a:xfrm>
        </p:grpSpPr>
        <p:sp>
          <p:nvSpPr>
            <p:cNvPr id="210" name=""/>
            <p:cNvSpPr/>
            <p:nvPr/>
          </p:nvSpPr>
          <p:spPr>
            <a:xfrm flipH="1" rot="2700000">
              <a:off x="550080" y="1534320"/>
              <a:ext cx="8686080" cy="83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677240" y="2647800"/>
              <a:ext cx="142920" cy="142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393320" y="5305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4040" y="57769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91880" y="624852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00480" y="20448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9777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,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29462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, Client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47116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EPCIS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5702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IS result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62720" y="29592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, Client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20760" y="2025720"/>
            <a:ext cx="1410480" cy="64260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PC, URL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ice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,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IS instances generally connected to the Internet and generally rel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IS instances may have downtime (e.g. for mainten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s of queries to EPCIS is approximately 10% of the volume of capture ev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An EPCIS handles more capture events than query reque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of an EPCIS may change infrequ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 and Confident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 of a Discovery Service is expected to be trustworth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o act in the interest of the resources (e.g. EPCIS insta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0880" y="2057400"/>
            <a:ext cx="2743200" cy="2133720"/>
          </a:xfrm>
          <a:prstGeom prst="rect">
            <a:avLst/>
          </a:prstGeom>
          <a:solidFill>
            <a:srgbClr val="def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to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4191120"/>
            <a:ext cx="2743200" cy="2133360"/>
          </a:xfrm>
          <a:prstGeom prst="rect">
            <a:avLst/>
          </a:prstGeom>
          <a:solidFill>
            <a:srgbClr val="def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to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2057400"/>
            <a:ext cx="27432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4191120"/>
            <a:ext cx="27432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67280" y="2057400"/>
            <a:ext cx="27432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4191120"/>
            <a:ext cx="27432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533520"/>
            <a:ext cx="2743200" cy="1523880"/>
          </a:xfrm>
          <a:prstGeom prst="rect">
            <a:avLst/>
          </a:prstGeom>
          <a:solidFill>
            <a:srgbClr val="def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/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533520"/>
            <a:ext cx="2743200" cy="1523880"/>
          </a:xfrm>
          <a:prstGeom prst="rect">
            <a:avLst/>
          </a:prstGeom>
          <a:solidFill>
            <a:srgbClr val="def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 &amp; Subscri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457200"/>
            <a:ext cx="190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thout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 distinct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218960" y="342900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55627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30760" y="2209680"/>
            <a:ext cx="1602720" cy="36828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PCI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129528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72080" y="2743200"/>
            <a:ext cx="1752480" cy="129528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15200" y="274320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810000" y="1909800"/>
            <a:ext cx="4094640" cy="4094640"/>
            <a:chOff x="810000" y="1909800"/>
            <a:chExt cx="4094640" cy="4094640"/>
          </a:xfrm>
        </p:grpSpPr>
        <p:sp>
          <p:nvSpPr>
            <p:cNvPr id="238" name=""/>
            <p:cNvSpPr/>
            <p:nvPr/>
          </p:nvSpPr>
          <p:spPr>
            <a:xfrm rot="18900000">
              <a:off x="1409400" y="2509200"/>
              <a:ext cx="289512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86200" y="2971800"/>
              <a:ext cx="76320" cy="7632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26880" y="30492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562720" y="3429000"/>
            <a:ext cx="175248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86680" y="700560"/>
            <a:ext cx="4093920" cy="4094280"/>
            <a:chOff x="886680" y="700560"/>
            <a:chExt cx="4093920" cy="4094280"/>
          </a:xfrm>
        </p:grpSpPr>
        <p:sp>
          <p:nvSpPr>
            <p:cNvPr id="243" name=""/>
            <p:cNvSpPr/>
            <p:nvPr/>
          </p:nvSpPr>
          <p:spPr>
            <a:xfrm rot="8100000">
              <a:off x="1485720" y="1299960"/>
              <a:ext cx="289512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1828800" y="3657600"/>
              <a:ext cx="76320" cy="7596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7393320" y="5305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91880" y="624852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2057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EPCIS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4267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IS result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29592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IS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2743200"/>
            <a:ext cx="129528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72080" y="2743200"/>
            <a:ext cx="1752480" cy="129528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15200" y="274320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392000" y="1909800"/>
            <a:ext cx="4094640" cy="4095000"/>
            <a:chOff x="4392000" y="1909800"/>
            <a:chExt cx="4094640" cy="4095000"/>
          </a:xfrm>
        </p:grpSpPr>
        <p:sp>
          <p:nvSpPr>
            <p:cNvPr id="254" name=""/>
            <p:cNvSpPr/>
            <p:nvPr/>
          </p:nvSpPr>
          <p:spPr>
            <a:xfrm flipH="1" rot="2700000">
              <a:off x="4991400" y="2509200"/>
              <a:ext cx="2895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334120" y="2971800"/>
              <a:ext cx="76320" cy="763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326880" y="30492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81080" y="3429000"/>
            <a:ext cx="175284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315680" y="700560"/>
            <a:ext cx="4094280" cy="4094280"/>
            <a:chOff x="4315680" y="700560"/>
            <a:chExt cx="4094280" cy="4094280"/>
          </a:xfrm>
        </p:grpSpPr>
        <p:sp>
          <p:nvSpPr>
            <p:cNvPr id="259" name=""/>
            <p:cNvSpPr/>
            <p:nvPr/>
          </p:nvSpPr>
          <p:spPr>
            <a:xfrm flipH="1" rot="13500000">
              <a:off x="4914360" y="1300320"/>
              <a:ext cx="289548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7391160" y="3657600"/>
              <a:ext cx="76320" cy="759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-1196640" y="-4959360"/>
            <a:ext cx="12028680" cy="12028680"/>
            <a:chOff x="-1196640" y="-4959360"/>
            <a:chExt cx="12028680" cy="12028680"/>
          </a:xfrm>
        </p:grpSpPr>
        <p:sp>
          <p:nvSpPr>
            <p:cNvPr id="262" name=""/>
            <p:cNvSpPr/>
            <p:nvPr/>
          </p:nvSpPr>
          <p:spPr>
            <a:xfrm rot="8100000">
              <a:off x="474480" y="-3107160"/>
              <a:ext cx="8686080" cy="83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1600920" y="3962160"/>
              <a:ext cx="142920" cy="14292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393320" y="5305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94040" y="57769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91880" y="624852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76520" y="25909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EPCIS 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76720" y="5334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IS result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26510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que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342900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ie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31840" y="1981080"/>
            <a:ext cx="1677240" cy="64260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entI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PCIS 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" y="2743200"/>
            <a:ext cx="129528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72080" y="2743200"/>
            <a:ext cx="1752480" cy="129528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315200" y="274320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810000" y="1909800"/>
            <a:ext cx="4094640" cy="4094640"/>
            <a:chOff x="810000" y="1909800"/>
            <a:chExt cx="4094640" cy="4094640"/>
          </a:xfrm>
        </p:grpSpPr>
        <p:sp>
          <p:nvSpPr>
            <p:cNvPr id="276" name=""/>
            <p:cNvSpPr/>
            <p:nvPr/>
          </p:nvSpPr>
          <p:spPr>
            <a:xfrm rot="18900000">
              <a:off x="1409400" y="2509200"/>
              <a:ext cx="289512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86200" y="2971800"/>
              <a:ext cx="76320" cy="7632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26880" y="30492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 of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1980720" y="3429000"/>
            <a:ext cx="1752840" cy="0"/>
          </a:xfrm>
          <a:prstGeom prst="line">
            <a:avLst/>
          </a:prstGeom>
          <a:ln w="76320">
            <a:solidFill>
              <a:srgbClr val="ea4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562720" y="3429000"/>
            <a:ext cx="1752480" cy="0"/>
          </a:xfrm>
          <a:prstGeom prst="line">
            <a:avLst/>
          </a:prstGeom>
          <a:ln w="76320">
            <a:solidFill>
              <a:srgbClr val="ea4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93320" y="5305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91880" y="624852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17524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EPCIS 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34894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EPC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0" y="35053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EPC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31840" y="2025720"/>
            <a:ext cx="1677240" cy="64260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entI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PCIS 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85800" y="2743200"/>
            <a:ext cx="129528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72080" y="2743200"/>
            <a:ext cx="1752480" cy="129528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315200" y="2743200"/>
            <a:ext cx="1295280" cy="1295280"/>
          </a:xfrm>
          <a:prstGeom prst="ellipse">
            <a:avLst/>
          </a:prstGeom>
          <a:solidFill>
            <a:srgbClr val="defc8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392000" y="1909800"/>
            <a:ext cx="4094640" cy="4095000"/>
            <a:chOff x="4392000" y="1909800"/>
            <a:chExt cx="4094640" cy="4095000"/>
          </a:xfrm>
        </p:grpSpPr>
        <p:sp>
          <p:nvSpPr>
            <p:cNvPr id="291" name=""/>
            <p:cNvSpPr/>
            <p:nvPr/>
          </p:nvSpPr>
          <p:spPr>
            <a:xfrm flipH="1" rot="2700000">
              <a:off x="4991400" y="2509200"/>
              <a:ext cx="2895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334120" y="2971800"/>
              <a:ext cx="76320" cy="7632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26880" y="30492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81080" y="3429000"/>
            <a:ext cx="17528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429000"/>
            <a:ext cx="17524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-1196640" y="-4959360"/>
            <a:ext cx="12028680" cy="12028680"/>
            <a:chOff x="-1196640" y="-4959360"/>
            <a:chExt cx="12028680" cy="12028680"/>
          </a:xfrm>
        </p:grpSpPr>
        <p:sp>
          <p:nvSpPr>
            <p:cNvPr id="297" name=""/>
            <p:cNvSpPr/>
            <p:nvPr/>
          </p:nvSpPr>
          <p:spPr>
            <a:xfrm rot="8100000">
              <a:off x="474480" y="-3107160"/>
              <a:ext cx="8686080" cy="83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1600920" y="3962160"/>
              <a:ext cx="142920" cy="142920"/>
            </a:xfrm>
            <a:prstGeom prst="line">
              <a:avLst/>
            </a:prstGeom>
            <a:ln w="7632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7393320" y="53053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394040" y="57769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391880" y="624852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2057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,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10080" y="34894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EPCIS 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35053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EPCIS 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29000" y="5334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IS result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31840" y="1981080"/>
            <a:ext cx="1410480" cy="64260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PC, URL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ice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80880" y="685800"/>
          <a:ext cx="8305920" cy="6132240"/>
        </p:xfrm>
        <a:graphic>
          <a:graphicData uri="http://schemas.openxmlformats.org/drawingml/2006/table">
            <a:tbl>
              <a:tblPr/>
              <a:tblGrid>
                <a:gridCol w="1660680"/>
                <a:gridCol w="1662120"/>
                <a:gridCol w="1660320"/>
                <a:gridCol w="1662120"/>
                <a:gridCol w="1660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ion of Client Confidenti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ion of Resource Confidenti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y of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di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y of Cl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one-off qu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ication of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di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ication of Cl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di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 Re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 Cl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ject</a:t>
                      </a:r>
                      <a:br>
                        <a:rPr sz="2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one-off qu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ication of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ry Propa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di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data stored at intermediary (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80880" y="863640"/>
          <a:ext cx="8382240" cy="5935680"/>
        </p:xfrm>
        <a:graphic>
          <a:graphicData uri="http://schemas.openxmlformats.org/drawingml/2006/table">
            <a:tbl>
              <a:tblPr/>
              <a:tblGrid>
                <a:gridCol w="1981440"/>
                <a:gridCol w="6400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data stored at intermediary to complete disco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y of Cl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s' query key (i.e EPC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5b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ication of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s' query key (i.e EPC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5b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 Cl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client que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ication of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client que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ication of Cl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 keys (i.e. EPCs) and resource ref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y of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 keys (i.e. EPCs) and resource ref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ry Propa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 keys (i.e. EPCs) and resource ref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 re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 - full replication of resources' data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.g. all EPCIS even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69800" y="1994040"/>
            <a:ext cx="519120" cy="517320"/>
          </a:xfrm>
          <a:prstGeom prst="ellipse">
            <a:avLst/>
          </a:prstGeom>
          <a:solidFill>
            <a:srgbClr val="cbce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04960" y="1981080"/>
            <a:ext cx="701640" cy="517680"/>
          </a:xfrm>
          <a:prstGeom prst="ellipse">
            <a:avLst/>
          </a:prstGeom>
          <a:solidFill>
            <a:srgbClr val="fce5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2640" y="1981080"/>
            <a:ext cx="517320" cy="517680"/>
          </a:xfrm>
          <a:prstGeom prst="ellipse">
            <a:avLst/>
          </a:prstGeom>
          <a:solidFill>
            <a:srgbClr val="defc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20200" y="1659960"/>
            <a:ext cx="1638720" cy="1638360"/>
            <a:chOff x="520200" y="1659960"/>
            <a:chExt cx="1638720" cy="1638360"/>
          </a:xfrm>
        </p:grpSpPr>
        <p:sp>
          <p:nvSpPr>
            <p:cNvPr id="315" name=""/>
            <p:cNvSpPr/>
            <p:nvPr/>
          </p:nvSpPr>
          <p:spPr>
            <a:xfrm rot="18900000">
              <a:off x="759960" y="1899360"/>
              <a:ext cx="1158480" cy="115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50680" y="2084400"/>
              <a:ext cx="30240" cy="30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H="1">
            <a:off x="2420640" y="2268360"/>
            <a:ext cx="7016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81040" y="1208520"/>
            <a:ext cx="1636200" cy="1636200"/>
            <a:chOff x="581040" y="1208520"/>
            <a:chExt cx="1636200" cy="1636200"/>
          </a:xfrm>
        </p:grpSpPr>
        <p:sp>
          <p:nvSpPr>
            <p:cNvPr id="319" name=""/>
            <p:cNvSpPr/>
            <p:nvPr/>
          </p:nvSpPr>
          <p:spPr>
            <a:xfrm rot="8100000">
              <a:off x="821160" y="1447560"/>
              <a:ext cx="1155600" cy="115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958680" y="2390040"/>
              <a:ext cx="30240" cy="30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-450720" y="-1085760"/>
            <a:ext cx="4810320" cy="4810320"/>
            <a:chOff x="-450720" y="-1085760"/>
            <a:chExt cx="4810320" cy="4810320"/>
          </a:xfrm>
        </p:grpSpPr>
        <p:sp>
          <p:nvSpPr>
            <p:cNvPr id="322" name=""/>
            <p:cNvSpPr/>
            <p:nvPr/>
          </p:nvSpPr>
          <p:spPr>
            <a:xfrm flipH="1" rot="13500000">
              <a:off x="217800" y="-345600"/>
              <a:ext cx="3472560" cy="333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182760" y="2481840"/>
              <a:ext cx="56880" cy="56880"/>
            </a:xfrm>
            <a:prstGeom prst="line">
              <a:avLst/>
            </a:prstGeom>
            <a:ln w="3816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-493920" y="-1326600"/>
            <a:ext cx="5239440" cy="5239440"/>
            <a:chOff x="-493920" y="-1326600"/>
            <a:chExt cx="5239440" cy="5239440"/>
          </a:xfrm>
        </p:grpSpPr>
        <p:sp>
          <p:nvSpPr>
            <p:cNvPr id="325" name=""/>
            <p:cNvSpPr/>
            <p:nvPr/>
          </p:nvSpPr>
          <p:spPr>
            <a:xfrm rot="8100000">
              <a:off x="211320" y="-497160"/>
              <a:ext cx="3828600" cy="358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8" y="1"/>
                  </a:moveTo>
                  <a:arcTo wR="10800" hR="10800" stAng="-5448294" swAng="56652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8" y="1"/>
                  </a:moveTo>
                  <a:arcTo wR="10800" hR="10800" stAng="-5448294" swAng="5665222"/>
                </a:path>
              </a:pathLst>
            </a:custGeom>
            <a:noFill/>
            <a:ln w="3816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624240" y="2483640"/>
              <a:ext cx="59040" cy="60480"/>
            </a:xfrm>
            <a:prstGeom prst="line">
              <a:avLst/>
            </a:prstGeom>
            <a:ln w="3816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26880" y="1017720"/>
            <a:ext cx="25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of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54680" y="318780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56120" y="337644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54320" y="3565440"/>
            <a:ext cx="82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54560" y="1981080"/>
            <a:ext cx="519120" cy="517680"/>
          </a:xfrm>
          <a:prstGeom prst="ellipse">
            <a:avLst/>
          </a:prstGeom>
          <a:solidFill>
            <a:srgbClr val="cbce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489720" y="1981080"/>
            <a:ext cx="701640" cy="517680"/>
          </a:xfrm>
          <a:prstGeom prst="ellipse">
            <a:avLst/>
          </a:prstGeom>
          <a:solidFill>
            <a:srgbClr val="fce5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907400" y="1981080"/>
            <a:ext cx="517320" cy="517680"/>
          </a:xfrm>
          <a:prstGeom prst="ellipse">
            <a:avLst/>
          </a:prstGeom>
          <a:solidFill>
            <a:srgbClr val="defc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304960" y="1659960"/>
            <a:ext cx="1638720" cy="1638360"/>
            <a:chOff x="5304960" y="1659960"/>
            <a:chExt cx="1638720" cy="1638360"/>
          </a:xfrm>
        </p:grpSpPr>
        <p:sp>
          <p:nvSpPr>
            <p:cNvPr id="335" name=""/>
            <p:cNvSpPr/>
            <p:nvPr/>
          </p:nvSpPr>
          <p:spPr>
            <a:xfrm rot="18900000">
              <a:off x="5544720" y="1899360"/>
              <a:ext cx="1158480" cy="115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535440" y="2084400"/>
              <a:ext cx="30240" cy="302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 flipH="1">
            <a:off x="5773320" y="2268360"/>
            <a:ext cx="700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4334040" y="-1085760"/>
            <a:ext cx="4810320" cy="4810320"/>
            <a:chOff x="4334040" y="-1085760"/>
            <a:chExt cx="4810320" cy="4810320"/>
          </a:xfrm>
        </p:grpSpPr>
        <p:sp>
          <p:nvSpPr>
            <p:cNvPr id="339" name=""/>
            <p:cNvSpPr/>
            <p:nvPr/>
          </p:nvSpPr>
          <p:spPr>
            <a:xfrm flipH="1" rot="13500000">
              <a:off x="5002560" y="-345600"/>
              <a:ext cx="3472560" cy="333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967520" y="2481840"/>
              <a:ext cx="56880" cy="56880"/>
            </a:xfrm>
            <a:prstGeom prst="line">
              <a:avLst/>
            </a:prstGeom>
            <a:ln w="3816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290840" y="-1326600"/>
            <a:ext cx="5239440" cy="5239440"/>
            <a:chOff x="4290840" y="-1326600"/>
            <a:chExt cx="5239440" cy="5239440"/>
          </a:xfrm>
        </p:grpSpPr>
        <p:sp>
          <p:nvSpPr>
            <p:cNvPr id="342" name=""/>
            <p:cNvSpPr/>
            <p:nvPr/>
          </p:nvSpPr>
          <p:spPr>
            <a:xfrm rot="8100000">
              <a:off x="4996080" y="-497160"/>
              <a:ext cx="3828600" cy="358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8" y="1"/>
                  </a:moveTo>
                  <a:arcTo wR="10800" hR="10800" stAng="-5448294" swAng="56652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8" y="1"/>
                  </a:moveTo>
                  <a:arcTo wR="10800" hR="10800" stAng="-5448294" swAng="5665222"/>
                </a:path>
              </a:pathLst>
            </a:custGeom>
            <a:noFill/>
            <a:ln w="3816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5409000" y="2483640"/>
              <a:ext cx="59040" cy="60480"/>
            </a:xfrm>
            <a:prstGeom prst="line">
              <a:avLst/>
            </a:prstGeom>
            <a:ln w="3816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5111640" y="1017720"/>
            <a:ext cx="25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fication of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205400" y="2268360"/>
            <a:ext cx="701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939440" y="318780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940880" y="337644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939080" y="3565440"/>
            <a:ext cx="82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39160" y="7632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off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24640" y="7632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ing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-283320" y="1962000"/>
            <a:ext cx="4810320" cy="4897440"/>
            <a:chOff x="-283320" y="1962000"/>
            <a:chExt cx="4810320" cy="4897440"/>
          </a:xfrm>
        </p:grpSpPr>
        <p:sp>
          <p:nvSpPr>
            <p:cNvPr id="352" name=""/>
            <p:cNvSpPr/>
            <p:nvPr/>
          </p:nvSpPr>
          <p:spPr>
            <a:xfrm>
              <a:off x="469800" y="5041800"/>
              <a:ext cx="519120" cy="517320"/>
            </a:xfrm>
            <a:prstGeom prst="ellipse">
              <a:avLst/>
            </a:prstGeom>
            <a:solidFill>
              <a:srgbClr val="cbce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04960" y="5041800"/>
              <a:ext cx="701640" cy="517320"/>
            </a:xfrm>
            <a:prstGeom prst="ellipse">
              <a:avLst/>
            </a:prstGeom>
            <a:solidFill>
              <a:srgbClr val="fce5b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ermediary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.g. D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2640" y="5041800"/>
              <a:ext cx="517320" cy="517320"/>
            </a:xfrm>
            <a:prstGeom prst="ellipse">
              <a:avLst/>
            </a:prstGeom>
            <a:solidFill>
              <a:srgbClr val="defc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.g.EPCI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952640" y="4708080"/>
              <a:ext cx="1636560" cy="1636560"/>
              <a:chOff x="1952640" y="4708080"/>
              <a:chExt cx="1636560" cy="1636560"/>
            </a:xfrm>
          </p:grpSpPr>
          <p:sp>
            <p:nvSpPr>
              <p:cNvPr id="356" name=""/>
              <p:cNvSpPr/>
              <p:nvPr/>
            </p:nvSpPr>
            <p:spPr>
              <a:xfrm flipH="1" rot="2700000">
                <a:off x="2192760" y="4946760"/>
                <a:ext cx="1155600" cy="115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2330280" y="5132160"/>
                <a:ext cx="30240" cy="3024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26880" y="4065480"/>
              <a:ext cx="255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ry Propag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88920" y="5316120"/>
              <a:ext cx="700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21000" y="5316120"/>
              <a:ext cx="70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-283320" y="1962000"/>
              <a:ext cx="4810320" cy="4810320"/>
              <a:chOff x="-283320" y="1962000"/>
              <a:chExt cx="4810320" cy="4810320"/>
            </a:xfrm>
          </p:grpSpPr>
          <p:sp>
            <p:nvSpPr>
              <p:cNvPr id="362" name=""/>
              <p:cNvSpPr/>
              <p:nvPr/>
            </p:nvSpPr>
            <p:spPr>
              <a:xfrm rot="8100000">
                <a:off x="385200" y="2701800"/>
                <a:ext cx="3472560" cy="333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ea45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836640" y="5529600"/>
                <a:ext cx="56880" cy="56880"/>
              </a:xfrm>
              <a:prstGeom prst="line">
                <a:avLst/>
              </a:prstGeom>
              <a:ln w="38160">
                <a:solidFill>
                  <a:srgbClr val="ea45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3154680" y="623556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ff"/>
                  </a:solidFill>
                  <a:latin typeface="Arial"/>
                </a:rPr>
                <a:t>Setu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56120" y="64242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Disco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54320" y="6613200"/>
              <a:ext cx="82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a4515"/>
                  </a:solidFill>
                  <a:latin typeface="Arial"/>
                </a:rPr>
                <a:t>Fulfill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501440" y="1962000"/>
            <a:ext cx="4810320" cy="4897440"/>
            <a:chOff x="4501440" y="1962000"/>
            <a:chExt cx="4810320" cy="4897440"/>
          </a:xfrm>
        </p:grpSpPr>
        <p:sp>
          <p:nvSpPr>
            <p:cNvPr id="368" name=""/>
            <p:cNvSpPr/>
            <p:nvPr/>
          </p:nvSpPr>
          <p:spPr>
            <a:xfrm>
              <a:off x="5254560" y="5041800"/>
              <a:ext cx="519120" cy="517320"/>
            </a:xfrm>
            <a:prstGeom prst="ellipse">
              <a:avLst/>
            </a:prstGeom>
            <a:solidFill>
              <a:srgbClr val="cbce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89720" y="5041800"/>
              <a:ext cx="701640" cy="517320"/>
            </a:xfrm>
            <a:prstGeom prst="ellipse">
              <a:avLst/>
            </a:prstGeom>
            <a:solidFill>
              <a:srgbClr val="fce5b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ermediary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.g. D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907400" y="5041800"/>
              <a:ext cx="517320" cy="517320"/>
            </a:xfrm>
            <a:prstGeom prst="ellipse">
              <a:avLst/>
            </a:prstGeom>
            <a:solidFill>
              <a:srgbClr val="defc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.g.EPCI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6737400" y="4708080"/>
              <a:ext cx="1636560" cy="1636560"/>
              <a:chOff x="6737400" y="4708080"/>
              <a:chExt cx="1636560" cy="1636560"/>
            </a:xfrm>
          </p:grpSpPr>
          <p:sp>
            <p:nvSpPr>
              <p:cNvPr id="372" name=""/>
              <p:cNvSpPr/>
              <p:nvPr/>
            </p:nvSpPr>
            <p:spPr>
              <a:xfrm flipH="1" rot="2700000">
                <a:off x="6977520" y="4946760"/>
                <a:ext cx="1155600" cy="115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7115040" y="5132160"/>
                <a:ext cx="30240" cy="30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5111640" y="4065480"/>
              <a:ext cx="255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ta Cl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73680" y="5316120"/>
              <a:ext cx="700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6706440" y="4225320"/>
              <a:ext cx="1638000" cy="1638000"/>
              <a:chOff x="6706440" y="4225320"/>
              <a:chExt cx="1638000" cy="1638000"/>
            </a:xfrm>
          </p:grpSpPr>
          <p:sp>
            <p:nvSpPr>
              <p:cNvPr id="377" name=""/>
              <p:cNvSpPr/>
              <p:nvPr/>
            </p:nvSpPr>
            <p:spPr>
              <a:xfrm flipH="1" rot="13500000">
                <a:off x="6946200" y="4464720"/>
                <a:ext cx="1157760" cy="115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7936920" y="5408280"/>
                <a:ext cx="30240" cy="30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4501440" y="1962000"/>
              <a:ext cx="4810320" cy="4810320"/>
              <a:chOff x="4501440" y="1962000"/>
              <a:chExt cx="4810320" cy="4810320"/>
            </a:xfrm>
          </p:grpSpPr>
          <p:sp>
            <p:nvSpPr>
              <p:cNvPr id="380" name=""/>
              <p:cNvSpPr/>
              <p:nvPr/>
            </p:nvSpPr>
            <p:spPr>
              <a:xfrm rot="8100000">
                <a:off x="5169960" y="2701800"/>
                <a:ext cx="3472560" cy="333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ea45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 flipV="1">
                <a:off x="5621400" y="5529600"/>
                <a:ext cx="56880" cy="56880"/>
              </a:xfrm>
              <a:prstGeom prst="line">
                <a:avLst/>
              </a:prstGeom>
              <a:ln w="38160">
                <a:solidFill>
                  <a:srgbClr val="ea45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7939440" y="623556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ff"/>
                  </a:solidFill>
                  <a:latin typeface="Arial"/>
                </a:rPr>
                <a:t>Setu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40880" y="64242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Disco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939080" y="6613200"/>
              <a:ext cx="82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a4515"/>
                  </a:solidFill>
                  <a:latin typeface="Arial"/>
                </a:rPr>
                <a:t>Fulfill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375560" y="4495680"/>
            <a:ext cx="1517400" cy="24624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PC, URL, serviceTy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92160" y="4495680"/>
            <a:ext cx="981000" cy="39852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PCIS query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ent 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75560" y="1508040"/>
            <a:ext cx="1517400" cy="24624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PC, URL, serviceTy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393240" y="1508040"/>
            <a:ext cx="992880" cy="24624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PC, Client 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9800" y="1967040"/>
            <a:ext cx="519120" cy="517320"/>
          </a:xfrm>
          <a:prstGeom prst="ellipse">
            <a:avLst/>
          </a:prstGeom>
          <a:solidFill>
            <a:srgbClr val="cbce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04960" y="1954080"/>
            <a:ext cx="701640" cy="517680"/>
          </a:xfrm>
          <a:prstGeom prst="ellipse">
            <a:avLst/>
          </a:prstGeom>
          <a:solidFill>
            <a:srgbClr val="fce5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2640" y="1954080"/>
            <a:ext cx="517320" cy="517680"/>
          </a:xfrm>
          <a:prstGeom prst="ellipse">
            <a:avLst/>
          </a:prstGeom>
          <a:solidFill>
            <a:srgbClr val="defc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20200" y="1632960"/>
            <a:ext cx="1638720" cy="1638360"/>
            <a:chOff x="520200" y="1632960"/>
            <a:chExt cx="1638720" cy="1638360"/>
          </a:xfrm>
        </p:grpSpPr>
        <p:sp>
          <p:nvSpPr>
            <p:cNvPr id="394" name=""/>
            <p:cNvSpPr/>
            <p:nvPr/>
          </p:nvSpPr>
          <p:spPr>
            <a:xfrm rot="18900000">
              <a:off x="759960" y="1872360"/>
              <a:ext cx="1158480" cy="115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50680" y="2057400"/>
              <a:ext cx="30240" cy="30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 flipH="1">
            <a:off x="2420640" y="2241720"/>
            <a:ext cx="7016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81040" y="1181520"/>
            <a:ext cx="1636560" cy="1636560"/>
            <a:chOff x="581040" y="1181520"/>
            <a:chExt cx="1636560" cy="1636560"/>
          </a:xfrm>
        </p:grpSpPr>
        <p:sp>
          <p:nvSpPr>
            <p:cNvPr id="398" name=""/>
            <p:cNvSpPr/>
            <p:nvPr/>
          </p:nvSpPr>
          <p:spPr>
            <a:xfrm rot="8100000">
              <a:off x="821520" y="1420200"/>
              <a:ext cx="1155600" cy="115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958680" y="2363760"/>
              <a:ext cx="30240" cy="30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-450720" y="-1112760"/>
            <a:ext cx="4810320" cy="4810320"/>
            <a:chOff x="-450720" y="-1112760"/>
            <a:chExt cx="4810320" cy="4810320"/>
          </a:xfrm>
        </p:grpSpPr>
        <p:sp>
          <p:nvSpPr>
            <p:cNvPr id="401" name=""/>
            <p:cNvSpPr/>
            <p:nvPr/>
          </p:nvSpPr>
          <p:spPr>
            <a:xfrm flipH="1" rot="13500000">
              <a:off x="217800" y="-372600"/>
              <a:ext cx="3472560" cy="333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182760" y="2454840"/>
              <a:ext cx="56880" cy="56880"/>
            </a:xfrm>
            <a:prstGeom prst="line">
              <a:avLst/>
            </a:prstGeom>
            <a:ln w="3816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-493920" y="-1353600"/>
            <a:ext cx="5239440" cy="5239440"/>
            <a:chOff x="-493920" y="-1353600"/>
            <a:chExt cx="5239440" cy="5239440"/>
          </a:xfrm>
        </p:grpSpPr>
        <p:sp>
          <p:nvSpPr>
            <p:cNvPr id="404" name=""/>
            <p:cNvSpPr/>
            <p:nvPr/>
          </p:nvSpPr>
          <p:spPr>
            <a:xfrm rot="8100000">
              <a:off x="211320" y="-524160"/>
              <a:ext cx="3828600" cy="358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8" y="1"/>
                  </a:moveTo>
                  <a:arcTo wR="10800" hR="10800" stAng="-5448294" swAng="56652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8" y="1"/>
                  </a:moveTo>
                  <a:arcTo wR="10800" hR="10800" stAng="-5448294" swAng="5665222"/>
                </a:path>
              </a:pathLst>
            </a:custGeom>
            <a:noFill/>
            <a:ln w="3816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624240" y="2456640"/>
              <a:ext cx="59040" cy="60480"/>
            </a:xfrm>
            <a:prstGeom prst="line">
              <a:avLst/>
            </a:prstGeom>
            <a:ln w="3816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26880" y="990720"/>
            <a:ext cx="25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of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54680" y="316080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56120" y="334980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154320" y="3538440"/>
            <a:ext cx="82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54560" y="1954080"/>
            <a:ext cx="519120" cy="517680"/>
          </a:xfrm>
          <a:prstGeom prst="ellipse">
            <a:avLst/>
          </a:prstGeom>
          <a:solidFill>
            <a:srgbClr val="cbce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89720" y="1954080"/>
            <a:ext cx="701640" cy="517680"/>
          </a:xfrm>
          <a:prstGeom prst="ellipse">
            <a:avLst/>
          </a:prstGeom>
          <a:solidFill>
            <a:srgbClr val="fce5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.g. 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907400" y="1954080"/>
            <a:ext cx="517320" cy="517680"/>
          </a:xfrm>
          <a:prstGeom prst="ellipse">
            <a:avLst/>
          </a:prstGeom>
          <a:solidFill>
            <a:srgbClr val="defc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304960" y="1632960"/>
            <a:ext cx="1638720" cy="1638360"/>
            <a:chOff x="5304960" y="1632960"/>
            <a:chExt cx="1638720" cy="1638360"/>
          </a:xfrm>
        </p:grpSpPr>
        <p:sp>
          <p:nvSpPr>
            <p:cNvPr id="414" name=""/>
            <p:cNvSpPr/>
            <p:nvPr/>
          </p:nvSpPr>
          <p:spPr>
            <a:xfrm rot="18900000">
              <a:off x="5544720" y="1872360"/>
              <a:ext cx="1158480" cy="115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35440" y="2057400"/>
              <a:ext cx="30240" cy="302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 flipH="1">
            <a:off x="5773320" y="2241720"/>
            <a:ext cx="700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334040" y="-1112760"/>
            <a:ext cx="4810320" cy="4810320"/>
            <a:chOff x="4334040" y="-1112760"/>
            <a:chExt cx="4810320" cy="4810320"/>
          </a:xfrm>
        </p:grpSpPr>
        <p:sp>
          <p:nvSpPr>
            <p:cNvPr id="418" name=""/>
            <p:cNvSpPr/>
            <p:nvPr/>
          </p:nvSpPr>
          <p:spPr>
            <a:xfrm flipH="1" rot="13500000">
              <a:off x="5002560" y="-372600"/>
              <a:ext cx="3472560" cy="333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967520" y="2454840"/>
              <a:ext cx="56880" cy="56880"/>
            </a:xfrm>
            <a:prstGeom prst="line">
              <a:avLst/>
            </a:prstGeom>
            <a:ln w="3816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4290840" y="-1353600"/>
            <a:ext cx="5239440" cy="5239440"/>
            <a:chOff x="4290840" y="-1353600"/>
            <a:chExt cx="5239440" cy="5239440"/>
          </a:xfrm>
        </p:grpSpPr>
        <p:sp>
          <p:nvSpPr>
            <p:cNvPr id="421" name=""/>
            <p:cNvSpPr/>
            <p:nvPr/>
          </p:nvSpPr>
          <p:spPr>
            <a:xfrm rot="8100000">
              <a:off x="4996080" y="-524160"/>
              <a:ext cx="3828600" cy="358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8" y="1"/>
                  </a:moveTo>
                  <a:arcTo wR="10800" hR="10800" stAng="-5448294" swAng="56652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8" y="1"/>
                  </a:moveTo>
                  <a:arcTo wR="10800" hR="10800" stAng="-5448294" swAng="5665222"/>
                </a:path>
              </a:pathLst>
            </a:custGeom>
            <a:noFill/>
            <a:ln w="38160">
              <a:solidFill>
                <a:srgbClr val="ea4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5409000" y="2456640"/>
              <a:ext cx="59040" cy="60480"/>
            </a:xfrm>
            <a:prstGeom prst="line">
              <a:avLst/>
            </a:prstGeom>
            <a:ln w="38160">
              <a:solidFill>
                <a:srgbClr val="ea45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111640" y="990720"/>
            <a:ext cx="25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fication of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7205400" y="2241720"/>
            <a:ext cx="701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939440" y="316080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ff"/>
                </a:solidFill>
                <a:latin typeface="Arial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940880" y="334980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Disco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939080" y="3538440"/>
            <a:ext cx="82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4515"/>
                </a:solidFill>
                <a:latin typeface="Arial"/>
              </a:rPr>
              <a:t>Fulfill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39520" y="373392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ne-off que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623920" y="373392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anding que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44720" y="4724280"/>
            <a:ext cx="8492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immediate' response - resources do not need to be available at time of DS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does not need to maintain session information for each DS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can choose which links to follow and can adjust its query for each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needs to store and enforce access control policies on behalf of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addition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access control mechanism that each resource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need to trust the DS operator to enforce their policies on their be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does not find out client ID until client chooses to make an EPCIS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75560" y="1420920"/>
            <a:ext cx="1517400" cy="24624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PC, URL, serviceTy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393240" y="1420920"/>
            <a:ext cx="992880" cy="24624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PC, Client 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4800600" y="2819520"/>
            <a:ext cx="1905120" cy="380880"/>
          </a:xfrm>
          <a:prstGeom prst="leftArrow">
            <a:avLst>
              <a:gd name="adj1" fmla="val 50000"/>
              <a:gd name="adj2" fmla="val 12504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09880" y="1295280"/>
            <a:ext cx="914400" cy="911520"/>
          </a:xfrm>
          <a:prstGeom prst="ellipse">
            <a:avLst/>
          </a:prstGeom>
          <a:solidFill>
            <a:srgbClr val="cbce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718080" y="2666880"/>
            <a:ext cx="1082520" cy="762120"/>
          </a:xfrm>
          <a:prstGeom prst="ellipse">
            <a:avLst/>
          </a:prstGeom>
          <a:solidFill>
            <a:srgbClr val="fce5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828800" y="3733920"/>
            <a:ext cx="915840" cy="915840"/>
          </a:xfrm>
          <a:prstGeom prst="ellipse">
            <a:avLst/>
          </a:prstGeom>
          <a:solidFill>
            <a:srgbClr val="defc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08440" y="3733920"/>
            <a:ext cx="915840" cy="915840"/>
          </a:xfrm>
          <a:prstGeom prst="ellipse">
            <a:avLst/>
          </a:prstGeom>
          <a:solidFill>
            <a:srgbClr val="defc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791320" y="3733920"/>
            <a:ext cx="915840" cy="915840"/>
          </a:xfrm>
          <a:prstGeom prst="ellipse">
            <a:avLst/>
          </a:prstGeom>
          <a:solidFill>
            <a:srgbClr val="defc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590920" y="3200040"/>
            <a:ext cx="1218960" cy="6858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4723920" y="3200040"/>
            <a:ext cx="1219320" cy="6858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267080" y="3428640"/>
            <a:ext cx="0" cy="3049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343400" y="2209680"/>
            <a:ext cx="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191120" y="2209680"/>
            <a:ext cx="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447920" y="4952880"/>
          <a:ext cx="1600200" cy="73044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3429000" y="4952880"/>
          <a:ext cx="1600200" cy="73044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Y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5410080" y="4952880"/>
          <a:ext cx="1600200" cy="73044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Z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6705720" y="2349360"/>
          <a:ext cx="1981080" cy="1460520"/>
        </p:xfrm>
        <a:graphic>
          <a:graphicData uri="http://schemas.openxmlformats.org/drawingml/2006/table">
            <a:tbl>
              <a:tblPr/>
              <a:tblGrid>
                <a:gridCol w="743040"/>
                <a:gridCol w="1238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"/>
          <p:cNvSpPr/>
          <p:nvPr/>
        </p:nvSpPr>
        <p:spPr>
          <a:xfrm>
            <a:off x="1054440" y="133812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has inf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EPC 123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4876920" y="1143000"/>
          <a:ext cx="1981080" cy="1095480"/>
        </p:xfrm>
        <a:graphic>
          <a:graphicData uri="http://schemas.openxmlformats.org/drawingml/2006/table">
            <a:tbl>
              <a:tblPr/>
              <a:tblGrid>
                <a:gridCol w="742680"/>
                <a:gridCol w="1238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CI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CI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1" name=""/>
          <p:cNvSpPr/>
          <p:nvPr/>
        </p:nvSpPr>
        <p:spPr>
          <a:xfrm>
            <a:off x="6804000" y="27432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781680" y="306216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781680" y="34290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45600" y="27432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545600" y="30621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45600" y="34290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824200" y="885960"/>
            <a:ext cx="4095000" cy="4094640"/>
            <a:chOff x="2824200" y="885960"/>
            <a:chExt cx="4095000" cy="4094640"/>
          </a:xfrm>
        </p:grpSpPr>
        <p:sp>
          <p:nvSpPr>
            <p:cNvPr id="458" name=""/>
            <p:cNvSpPr/>
            <p:nvPr/>
          </p:nvSpPr>
          <p:spPr>
            <a:xfrm flipV="1" rot="8100000">
              <a:off x="3423600" y="1485360"/>
              <a:ext cx="2895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86200" y="3962160"/>
              <a:ext cx="76320" cy="76320"/>
            </a:xfrm>
            <a:prstGeom prst="line">
              <a:avLst/>
            </a:prstGeom>
            <a:ln w="38160">
              <a:solidFill>
                <a:srgbClr val="ff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102840" y="1271880"/>
            <a:ext cx="3412080" cy="3411720"/>
            <a:chOff x="3102840" y="1271880"/>
            <a:chExt cx="3412080" cy="3411720"/>
          </a:xfrm>
        </p:grpSpPr>
        <p:sp>
          <p:nvSpPr>
            <p:cNvPr id="461" name=""/>
            <p:cNvSpPr/>
            <p:nvPr/>
          </p:nvSpPr>
          <p:spPr>
            <a:xfrm rot="13500000">
              <a:off x="3602880" y="1770840"/>
              <a:ext cx="2412000" cy="24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3987720" y="2057400"/>
              <a:ext cx="63360" cy="63360"/>
            </a:xfrm>
            <a:prstGeom prst="line">
              <a:avLst/>
            </a:prstGeom>
            <a:ln w="38160">
              <a:solidFill>
                <a:srgbClr val="ff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Queries must be treated confidentially by a 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 records (typically EPC, resource URL) must be treated confidentially by a 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 times and response times should be min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ery Response must be complete - i.e. it must contain all answers by resources that have willingly chosen to provide an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-283320" y="-1112760"/>
            <a:ext cx="4810320" cy="4897440"/>
            <a:chOff x="-283320" y="-1112760"/>
            <a:chExt cx="4810320" cy="4897440"/>
          </a:xfrm>
        </p:grpSpPr>
        <p:sp>
          <p:nvSpPr>
            <p:cNvPr id="465" name=""/>
            <p:cNvSpPr/>
            <p:nvPr/>
          </p:nvSpPr>
          <p:spPr>
            <a:xfrm>
              <a:off x="469800" y="1967040"/>
              <a:ext cx="519120" cy="517320"/>
            </a:xfrm>
            <a:prstGeom prst="ellipse">
              <a:avLst/>
            </a:prstGeom>
            <a:solidFill>
              <a:srgbClr val="cbce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04960" y="1967040"/>
              <a:ext cx="701640" cy="517320"/>
            </a:xfrm>
            <a:prstGeom prst="ellipse">
              <a:avLst/>
            </a:prstGeom>
            <a:solidFill>
              <a:srgbClr val="fce5b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ermediary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.g. D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22640" y="1967040"/>
              <a:ext cx="517320" cy="517320"/>
            </a:xfrm>
            <a:prstGeom prst="ellipse">
              <a:avLst/>
            </a:prstGeom>
            <a:solidFill>
              <a:srgbClr val="defc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.g.EPCI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952640" y="1633320"/>
              <a:ext cx="1636560" cy="1636560"/>
              <a:chOff x="1952640" y="1633320"/>
              <a:chExt cx="1636560" cy="1636560"/>
            </a:xfrm>
          </p:grpSpPr>
          <p:sp>
            <p:nvSpPr>
              <p:cNvPr id="469" name=""/>
              <p:cNvSpPr/>
              <p:nvPr/>
            </p:nvSpPr>
            <p:spPr>
              <a:xfrm flipH="1" rot="2700000">
                <a:off x="2192760" y="1872000"/>
                <a:ext cx="1155600" cy="115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2330280" y="2057400"/>
                <a:ext cx="30240" cy="3024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326880" y="990720"/>
              <a:ext cx="255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ry Propag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88920" y="2241360"/>
              <a:ext cx="700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421000" y="2241360"/>
              <a:ext cx="70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-283320" y="-1112760"/>
              <a:ext cx="4810320" cy="4810320"/>
              <a:chOff x="-283320" y="-1112760"/>
              <a:chExt cx="4810320" cy="4810320"/>
            </a:xfrm>
          </p:grpSpPr>
          <p:sp>
            <p:nvSpPr>
              <p:cNvPr id="475" name=""/>
              <p:cNvSpPr/>
              <p:nvPr/>
            </p:nvSpPr>
            <p:spPr>
              <a:xfrm rot="8100000">
                <a:off x="385200" y="-372600"/>
                <a:ext cx="3472560" cy="333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ea45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836640" y="2454840"/>
                <a:ext cx="56880" cy="56880"/>
              </a:xfrm>
              <a:prstGeom prst="line">
                <a:avLst/>
              </a:prstGeom>
              <a:ln w="38160">
                <a:solidFill>
                  <a:srgbClr val="ea45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3154680" y="316080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ff"/>
                  </a:solidFill>
                  <a:latin typeface="Arial"/>
                </a:rPr>
                <a:t>Setu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56120" y="334944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Disco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54320" y="3538440"/>
              <a:ext cx="82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a4515"/>
                  </a:solidFill>
                  <a:latin typeface="Arial"/>
                </a:rPr>
                <a:t>Fulfill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501440" y="-1112760"/>
            <a:ext cx="4810320" cy="4897440"/>
            <a:chOff x="4501440" y="-1112760"/>
            <a:chExt cx="4810320" cy="4897440"/>
          </a:xfrm>
        </p:grpSpPr>
        <p:sp>
          <p:nvSpPr>
            <p:cNvPr id="481" name=""/>
            <p:cNvSpPr/>
            <p:nvPr/>
          </p:nvSpPr>
          <p:spPr>
            <a:xfrm>
              <a:off x="5254560" y="1967040"/>
              <a:ext cx="519120" cy="517320"/>
            </a:xfrm>
            <a:prstGeom prst="ellipse">
              <a:avLst/>
            </a:prstGeom>
            <a:solidFill>
              <a:srgbClr val="cbce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89720" y="1967040"/>
              <a:ext cx="701640" cy="517320"/>
            </a:xfrm>
            <a:prstGeom prst="ellipse">
              <a:avLst/>
            </a:prstGeom>
            <a:solidFill>
              <a:srgbClr val="fce5b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ermediary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.g. D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907400" y="1967040"/>
              <a:ext cx="517320" cy="517320"/>
            </a:xfrm>
            <a:prstGeom prst="ellipse">
              <a:avLst/>
            </a:prstGeom>
            <a:solidFill>
              <a:srgbClr val="defc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.g.EPCI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737400" y="1633320"/>
              <a:ext cx="1636560" cy="1636560"/>
              <a:chOff x="6737400" y="1633320"/>
              <a:chExt cx="1636560" cy="1636560"/>
            </a:xfrm>
          </p:grpSpPr>
          <p:sp>
            <p:nvSpPr>
              <p:cNvPr id="485" name=""/>
              <p:cNvSpPr/>
              <p:nvPr/>
            </p:nvSpPr>
            <p:spPr>
              <a:xfrm flipH="1" rot="2700000">
                <a:off x="6977520" y="1872000"/>
                <a:ext cx="1155600" cy="115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7115040" y="2057400"/>
                <a:ext cx="30240" cy="30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5111640" y="990720"/>
              <a:ext cx="255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ta Cl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73680" y="2241360"/>
              <a:ext cx="700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6706440" y="1150560"/>
              <a:ext cx="1638000" cy="1638000"/>
              <a:chOff x="6706440" y="1150560"/>
              <a:chExt cx="1638000" cy="1638000"/>
            </a:xfrm>
          </p:grpSpPr>
          <p:sp>
            <p:nvSpPr>
              <p:cNvPr id="490" name=""/>
              <p:cNvSpPr/>
              <p:nvPr/>
            </p:nvSpPr>
            <p:spPr>
              <a:xfrm flipH="1" rot="13500000">
                <a:off x="6946200" y="1389960"/>
                <a:ext cx="1157760" cy="115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7936920" y="2333520"/>
                <a:ext cx="30240" cy="30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4501440" y="-1112760"/>
              <a:ext cx="4810320" cy="4810320"/>
              <a:chOff x="4501440" y="-1112760"/>
              <a:chExt cx="4810320" cy="4810320"/>
            </a:xfrm>
          </p:grpSpPr>
          <p:sp>
            <p:nvSpPr>
              <p:cNvPr id="493" name=""/>
              <p:cNvSpPr/>
              <p:nvPr/>
            </p:nvSpPr>
            <p:spPr>
              <a:xfrm rot="8100000">
                <a:off x="5169960" y="-372600"/>
                <a:ext cx="3472560" cy="333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ea45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 flipV="1">
                <a:off x="5621400" y="2454840"/>
                <a:ext cx="56880" cy="56880"/>
              </a:xfrm>
              <a:prstGeom prst="line">
                <a:avLst/>
              </a:prstGeom>
              <a:ln w="38160">
                <a:solidFill>
                  <a:srgbClr val="ea45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7939440" y="316080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ff"/>
                  </a:solidFill>
                  <a:latin typeface="Arial"/>
                </a:rPr>
                <a:t>Setu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40880" y="334944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Disco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39080" y="3538440"/>
              <a:ext cx="82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a4515"/>
                  </a:solidFill>
                  <a:latin typeface="Arial"/>
                </a:rPr>
                <a:t>Fulfill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839520" y="373392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ne-off que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23920" y="373392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anding que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46520" y="4267080"/>
            <a:ext cx="8967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does not return any resource data to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propagates client query to resources and client must wait for them to resp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client query will be sent to all resources - and the client has no visibilit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nor control over which publishers will receive their query (all receive the same quer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- but has the convenience of not having to make iterative follow-up EPCIS 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does not store fine-grained access control policies on behalf of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 access control is done by each resource independently, with knowledge of clien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esource can log all (successful/failed) attempts to access thei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can deny access to certain clients without making client aware of de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375560" y="1420920"/>
            <a:ext cx="1517400" cy="24624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PC, URL, serviceTy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392160" y="1420920"/>
            <a:ext cx="981000" cy="398520"/>
          </a:xfrm>
          <a:prstGeom prst="rect">
            <a:avLst/>
          </a:prstGeom>
          <a:solidFill>
            <a:srgbClr val="fce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PCIS query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ent 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4800600" y="2819520"/>
            <a:ext cx="1905120" cy="380880"/>
          </a:xfrm>
          <a:prstGeom prst="leftArrow">
            <a:avLst>
              <a:gd name="adj1" fmla="val 50000"/>
              <a:gd name="adj2" fmla="val 12504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809880" y="1295280"/>
            <a:ext cx="914400" cy="911520"/>
          </a:xfrm>
          <a:prstGeom prst="ellipse">
            <a:avLst/>
          </a:prstGeom>
          <a:solidFill>
            <a:srgbClr val="cbce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718080" y="2666880"/>
            <a:ext cx="1082520" cy="762120"/>
          </a:xfrm>
          <a:prstGeom prst="ellipse">
            <a:avLst/>
          </a:prstGeom>
          <a:solidFill>
            <a:srgbClr val="fce5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3733920"/>
            <a:ext cx="915840" cy="915840"/>
          </a:xfrm>
          <a:prstGeom prst="ellipse">
            <a:avLst/>
          </a:prstGeom>
          <a:solidFill>
            <a:srgbClr val="defc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808440" y="3733920"/>
            <a:ext cx="915840" cy="915840"/>
          </a:xfrm>
          <a:prstGeom prst="ellipse">
            <a:avLst/>
          </a:prstGeom>
          <a:solidFill>
            <a:srgbClr val="defc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91320" y="3733920"/>
            <a:ext cx="915840" cy="915840"/>
          </a:xfrm>
          <a:prstGeom prst="ellipse">
            <a:avLst/>
          </a:prstGeom>
          <a:solidFill>
            <a:srgbClr val="defc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2590920" y="3200040"/>
            <a:ext cx="1218960" cy="6858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4723920" y="3200040"/>
            <a:ext cx="1219320" cy="6858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267080" y="3428640"/>
            <a:ext cx="0" cy="3049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191120" y="2209680"/>
            <a:ext cx="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447920" y="4952880"/>
          <a:ext cx="1600200" cy="73044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3429000" y="4952880"/>
          <a:ext cx="1600200" cy="73044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Y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5410080" y="4952880"/>
          <a:ext cx="1600200" cy="73044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Z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6705720" y="2349360"/>
          <a:ext cx="1981080" cy="1460520"/>
        </p:xfrm>
        <a:graphic>
          <a:graphicData uri="http://schemas.openxmlformats.org/drawingml/2006/table">
            <a:tbl>
              <a:tblPr/>
              <a:tblGrid>
                <a:gridCol w="743040"/>
                <a:gridCol w="1238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"/>
          <p:cNvSpPr/>
          <p:nvPr/>
        </p:nvSpPr>
        <p:spPr>
          <a:xfrm>
            <a:off x="1054440" y="133812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has inf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EPC 123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804000" y="27432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81680" y="306216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781680" y="34290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45600" y="27432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545600" y="30621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545600" y="34290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I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419720" y="3429000"/>
            <a:ext cx="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1219320" cy="685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926440" y="2044080"/>
            <a:ext cx="3557880" cy="3558240"/>
            <a:chOff x="2926440" y="2044080"/>
            <a:chExt cx="3557880" cy="3558240"/>
          </a:xfrm>
        </p:grpSpPr>
        <p:sp>
          <p:nvSpPr>
            <p:cNvPr id="528" name=""/>
            <p:cNvSpPr/>
            <p:nvPr/>
          </p:nvSpPr>
          <p:spPr>
            <a:xfrm flipV="1" rot="16200000">
              <a:off x="2926080" y="2044080"/>
              <a:ext cx="3558240" cy="355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4535280" y="2072520"/>
              <a:ext cx="132480" cy="0"/>
            </a:xfrm>
            <a:prstGeom prst="line">
              <a:avLst/>
            </a:prstGeom>
            <a:ln w="38160">
              <a:solidFill>
                <a:srgbClr val="ff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1943280" y="1347840"/>
            <a:ext cx="3412080" cy="3412080"/>
            <a:chOff x="1943280" y="1347840"/>
            <a:chExt cx="3412080" cy="3412080"/>
          </a:xfrm>
        </p:grpSpPr>
        <p:sp>
          <p:nvSpPr>
            <p:cNvPr id="531" name=""/>
            <p:cNvSpPr/>
            <p:nvPr/>
          </p:nvSpPr>
          <p:spPr>
            <a:xfrm flipH="1" rot="8100000">
              <a:off x="2442960" y="1847160"/>
              <a:ext cx="2412360" cy="24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flipV="1">
              <a:off x="4407120" y="2133720"/>
              <a:ext cx="63360" cy="63360"/>
            </a:xfrm>
            <a:prstGeom prst="line">
              <a:avLst/>
            </a:prstGeom>
            <a:ln w="38160">
              <a:solidFill>
                <a:srgbClr val="ff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 flipV="1">
            <a:off x="4114800" y="3352680"/>
            <a:ext cx="0" cy="533520"/>
          </a:xfrm>
          <a:prstGeom prst="line">
            <a:avLst/>
          </a:prstGeom>
          <a:ln w="3816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4648320" y="3276360"/>
            <a:ext cx="1218960" cy="685800"/>
          </a:xfrm>
          <a:prstGeom prst="line">
            <a:avLst/>
          </a:prstGeom>
          <a:ln w="3816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4343400" y="2133360"/>
            <a:ext cx="0" cy="533160"/>
          </a:xfrm>
          <a:prstGeom prst="line">
            <a:avLst/>
          </a:prstGeom>
          <a:ln w="3816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synchronous replies back to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odels require a DS or a resourc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EPCIS) to respond asynchronously to a cl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might specify a return address of a listener or client proxy that is reachable (e.g. in DMZ, not behind firew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ome models, the response does not come from the DS but from an unexpected / unknown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need mutual authentication + establishment of mutual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resource responses back via a DS may be an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consolidation of responses from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ecoupling of client / resource address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may / may not maintain state / session info (# expected repl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den of maintaining client session information adds to complexity and also adds to scalability probl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s receiving repli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blems of slow / withheld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 may have to receive and combine/correlate independent responses from multip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client know how many replies to expect for each DS que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re all resources willing to reply to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ome resources be slow to respo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should a resource respond (without revealing its ID) when it has information and may be willing to co-operate but still needs further client credentials / justification / negotiation with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o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might return to client # of resources the DS forwarded query to.  Risk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imeout intervals for receipt of responses.  But may miss slow repl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might send an opaque token to client via a D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DS acting as a go-between to help facilitate initial negotiations between client and resource (by passing mess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design options - Security &amp;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dentiality of Client queri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Query Relay model, risk of 'harvesting' by rogue resources ('honeypots'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 may need to check plausibility of records asserted by resources. (e.g. an object cannot be within physical custody of two organizations at the same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ht need 'business step' to understand whether physical custody is being claimed.  (to allow for non-custodial resource owner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[e.g. insurers 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lists and white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t by client with client's query, possibly cached in 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blacklists to prevent relaying of queries to known competitors or dubious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hitelists to restrict forwarding to only a set of trusted business partn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prevent client from discovering unknown yet trustworthy resources that hold releva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design options - Security &amp;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dentiality of Resource informatio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rectory Service model, release of records (links) to client should be controlled via access control policies specified by the resource owner and enforced by the DS 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 operator may also (need to) specify and enforce overall policies for their DS (e.g. who can query, who can publish, regulators' policies) that over-ride individual policies specified by resource own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owners should be aware of these DS policies before publishing to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rectory Service model, scalability &amp; management of security policies is a major conc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resource policy hides resource ID from unknown clients, how could those clients begin to negotiate with the resour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e mediation role for DS using temporary token + relaying of messag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Query Relay model, resource can decide whether to allow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out delegation to a 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so taking into account real-time info (e.g. current load on resour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y Relay model may work better for unsolicited client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3240" indent="0">
              <a:lnSpc>
                <a:spcPct val="90000"/>
              </a:lnSpc>
              <a:spcAft>
                <a:spcPts val="8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ing 'deadlock' before trust is establishe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3240" indent="0">
              <a:lnSpc>
                <a:spcPct val="90000"/>
              </a:lnSpc>
              <a:spcAft>
                <a:spcPts val="8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590920" y="3124080"/>
            <a:ext cx="3886200" cy="838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09880" y="1371600"/>
            <a:ext cx="129564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86200" y="4572000"/>
            <a:ext cx="1295280" cy="1295280"/>
          </a:xfrm>
          <a:prstGeom prst="ellipse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57880" y="26668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95680" y="38858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804920" y="4033800"/>
            <a:ext cx="423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I hold information about EPC xyz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ut hide my real ID &amp; contact inf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from unauthorized / unknown client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4648320" y="25142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728600" y="2514600"/>
            <a:ext cx="19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aque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A8274B2845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267080" y="2514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15840" y="2362320"/>
            <a:ext cx="287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for acces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ting t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267080" y="3962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914760" y="3902040"/>
            <a:ext cx="285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for acc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client with I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809880" y="4038480"/>
            <a:ext cx="457200" cy="304920"/>
            <a:chOff x="3809880" y="4038480"/>
            <a:chExt cx="457200" cy="304920"/>
          </a:xfrm>
        </p:grpSpPr>
        <p:sp>
          <p:nvSpPr>
            <p:cNvPr id="558" name=""/>
            <p:cNvSpPr/>
            <p:nvPr/>
          </p:nvSpPr>
          <p:spPr>
            <a:xfrm>
              <a:off x="3809880" y="4038480"/>
              <a:ext cx="457200" cy="304920"/>
            </a:xfrm>
            <a:prstGeom prst="rect">
              <a:avLst/>
            </a:prstGeom>
            <a:solidFill>
              <a:srgbClr val="cbce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09880" y="40384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4038120" y="40384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3809880" y="4190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14800" y="41911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3809880" y="2666880"/>
            <a:ext cx="457200" cy="304920"/>
            <a:chOff x="3809880" y="2666880"/>
            <a:chExt cx="457200" cy="304920"/>
          </a:xfrm>
        </p:grpSpPr>
        <p:sp>
          <p:nvSpPr>
            <p:cNvPr id="564" name=""/>
            <p:cNvSpPr/>
            <p:nvPr/>
          </p:nvSpPr>
          <p:spPr>
            <a:xfrm>
              <a:off x="3809880" y="2666880"/>
              <a:ext cx="457200" cy="304920"/>
            </a:xfrm>
            <a:prstGeom prst="rect">
              <a:avLst/>
            </a:prstGeom>
            <a:solidFill>
              <a:srgbClr val="cbce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09880" y="26668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4038120" y="26668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3809880" y="28191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14800" y="28195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design options - Security &amp;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5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prevent compromising the integrity of information held within 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ion / change of information only in accordance with security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should retain right to modify or delete - but this might b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-ridden by DS policies (e.g. to maintain a journal for regulated supply chai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&gt; mark as v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ify/update =&gt; mark as void and re-as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need to consider digitally signing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quer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igned by Cli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 recor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igned by the resource owner / publis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igned by DS or by resource if responding direct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problem of embedding URLs within DS records since any modification to the URL may break the original digital signature for each rec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der decoupling URL from each DS record - store in 'Resource Profile' inst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need DS to indicate to the client whether it was able to validate sign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signed DS records it received, where the record is not returned in full to a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ther or not the underlying DS record was / was not signed, validated / did not vali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design options - Security &amp;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should be designed to be resilient against Denial-of-Service attack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S design should not compromise the clients or resources or make them more vulnerable to Denial-of-Service atta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irectory Service model, URL of resource is only released to clients fulfilling access policy restrictions - helps prevent attacks o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resources under attack may need to change their address (UR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bility to decouple current (possibly mutable) URL of a resource from its immutable resource ID - rather than embedding URL within each DS record.  (See also previous slide re digitally signed reco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Query Relay design, if clients rely on propagation of full (EPCIS) query via a query relay DS, they would be particularly dependent on DS availabilit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unless they have previously cached URLs of relevant resource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upling of URLs from Discovery Service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90920" y="1523880"/>
            <a:ext cx="3886200" cy="838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410080" y="3124080"/>
            <a:ext cx="2438640" cy="13716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Profile</a:t>
            </a:r>
            <a:br>
              <a:rPr sz="2400"/>
            </a:br>
            <a:br>
              <a:rPr sz="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Typ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523880" y="2971800"/>
            <a:ext cx="1828800" cy="16765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 Record</a:t>
            </a:r>
            <a:br>
              <a:rPr sz="24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 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other metadata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952880" y="449568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638680" y="2286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724280" y="23623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86200" y="26668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ID=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946480" y="41292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3352680" y="46483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276720" y="2209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124080" y="42670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809880" y="4648320"/>
            <a:ext cx="1295640" cy="1295280"/>
          </a:xfrm>
          <a:prstGeom prst="ellipse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ries &amp; Data -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 can specify ei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ll query (including EPC and other parame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the EPC identifi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PC number represents the query ke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(e.g. EPCIS) can publish to a 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EPCIS events (including business step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 identifi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design options - Security &amp;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k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misuse of Query Relay design to launch DoS attacks on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countermeasur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authentication with 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how frequently client may make 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of non-existent resource addresses for already assigned E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network load, slower responses (timeouts, retr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y Relay and each client of a Directory Service could identify resources that persistently fail - and remove from resource cache or add them to black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of existent resource addresses - but of incorrect servic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measure: authenticate resources before allowing them to pub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sonation of valid clients by malicious clients to mislead DS o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measure:  authentication of DS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design options - Security &amp;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-working with NATs and Fire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 must be able to interact with a DS from behind a firewall or Network Address Translation (NAT)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ful firewalls match returning traffic with outbound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of responses from unexpected network addresses (especially in Query Relay model variant when responses are not returned via the DS but directly from resour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lso be a problem when sending responses via a message transport network. (address of message router might not be expected/recogniz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may need to provide client proxy (listener address) in DMZ for receiving inbound responses, (allow for inspection while quarant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design options - Security &amp;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ment of Access Control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high-level policies about which clients / resources can interact with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need to be able to restrict which clients can access their information (including the links to their inform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models, the underlying resources need an access control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Directory Service model, resources may need to be able to specify fine-grained access control policies to be enforced by the DS without the DS needing to contact the resource to check 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be considered as a subset of access control policy for underlying re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rectory Service model, DS holds significant amount of policy state information - but management of DS policy may only be marginally more than management of underlying resource 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be even possibility of using a common policy language / framework for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Query Relay, policies are stored and enforced primarily at each underlying resource, although less granular policies may be pushed to DS / network to reduce load o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ervice model provides clients some opportunity to avoid 'honeypot' harvesting attack  ( by allowing inspection of link before contac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design optio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Network Performance / Resil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istent state information on a Director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 - resource links (both mode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olicies (more detailed for Directory Service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subscriptions to new DS records (so new resources can be fou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subscriptions should be self-managing with automated rem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may also provide automated retention management of record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ime-to-live / renewal of le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ent state information on a Discover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session information (especially for Query Relay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nages correlation of responses from resources with client's qu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design optio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Network Performance / Resil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action Duration, Transparency &amp; Predictabilit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should receive response with minimum delay / 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should be able to manage communication with DS an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, predictable response times prefe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should be able to detect failed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should be able to selectively retry only the communications that fa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irectory Service model, client has maximum control of communications with DS and underly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Query Relay model, client must wait to ensure that all resources have had sufficient time to respon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iculty in knowing which resources have failed to respond (especially if time interval is too short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ly difficult to selectively retry the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design optio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Network Performance / Resil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mprove perform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within a Discovery Service or by cli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maintains an internal cache of resource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be insufficient to answer an EPCIS query directed at a 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can cache responses from a DS for future use with the same E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problem with Query Propagation model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's cache may be missing potentially relevant resources because a previous client query to Query Relay network was too specif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 only some resources responded to the que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le solution is for a resource to identify itself as a potential resource for a specific EPC, even if it had no results for the more specific query from the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design optio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Network Performance / Resil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ing Load on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should be able to handle multiple simultaneous client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s should be handled quickly, with minimal computational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load depend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ing of client's request to DS records or routing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al and enforcement of applicable securit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about supporting additional metadata fields (e.g. bizSte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add to complexity of DS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result in more finer-grained security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require post-processing of results to limit visibility of additional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ed different models for interactions between clients, resources and intermediaries such as Discove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ice depends on impact on security, performance &amp; sca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cessarily a single solution for all kinds of supply ch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iendly community supply chains   vs   strongly competitive   vs   highly regu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ervice is traditional well-proven approach but has unique challenges as a Discovery Serv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gated control and scalable expression, evaluation and enforcement of security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Relay model perhaps less obvious - but routing networks are established e.g. in peer-to-peer content retrieval netwo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challenges are detection and prevention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neypots for harvesting information from client qu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jection of false information to mislead or cause disru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secure resource registration and policing of resource behavi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secure client registration and policing to prevent DoS attacks on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rther reading and Acknowled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lides were prepared for the EPCglobal Data Discovery JRG face-to-face meeting (Alpharetta, June 2008) and are based on section B of deliverable D2.4 from the BRIDG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DGE WP02 High Level Design Discove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bridge-project.eu/index.php/public-deliverables/e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90120" y="2867040"/>
            <a:ext cx="698400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ould like to acknowledge that D2.4 B was jointly author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vor Burbridge (BT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Kas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SA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min Cond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SA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Harris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University of Cambridge, Auto-ID Lab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dditional inputs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holas Pauvre  (GS1 Fr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of AT4 wireless  (leader of BRIDGE WP2 [DS]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5632560"/>
            <a:ext cx="8082000" cy="1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per from the SAP team within BRIDGE on the Query Relay model appeared in the proceedings of the Internet of Things 2008 conferen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springerlink.com/content/v568wv5751r1187q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dblp.uni-trier.de/rec/bibtex/conf/iot/KurschnerCKT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ries &amp; Data -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 Services might hold / handle one of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PC, resource reference e.g. EPCIS UR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replicated EPCIS ev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Cs of interest to various client (clients' interest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client queries (e.g. EPCIS que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on m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off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with gathering of historical data (e.g. trace) up to time of 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S provides referrals or forwards qu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ous response may b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ing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notified of future updates from new resources (e.g. companies who handle the object at future ti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synchronous notification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 mode &amp; Transient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response times are a key requirement for a 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quick ~ up to 5 seconds / synchronous respons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uestionnaire / interview respon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able response time i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IS resources are likely to have permanent connectivity to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Ownership &amp;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ownership a key conc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may be reluctant to share more than minimum necessary data with a DS - or sharing of additional data should be op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 models that require the resource owner (e.g. company having an EPCIS) to share detailed information with a DS without first gaining details of which clients require the detailed access and being able to refuse or negotiate this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ts &amp; concerns relating to Discover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aling sensitive information (volumes, flows of goods) to unauthorized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where resources lose control over which clients see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'harvesting' of info from client queries by 'honeypot'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ssive network traffic / unnecessary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ulnerabilities / mechanism for Denial of Service att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response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bility to provide synchronous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for response from underlying / proxy query - and maintaining sessio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ability / Complexity of specifying access control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us making a separate assessment for each query / each new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/ enforcement at both EPCIS and DS layers of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consistency (synchronization?) between a resource's policies at EPCIS &amp; DS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scovery Service may need to restrict which clients and which resources can use the 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o limit DoS, honeypot atta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0:46:36Z</dcterms:created>
  <dc:creator>Mark Harrison</dc:creator>
  <dc:description/>
  <dc:language>en-US</dc:language>
  <cp:lastModifiedBy>Mark Harrison</cp:lastModifiedBy>
  <dcterms:modified xsi:type="dcterms:W3CDTF">2008-06-17T11:28:48Z</dcterms:modified>
  <cp:revision>58</cp:revision>
  <dc:subject/>
  <dc:title>PowerPoint Presentation</dc:title>
</cp:coreProperties>
</file>