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3F5-79D2-4045-8F00-E8B313E6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E55-DD9F-4BB4-B437-66AAF285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325-4792-4E1E-B67B-7AACCA29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21B-0B86-4CA9-8B0F-B8FD846D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722-4207-470D-B2D1-9652EE58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FBB-B048-4B35-9A36-91AC734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B23-1E93-4DD1-83A8-1E336E03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21E-9E76-4118-AF3A-267F1E3A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DAC-3578-4E29-8F66-3FB8CD2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C26-782F-4EB4-9943-75857721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3BC-AAC9-48A1-96E1-9346B5F6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6D1-708E-46E2-A473-DFAE258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2567-60EF-4AF4-966B-5CD817676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>
            <a:off x="2914560" y="4142160"/>
            <a:ext cx="360" cy="111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2" idx="3"/>
          </p:cNvCxnSpPr>
          <p:nvPr/>
        </p:nvCxnSpPr>
        <p:spPr>
          <a:xfrm flipH="1">
            <a:off x="3538440" y="2444040"/>
            <a:ext cx="1848600" cy="1499040"/>
          </a:xfrm>
          <a:prstGeom prst="straightConnector1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</p:cxnSp>
      <p:cxnSp>
        <p:nvCxnSpPr>
          <p:cNvPr id="46" name=""/>
          <p:cNvCxnSpPr>
            <a:stCxn id="47" idx="3"/>
            <a:endCxn id="42" idx="1"/>
          </p:cNvCxnSpPr>
          <p:nvPr/>
        </p:nvCxnSpPr>
        <p:spPr>
          <a:xfrm>
            <a:off x="1822320" y="2422080"/>
            <a:ext cx="469080" cy="1521000"/>
          </a:xfrm>
          <a:prstGeom prst="straightConnector1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PLS-TP docu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48240" y="1197000"/>
            <a:ext cx="14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WT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200" y="1233360"/>
            <a:ext cx="14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86680" y="224460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AD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4920" y="2222640"/>
            <a:ext cx="124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G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9" idx="2"/>
            <a:endCxn id="45" idx="0"/>
          </p:cNvCxnSpPr>
          <p:nvPr/>
        </p:nvCxnSpPr>
        <p:spPr>
          <a:xfrm>
            <a:off x="6148080" y="1595880"/>
            <a:ext cx="15120" cy="64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50" idx="3"/>
            <a:endCxn id="45" idx="1"/>
          </p:cNvCxnSpPr>
          <p:nvPr/>
        </p:nvCxnSpPr>
        <p:spPr>
          <a:xfrm>
            <a:off x="1884240" y="1432800"/>
            <a:ext cx="3502800" cy="101160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2"/>
            <a:endCxn id="47" idx="0"/>
          </p:cNvCxnSpPr>
          <p:nvPr/>
        </p:nvCxnSpPr>
        <p:spPr>
          <a:xfrm>
            <a:off x="1184040" y="1632240"/>
            <a:ext cx="14760" cy="59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282680" y="1757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4720" y="1700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15040" y="1716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600" y="2644920"/>
            <a:ext cx="278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, ind-01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2"/>
            <a:endCxn id="57" idx="1"/>
          </p:cNvCxnSpPr>
          <p:nvPr/>
        </p:nvCxnSpPr>
        <p:spPr>
          <a:xfrm flipV="1" rot="16200000">
            <a:off x="851040" y="2224440"/>
            <a:ext cx="184680" cy="1393560"/>
          </a:xfrm>
          <a:prstGeom prst="bentConnector4">
            <a:avLst>
              <a:gd name="adj1" fmla="val -123046"/>
              <a:gd name="adj2" fmla="val 11630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276120" y="320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66240" y="2685960"/>
            <a:ext cx="278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, ind-01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2"/>
            <a:endCxn id="60" idx="3"/>
          </p:cNvCxnSpPr>
          <p:nvPr/>
        </p:nvCxnSpPr>
        <p:spPr>
          <a:xfrm flipH="1" flipV="1" rot="5400000">
            <a:off x="6563880" y="2265480"/>
            <a:ext cx="184680" cy="1393920"/>
          </a:xfrm>
          <a:prstGeom prst="bentConnector4">
            <a:avLst>
              <a:gd name="adj1" fmla="val -123046"/>
              <a:gd name="adj2" fmla="val 11627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248520" y="326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91040" y="3743280"/>
            <a:ext cx="124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G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1120" y="31338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ll for wg 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0040" y="4268880"/>
            <a:ext cx="251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g-00, wg-01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4" idx="2"/>
            <a:endCxn id="64" idx="3"/>
          </p:cNvCxnSpPr>
          <p:nvPr/>
        </p:nvCxnSpPr>
        <p:spPr>
          <a:xfrm flipH="1" flipV="1" rot="5400000">
            <a:off x="3552120" y="3916800"/>
            <a:ext cx="184680" cy="1256760"/>
          </a:xfrm>
          <a:prstGeom prst="bentConnector4">
            <a:avLst>
              <a:gd name="adj1" fmla="val -123046"/>
              <a:gd name="adj2" fmla="val 11805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572000" y="45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9800" y="5254560"/>
            <a:ext cx="200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G last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54640" y="6335640"/>
            <a:ext cx="200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 for pu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3" idx="2"/>
            <a:endCxn id="67" idx="1"/>
          </p:cNvCxnSpPr>
          <p:nvPr/>
        </p:nvCxnSpPr>
        <p:spPr>
          <a:xfrm flipH="1" rot="16200000">
            <a:off x="3243960" y="5324040"/>
            <a:ext cx="882000" cy="15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42" idx="3"/>
            <a:endCxn id="70" idx="1"/>
          </p:cNvCxnSpPr>
          <p:nvPr/>
        </p:nvCxnSpPr>
        <p:spPr>
          <a:xfrm flipV="1">
            <a:off x="3538440" y="3941640"/>
            <a:ext cx="615600" cy="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4153680" y="3757680"/>
            <a:ext cx="402120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U-T SG and Questio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73600" y="5133960"/>
            <a:ext cx="237528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to 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ITU-T SG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stio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3" idx="3"/>
            <a:endCxn id="71" idx="1"/>
          </p:cNvCxnSpPr>
          <p:nvPr/>
        </p:nvCxnSpPr>
        <p:spPr>
          <a:xfrm>
            <a:off x="3919320" y="5454000"/>
            <a:ext cx="1754640" cy="1386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884720" y="2133720"/>
            <a:ext cx="100368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U-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 h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6" idx="0"/>
            <a:endCxn id="70" idx="2"/>
          </p:cNvCxnSpPr>
          <p:nvPr/>
        </p:nvCxnSpPr>
        <p:spPr>
          <a:xfrm flipV="1">
            <a:off x="5073840" y="4125960"/>
            <a:ext cx="1090800" cy="383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5" name=""/>
          <p:cNvCxnSpPr>
            <a:stCxn id="62" idx="3"/>
            <a:endCxn id="73" idx="2"/>
          </p:cNvCxnSpPr>
          <p:nvPr/>
        </p:nvCxnSpPr>
        <p:spPr>
          <a:xfrm flipV="1">
            <a:off x="7252200" y="2776320"/>
            <a:ext cx="1134720" cy="6703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>
            <a:stCxn id="45" idx="3"/>
            <a:endCxn id="73" idx="1"/>
          </p:cNvCxnSpPr>
          <p:nvPr/>
        </p:nvCxnSpPr>
        <p:spPr>
          <a:xfrm>
            <a:off x="6939000" y="2444040"/>
            <a:ext cx="946080" cy="1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7074720" y="2125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00160" y="284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6360" y="29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3080" y="334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07440" y="3357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18720" y="47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4920" y="47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54720" y="514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5480" y="29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640" y="5799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7080" y="414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48880" y="3924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vidual mpls-tp documents may take different paths through the this process, intially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) They may be intended for and managed by a working gro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2) They may be be coordinated by the MEAD t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3) They may be “invented” by the MEAD team based on the jwt deci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4) Everytime a document is accepted by the MEAD team into the set of documents coordinated by the MEAD team a note is sent to the MPLS-TP ad hoc team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5) At any time it is possible for the MPLS-TP ad hoc tem to send review comments on MEAD team documents, or for the MEAD team to ask for such commen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6) A working group or the MEAD team may issue a request general comments on MPLS-TP documents at any time, if it is deemed appropriate to extend these requests to the MPLS-TP ad hoc team this is done via a note according to (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7) If a MPLS-TP document is mature enough to become a working group document a poll is done on the mpls-tp mailing list and the appropriate wg mailing list. Optionally a note is sent to the MPLS-TP ad hov te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8)  Every time a document is accepted as a working group document the MPLS-TP ad hoc team is notifi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9)  Working group documents may be reviewed in several steps, every time such a review is initiated the MPLS-TP ad hoc team is notified (10)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ote that most reviews that leads to updates of working group documents are spontaneous individual comments from participatnts in the MPLS-TP effor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0) Every time a review is initiated by a working group the appropriate ITU-T SG and Q's will be notified by a mail to the MPLS-TP ad hoc tea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1) When a document is deemed to mature enough a working group last call is initiated, at this ti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2) a request for review is sent the appropriate ITU-T SG and Q's will be notified by a mail to the MPLS-TP ad hoc team. Note that this request is different from any other notifications sent to the MPLS-TP ad hoc team, for this request for comments the MPLS-TP ad hoc team is required to organize the ITU-T SG and Question review in such a way that a response by correspondence is response within the period of working group last cal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3) When all last call are addressed and responded to a request for publication will be sent to the IESG. The document after this point in time handled as any other IETF document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ote: WG last call may be re-iter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5:22:59Z</dcterms:created>
  <dc:creator>Loa Andersson</dc:creator>
  <dc:description/>
  <dc:language>en-US</dc:language>
  <cp:lastModifiedBy>Loa Andersson</cp:lastModifiedBy>
  <dcterms:modified xsi:type="dcterms:W3CDTF">2009-01-02T17:17:33Z</dcterms:modified>
  <cp:revision>11</cp:revision>
  <dc:subject/>
  <dc:title>draft-ietf-mpls-cosfield-def-04</dc:title>
</cp:coreProperties>
</file>