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20D-0F90-4987-9FF2-6DD748F4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7C8-16B2-4BA2-808E-61BAE29B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796-EA93-46AE-A87C-CB5B976D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773-B806-4827-BABE-CAA8BFB4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5B6-10F5-4EFC-A3B1-18C0CB57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218-70BC-46D7-BC1A-3DF914F2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D0E-E472-4415-A5F2-D7742C87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BD3-2AF0-49B0-A643-0798E642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CD9A-5030-4EC6-B4FD-96B0AE17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D92-12E9-4EEB-9F8D-A78CEDBD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834-F21D-4B97-9102-DC1C602A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0D7-EE52-4C85-B94E-D9B159BE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B1E2C-1657-4214-8883-5826426EDB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C42AD-1371-44BC-A0D8-5B825C694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2438280" y="1230480"/>
            <a:ext cx="15242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-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438280" y="2133720"/>
            <a:ext cx="2971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-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438280" y="1676520"/>
            <a:ext cx="152424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W/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3200400" y="762120"/>
            <a:ext cx="7621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-CP(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2438280" y="76212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3962520" y="1676520"/>
            <a:ext cx="1447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W/G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962520" y="1219320"/>
            <a:ext cx="1447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-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8"/>
          <p:cNvSpPr/>
          <p:nvPr/>
        </p:nvSpPr>
        <p:spPr>
          <a:xfrm>
            <a:off x="5562720" y="190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- = Server MPLS layer network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- = Client MPLS layer network (</a:t>
            </a: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 = whatever is running over the Client MPLS laye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P = Control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1"/>
          <p:cNvSpPr/>
          <p:nvPr/>
        </p:nvSpPr>
        <p:spPr>
          <a:xfrm>
            <a:off x="2057400" y="1230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4"/>
          <p:cNvSpPr/>
          <p:nvPr/>
        </p:nvSpPr>
        <p:spPr>
          <a:xfrm>
            <a:off x="0" y="1001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LS over MPLS-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7"/>
          <p:cNvSpPr/>
          <p:nvPr/>
        </p:nvSpPr>
        <p:spPr>
          <a:xfrm>
            <a:off x="152280" y="17524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ld use S=1 instead of P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38"/>
          <p:cNvCxnSpPr/>
          <p:nvPr/>
        </p:nvCxnSpPr>
        <p:spPr>
          <a:xfrm>
            <a:off x="2057400" y="1905120"/>
            <a:ext cx="381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Rectangle 31"/>
          <p:cNvSpPr/>
          <p:nvPr/>
        </p:nvSpPr>
        <p:spPr>
          <a:xfrm>
            <a:off x="2457360" y="3471840"/>
            <a:ext cx="8002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-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2"/>
          <p:cNvSpPr/>
          <p:nvPr/>
        </p:nvSpPr>
        <p:spPr>
          <a:xfrm>
            <a:off x="2457360" y="4400640"/>
            <a:ext cx="2971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-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2457360" y="3943440"/>
            <a:ext cx="152424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W/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4"/>
          <p:cNvSpPr/>
          <p:nvPr/>
        </p:nvSpPr>
        <p:spPr>
          <a:xfrm>
            <a:off x="3238560" y="3471840"/>
            <a:ext cx="7621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-CP(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5"/>
          <p:cNvSpPr/>
          <p:nvPr/>
        </p:nvSpPr>
        <p:spPr>
          <a:xfrm>
            <a:off x="2457360" y="302904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3981600" y="3943440"/>
            <a:ext cx="1447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W/G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3981600" y="3486240"/>
            <a:ext cx="1447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-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2076480" y="349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7"/>
          <p:cNvSpPr/>
          <p:nvPr/>
        </p:nvSpPr>
        <p:spPr>
          <a:xfrm>
            <a:off x="171360" y="40194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quires an MPLS/IP P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41"/>
          <p:cNvCxnSpPr/>
          <p:nvPr/>
        </p:nvCxnSpPr>
        <p:spPr>
          <a:xfrm>
            <a:off x="2076480" y="4172040"/>
            <a:ext cx="381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TextBox 34"/>
          <p:cNvSpPr/>
          <p:nvPr/>
        </p:nvSpPr>
        <p:spPr>
          <a:xfrm>
            <a:off x="152280" y="30290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LS over MPLS-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21:52:42Z</dcterms:created>
  <dc:creator>Benjamin Niven-Jenkins</dc:creator>
  <dc:description/>
  <dc:language>en-US</dc:language>
  <cp:lastModifiedBy>Andrew G. Malis</cp:lastModifiedBy>
  <dcterms:modified xsi:type="dcterms:W3CDTF">2009-01-27T14:44:34Z</dcterms:modified>
  <cp:revision>3</cp:revision>
  <dc:subject/>
  <dc:title>Slide 1</dc:title>
</cp:coreProperties>
</file>