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52C-973C-41A9-B546-9AEB7489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2EF-FAA8-49CC-82A1-BFF76D77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DE3-E688-4F4E-9A61-D89905C1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A72-59D2-4B33-A6FC-F43C0776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630-E711-4919-86D4-9AD5C2F6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68B-C61E-40B3-91CC-16D6BE53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589-C746-4EA2-920C-B854F76E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D5E-BB02-45D1-A429-0FA9D693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1B7-B3C2-4FF8-83A2-78A3D651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D53-4392-43C5-A249-E01B2BB7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FF1-E745-4167-9684-8F618AC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224-E867-462B-A96F-BAA8A9BE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DD739-3BDC-43E7-87C7-8551EF7B9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010AB-BB9F-4B34-9124-BB0C0629A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438280" y="1230480"/>
            <a:ext cx="15242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-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438280" y="2133720"/>
            <a:ext cx="2971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438280" y="1676520"/>
            <a:ext cx="152424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W/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3200400" y="762120"/>
            <a:ext cx="7621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-CP(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2438280" y="76212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962520" y="1676520"/>
            <a:ext cx="1447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W/G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962520" y="1219320"/>
            <a:ext cx="1447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5562720" y="190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 = Server MPLS layer network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- = Client MPLS layer network (</a:t>
            </a: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ice = whatever is running over the Client MPLS layer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P = Control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1"/>
          <p:cNvSpPr/>
          <p:nvPr/>
        </p:nvSpPr>
        <p:spPr>
          <a:xfrm>
            <a:off x="2057400" y="1230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4"/>
          <p:cNvSpPr/>
          <p:nvPr/>
        </p:nvSpPr>
        <p:spPr>
          <a:xfrm>
            <a:off x="0" y="1001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LS over MPLS-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7"/>
          <p:cNvSpPr/>
          <p:nvPr/>
        </p:nvSpPr>
        <p:spPr>
          <a:xfrm>
            <a:off x="152280" y="17524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ld use S=1 instead of P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38"/>
          <p:cNvCxnSpPr/>
          <p:nvPr/>
        </p:nvCxnSpPr>
        <p:spPr>
          <a:xfrm>
            <a:off x="2057400" y="1905120"/>
            <a:ext cx="381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Rectangle 31"/>
          <p:cNvSpPr/>
          <p:nvPr/>
        </p:nvSpPr>
        <p:spPr>
          <a:xfrm>
            <a:off x="2457360" y="3471840"/>
            <a:ext cx="8002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-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2457360" y="4400640"/>
            <a:ext cx="29718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MP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2457360" y="3943440"/>
            <a:ext cx="152424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W/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4"/>
          <p:cNvSpPr/>
          <p:nvPr/>
        </p:nvSpPr>
        <p:spPr>
          <a:xfrm>
            <a:off x="3238560" y="3471840"/>
            <a:ext cx="7621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-CP(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2457360" y="302904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3981600" y="3943440"/>
            <a:ext cx="1447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W/G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3981600" y="3486240"/>
            <a:ext cx="1447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-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2076480" y="349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7"/>
          <p:cNvSpPr/>
          <p:nvPr/>
        </p:nvSpPr>
        <p:spPr>
          <a:xfrm>
            <a:off x="171360" y="40194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quires an MPLS/IP P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41"/>
          <p:cNvCxnSpPr/>
          <p:nvPr/>
        </p:nvCxnSpPr>
        <p:spPr>
          <a:xfrm>
            <a:off x="2076480" y="4172040"/>
            <a:ext cx="381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Box 34"/>
          <p:cNvSpPr/>
          <p:nvPr/>
        </p:nvSpPr>
        <p:spPr>
          <a:xfrm>
            <a:off x="152280" y="30290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LS over MPLS-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1:52:42Z</dcterms:created>
  <dc:creator>Benjamin Niven-Jenkins</dc:creator>
  <dc:description/>
  <dc:language>en-US</dc:language>
  <cp:lastModifiedBy>Andrew G. Malis</cp:lastModifiedBy>
  <dcterms:modified xsi:type="dcterms:W3CDTF">2009-01-27T14:44:34Z</dcterms:modified>
  <cp:revision>3</cp:revision>
  <dc:subject/>
  <dc:title>Slide 1</dc:title>
</cp:coreProperties>
</file>