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CB4-7F44-4873-B4F7-EB9E549B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308-4517-4006-A253-86C2CF0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BF4-AAE9-4C4A-A461-F3B3CD0B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08F-E114-4832-835D-A10804F6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030-B3CB-4079-913A-CBD42D9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257-8B4A-4CD1-A586-C391E63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8FF-C5A4-4700-A48E-A0C8C6EA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2F1-886F-490A-A630-978C8E4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86C-1AC0-4726-919F-6011C1C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24E-FC7F-4E94-9265-C53DE0B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34B-A6E8-49EA-AB18-E07AB2C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2EF-B702-4820-988A-5824E09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6E2-4775-4DA0-96CA-6649A258ED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63640" y="134136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굴림"/>
              </a:rPr>
              <a:t>Name Based Sockets -Shim6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draft-xu-name-shim6-00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Mingwei Xu, Zhongxing M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singhua Univers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Javior Ubillo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wedish Institute of Computer Scien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hristian Vog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Ericss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pic>
        <p:nvPicPr>
          <p:cNvPr id="43" name="직사각형 42" descr=""/>
          <p:cNvPicPr/>
          <p:nvPr/>
        </p:nvPicPr>
        <p:blipFill>
          <a:blip r:embed="rId2"/>
          <a:stretch/>
        </p:blipFill>
        <p:spPr>
          <a:xfrm>
            <a:off x="-60480" y="55440"/>
            <a:ext cx="29433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sp>
        <p:nvSpPr>
          <p:cNvPr id="45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We develop a Linux based NBS-Shim6     prototype to prove the concep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NBS benefits but does not depend on Shim6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Modifications are made to the kernel to     implement NBS &amp; Shim6 protocol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Small, but necessar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Daemons are developed in user space to  run the prototyp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굴림"/>
                <a:ea typeface="굴림"/>
              </a:rPr>
              <a:t>Name based TCP, multihoming, mobilit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42" descr=""/>
          <p:cNvPicPr/>
          <p:nvPr/>
        </p:nvPicPr>
        <p:blipFill>
          <a:blip r:embed="rId2"/>
          <a:stretch/>
        </p:blipFill>
        <p:spPr>
          <a:xfrm>
            <a:off x="-66600" y="55440"/>
            <a:ext cx="27604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62GIT&amp;C001(title-bar)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직사각형 42" descr=""/>
          <p:cNvPicPr/>
          <p:nvPr/>
        </p:nvPicPr>
        <p:blipFill>
          <a:blip r:embed="rId2"/>
          <a:stretch/>
        </p:blipFill>
        <p:spPr>
          <a:xfrm>
            <a:off x="-66600" y="55440"/>
            <a:ext cx="2779560" cy="773280"/>
          </a:xfrm>
          <a:prstGeom prst="rect">
            <a:avLst/>
          </a:prstGeom>
          <a:ln w="0">
            <a:noFill/>
          </a:ln>
        </p:spPr>
      </p:pic>
      <p:sp>
        <p:nvSpPr>
          <p:cNvPr id="49" name="内容占位符 2"/>
          <p:cNvSpPr/>
          <p:nvPr/>
        </p:nvSpPr>
        <p:spPr>
          <a:xfrm>
            <a:off x="312840" y="1600200"/>
            <a:ext cx="850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ore efficient Shim6 implementation is needed to improve the recovery speed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ore investigation is needed on using  D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Cache mechanism, load pressure, query spe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urity needs to be carefully considered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Same security as Shim6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  <a:ea typeface="굴림"/>
              </a:rPr>
              <a:t>DNSSEC sufficient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0:51:41Z</dcterms:created>
  <dc:creator>　</dc:creator>
  <dc:description/>
  <dc:language>en-US</dc:language>
  <cp:lastModifiedBy>Ming</cp:lastModifiedBy>
  <dcterms:modified xsi:type="dcterms:W3CDTF">2010-11-07T14:01:38Z</dcterms:modified>
  <cp:revision>115</cp:revision>
  <dc:subject/>
  <dc:title>슬라이드 1</dc:title>
</cp:coreProperties>
</file>