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C83-1F18-46E3-949F-A2F2DBEC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F3D-AC43-41E7-B88B-65269405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A2C-A737-4D39-B1A2-35407C35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E67-EF3B-4A45-B452-7B51A6B4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3FC-4F95-416E-952F-62ACB49F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DEC-5385-4E5C-91D6-E153EA4E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092-F556-458C-88CE-EA494E53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BE7-65E8-46EB-A1A9-8D620D71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886-8094-468E-8182-9F51928A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6AB-0144-4595-B6BA-C49546A0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A5B-446F-4032-BE7C-EF1CCBE8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44D-85A6-4560-83CA-107F706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E509-1AEB-479B-B2F3-7C70DDFD7D6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63640" y="134136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굴림"/>
              </a:rPr>
              <a:t>Name Based Sockets -Shim6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draft-xu-name-shim6-00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Mingwei Xu, Zhongxing M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singhua Universit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Javior Ubillo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Swedish Institute of Computer Scien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Christian Vog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Ericss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Picture 4" descr="M62GIT&amp;C001(title-bar)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76480"/>
          </a:xfrm>
          <a:prstGeom prst="rect">
            <a:avLst/>
          </a:prstGeom>
          <a:ln w="0">
            <a:noFill/>
          </a:ln>
        </p:spPr>
      </p:pic>
      <p:pic>
        <p:nvPicPr>
          <p:cNvPr id="43" name="직사각형 42" descr=""/>
          <p:cNvPicPr/>
          <p:nvPr/>
        </p:nvPicPr>
        <p:blipFill>
          <a:blip r:embed="rId2"/>
          <a:stretch/>
        </p:blipFill>
        <p:spPr>
          <a:xfrm>
            <a:off x="-60480" y="55440"/>
            <a:ext cx="294336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62GIT&amp;C001(title-bar)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76480"/>
          </a:xfrm>
          <a:prstGeom prst="rect">
            <a:avLst/>
          </a:prstGeom>
          <a:ln w="0">
            <a:noFill/>
          </a:ln>
        </p:spPr>
      </p:pic>
      <p:sp>
        <p:nvSpPr>
          <p:cNvPr id="45" name="内容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We develop a Linux based NBS-Shim6     prototype to prove the concep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굴림"/>
                <a:ea typeface="굴림"/>
              </a:rPr>
              <a:t>NBS benefits but does not depend on Shim6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Modifications are made to the kernel to     implement NBS &amp; Shim6 protocol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굴림"/>
                <a:ea typeface="굴림"/>
              </a:rPr>
              <a:t>Small, but necessar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Daemons are developed in user space to  run the prototype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굴림"/>
                <a:ea typeface="굴림"/>
              </a:rPr>
              <a:t>Name based TCP, multihoming, mobilit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직사각형 42" descr=""/>
          <p:cNvPicPr/>
          <p:nvPr/>
        </p:nvPicPr>
        <p:blipFill>
          <a:blip r:embed="rId2"/>
          <a:stretch/>
        </p:blipFill>
        <p:spPr>
          <a:xfrm>
            <a:off x="-66600" y="55440"/>
            <a:ext cx="276048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62GIT&amp;C001(title-bar)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76480"/>
          </a:xfrm>
          <a:prstGeom prst="rect">
            <a:avLst/>
          </a:prstGeom>
          <a:ln w="0">
            <a:noFill/>
          </a:ln>
        </p:spPr>
      </p:pic>
      <p:pic>
        <p:nvPicPr>
          <p:cNvPr id="48" name="직사각형 42" descr=""/>
          <p:cNvPicPr/>
          <p:nvPr/>
        </p:nvPicPr>
        <p:blipFill>
          <a:blip r:embed="rId2"/>
          <a:stretch/>
        </p:blipFill>
        <p:spPr>
          <a:xfrm>
            <a:off x="-66600" y="55440"/>
            <a:ext cx="2779560" cy="773280"/>
          </a:xfrm>
          <a:prstGeom prst="rect">
            <a:avLst/>
          </a:prstGeom>
          <a:ln w="0">
            <a:noFill/>
          </a:ln>
        </p:spPr>
      </p:pic>
      <p:sp>
        <p:nvSpPr>
          <p:cNvPr id="49" name="内容占位符 2"/>
          <p:cNvSpPr/>
          <p:nvPr/>
        </p:nvSpPr>
        <p:spPr>
          <a:xfrm>
            <a:off x="312840" y="1600200"/>
            <a:ext cx="850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More efficient Shim6 implementation is needed to improve the recovery speed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More investigation is needed on using  D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  <a:ea typeface="굴림"/>
              </a:rPr>
              <a:t>Cache mechanism, load pressure, query spe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urity needs to be carefully considered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  <a:ea typeface="굴림"/>
              </a:rPr>
              <a:t>Same security as Shim6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  <a:ea typeface="굴림"/>
              </a:rPr>
              <a:t>DNSSEC sufficient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0:51:41Z</dcterms:created>
  <dc:creator>　</dc:creator>
  <dc:description/>
  <dc:language>en-US</dc:language>
  <cp:lastModifiedBy>Ming</cp:lastModifiedBy>
  <dcterms:modified xsi:type="dcterms:W3CDTF">2010-11-07T14:01:38Z</dcterms:modified>
  <cp:revision>115</cp:revision>
  <dc:subject/>
  <dc:title>슬라이드 1</dc:title>
</cp:coreProperties>
</file>