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25192038" cy="35999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2230560" y="685440"/>
            <a:ext cx="239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FC69-2579-477B-A0B2-57C1B292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32C0-C99B-40CE-B3F2-93E5019D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230560" y="685800"/>
            <a:ext cx="2396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25192080" cy="3027240"/>
          </a:xfrm>
          <a:prstGeom prst="rect">
            <a:avLst/>
          </a:prstGeom>
          <a:solidFill>
            <a:srgbClr val="5ecc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536400" y="3583080"/>
            <a:ext cx="1193508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14"/>
          <p:cNvSpPr/>
          <p:nvPr/>
        </p:nvSpPr>
        <p:spPr>
          <a:xfrm>
            <a:off x="536400" y="35483760"/>
            <a:ext cx="16560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b4dcfa"/>
                </a:solidFill>
                <a:latin typeface="Arial"/>
              </a:rPr>
              <a:t>TEMPLATE DESIGN © 2007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b4dcfa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5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212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40"/>
          <p:cNvSpPr/>
          <p:nvPr/>
        </p:nvSpPr>
        <p:spPr>
          <a:xfrm>
            <a:off x="12876120" y="3583080"/>
            <a:ext cx="1173816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44"/>
          <p:cNvSpPr/>
          <p:nvPr/>
        </p:nvSpPr>
        <p:spPr>
          <a:xfrm>
            <a:off x="0" y="3027240"/>
            <a:ext cx="25192080" cy="0"/>
          </a:xfrm>
          <a:prstGeom prst="line">
            <a:avLst/>
          </a:prstGeom>
          <a:ln w="2030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356400" tIns="-356400" bIns="-3564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6400" y="5256360"/>
            <a:ext cx="572616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6400" y="5256000"/>
            <a:ext cx="57261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595920" y="5256360"/>
            <a:ext cx="119174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883440" y="5256360"/>
            <a:ext cx="57308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96720" y="5256360"/>
            <a:ext cx="243176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6360" y="5256000"/>
            <a:ext cx="242175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96720" y="1944720"/>
            <a:ext cx="24311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Black"/>
              </a:rPr>
              <a:t>Acronym – Name of BOF</a:t>
            </a:r>
            <a:endParaRPr b="0" lang="en-US" sz="5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 Box 472"/>
          <p:cNvSpPr/>
          <p:nvPr/>
        </p:nvSpPr>
        <p:spPr>
          <a:xfrm>
            <a:off x="1671480" y="5322960"/>
            <a:ext cx="21626640" cy="12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760" rIns="356760" tIns="356760" bIns="356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Acronym – Name of BoF</a:t>
            </a:r>
            <a:endParaRPr b="0" lang="en-US" sz="1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ate: 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oom: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escription: 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Picture 1" descr="IETF_Logo_EPS_4-24-07.eps"/>
          <p:cNvPicPr/>
          <p:nvPr/>
        </p:nvPicPr>
        <p:blipFill>
          <a:blip r:embed="rId2"/>
          <a:stretch/>
        </p:blipFill>
        <p:spPr>
          <a:xfrm>
            <a:off x="9858240" y="2111400"/>
            <a:ext cx="5526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Cindy Morgan</cp:lastModifiedBy>
  <dcterms:modified xsi:type="dcterms:W3CDTF">2016-10-06T21:04:23Z</dcterms:modified>
  <cp:revision>187</cp:revision>
  <dc:subject>Free PowerPoint poster templates</dc:subject>
  <dc:title>70cm x 100cm Poster Template</dc:title>
</cp:coreProperties>
</file>