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25192038" cy="35999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2230560" y="685440"/>
            <a:ext cx="239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00AB-C4E2-4CCC-9A0E-F697ACB5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A75A-7925-4F7B-A2B8-0929A444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230560" y="685800"/>
            <a:ext cx="2396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92548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6591320" y="842400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5964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892548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16591320" y="19329840"/>
            <a:ext cx="73004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2600" y="296640"/>
            <a:ext cx="24061680" cy="115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877560" y="1932984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964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877560" y="8424000"/>
            <a:ext cx="110642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9640" y="19329840"/>
            <a:ext cx="2267316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25192080" cy="3027240"/>
          </a:xfrm>
          <a:prstGeom prst="rect">
            <a:avLst/>
          </a:prstGeom>
          <a:solidFill>
            <a:srgbClr val="5ecc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536400" y="3583080"/>
            <a:ext cx="11935080" cy="31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Text Box 14"/>
          <p:cNvSpPr/>
          <p:nvPr/>
        </p:nvSpPr>
        <p:spPr>
          <a:xfrm>
            <a:off x="536400" y="35483760"/>
            <a:ext cx="16560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b4dcfa"/>
                </a:solidFill>
                <a:latin typeface="Arial"/>
              </a:rPr>
              <a:t>TEMPLATE DESIGN © 2007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b4dcfa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2600" y="296640"/>
            <a:ext cx="24061680" cy="249228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6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Rectangle 25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212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40"/>
          <p:cNvSpPr/>
          <p:nvPr/>
        </p:nvSpPr>
        <p:spPr>
          <a:xfrm>
            <a:off x="12876120" y="3583080"/>
            <a:ext cx="11738160" cy="316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Line 44"/>
          <p:cNvSpPr/>
          <p:nvPr/>
        </p:nvSpPr>
        <p:spPr>
          <a:xfrm>
            <a:off x="0" y="3027240"/>
            <a:ext cx="25192080" cy="0"/>
          </a:xfrm>
          <a:prstGeom prst="line">
            <a:avLst/>
          </a:prstGeom>
          <a:ln w="2030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0" rIns="356400" tIns="-356400" bIns="-356400" anchor="t">
            <a:noAutofit/>
          </a:bodyPr>
          <a:p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25192080" cy="460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6400" y="5256360"/>
            <a:ext cx="572616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603680"/>
            <a:ext cx="25192080" cy="1414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49200" y="35483760"/>
            <a:ext cx="1444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600" y="1392120"/>
            <a:ext cx="24061680" cy="2408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6400" y="5256000"/>
            <a:ext cx="5726160" cy="29962440"/>
          </a:xfrm>
          <a:prstGeom prst="rect">
            <a:avLst/>
          </a:prstGeom>
          <a:noFill/>
          <a:ln w="0">
            <a:noFill/>
          </a:ln>
        </p:spPr>
        <p:txBody>
          <a:bodyPr lIns="351720" rIns="351720" tIns="351720" bIns="351720" anchor="t">
            <a:normAutofit/>
          </a:bodyPr>
          <a:p>
            <a:pPr marL="263520" indent="-263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595920" y="5256360"/>
            <a:ext cx="119174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883440" y="5256360"/>
            <a:ext cx="57308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5192080" cy="460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96720" y="5256360"/>
            <a:ext cx="24317640" cy="2996244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4603680"/>
            <a:ext cx="25192080" cy="1414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49200" y="35483760"/>
            <a:ext cx="1444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4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437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2600" y="1392120"/>
            <a:ext cx="24061680" cy="2408400"/>
          </a:xfrm>
          <a:prstGeom prst="rect">
            <a:avLst/>
          </a:prstGeom>
          <a:noFill/>
          <a:ln w="0">
            <a:noFill/>
          </a:ln>
        </p:spPr>
        <p:txBody>
          <a:bodyPr lIns="70200" rIns="70200" tIns="35280" bIns="35280" anchor="ctr">
            <a:noAutofit/>
          </a:bodyPr>
          <a:p>
            <a:pPr indent="0" algn="ctr">
              <a:buNone/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96360" y="5256000"/>
            <a:ext cx="24217560" cy="29962440"/>
          </a:xfrm>
          <a:prstGeom prst="rect">
            <a:avLst/>
          </a:prstGeom>
          <a:noFill/>
          <a:ln w="0">
            <a:noFill/>
          </a:ln>
        </p:spPr>
        <p:txBody>
          <a:bodyPr lIns="351720" rIns="351720" tIns="351720" bIns="351720" anchor="t">
            <a:normAutofit/>
          </a:bodyPr>
          <a:p>
            <a:pPr marL="263520" indent="-2635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188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0920" indent="-1760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64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85800" indent="-1760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25192080" cy="3599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96720" y="1944720"/>
            <a:ext cx="24311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200" rIns="70200" tIns="35280" bIns="35280" anchor="t">
            <a:spAutoFit/>
          </a:bodyPr>
          <a:p>
            <a:pPr algn="ctr">
              <a:lnSpc>
                <a:spcPct val="100000"/>
              </a:lnSpc>
              <a:spcBef>
                <a:spcPts val="3186"/>
              </a:spcBef>
              <a:tabLst>
                <a:tab algn="l" pos="0"/>
                <a:tab algn="l" pos="704880"/>
                <a:tab algn="l" pos="1409760"/>
                <a:tab algn="l" pos="2114640"/>
                <a:tab algn="l" pos="2819520"/>
                <a:tab algn="l" pos="3524400"/>
                <a:tab algn="l" pos="4229280"/>
                <a:tab algn="l" pos="4933800"/>
                <a:tab algn="l" pos="5638680"/>
                <a:tab algn="l" pos="6343560"/>
                <a:tab algn="l" pos="7048440"/>
                <a:tab algn="l" pos="7753320"/>
                <a:tab algn="l" pos="8458200"/>
                <a:tab algn="l" pos="9163080"/>
                <a:tab algn="l" pos="9867960"/>
                <a:tab algn="l" pos="1057284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 Black"/>
              </a:rPr>
              <a:t>Acronym – Name of BOF</a:t>
            </a:r>
            <a:endParaRPr b="0" lang="en-US" sz="5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Text Box 472"/>
          <p:cNvSpPr/>
          <p:nvPr/>
        </p:nvSpPr>
        <p:spPr>
          <a:xfrm>
            <a:off x="1671480" y="5322960"/>
            <a:ext cx="21626640" cy="127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760" rIns="356760" tIns="356760" bIns="356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"/>
              </a:rPr>
              <a:t>Acronym – Name of BoF</a:t>
            </a:r>
            <a:endParaRPr b="0" lang="en-US" sz="1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ate: 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oom: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hairs: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81480"/>
                <a:tab algn="l" pos="6762600"/>
                <a:tab algn="l" pos="1014408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escription: 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Picture 1" descr="IETF_Logo_EPS_4-24-07.eps"/>
          <p:cNvPicPr/>
          <p:nvPr/>
        </p:nvPicPr>
        <p:blipFill>
          <a:blip r:embed="rId2"/>
          <a:stretch/>
        </p:blipFill>
        <p:spPr>
          <a:xfrm>
            <a:off x="9858240" y="2111400"/>
            <a:ext cx="5526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Cindy Morgan</cp:lastModifiedBy>
  <dcterms:modified xsi:type="dcterms:W3CDTF">2016-10-06T21:04:23Z</dcterms:modified>
  <cp:revision>187</cp:revision>
  <dc:subject>Free PowerPoint poster templates</dc:subject>
  <dc:title>70cm x 100cm Poster Template</dc:title>
</cp:coreProperties>
</file>