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25192038" cy="359997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2230560" y="685440"/>
            <a:ext cx="2396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848B-A1D2-46B3-8BB7-2EE85AD85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DBBC-D25F-4478-86A5-166C1EB28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230560" y="685800"/>
            <a:ext cx="239688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59640" y="1932984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87756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92548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59132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5964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892548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1659132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59640" y="8424000"/>
            <a:ext cx="2267316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2267316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52600" y="296640"/>
            <a:ext cx="24061680" cy="115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59640" y="8424000"/>
            <a:ext cx="2267316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87756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59640" y="1932984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87756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92548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59132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5964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892548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1659132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59640" y="8424000"/>
            <a:ext cx="2267316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2267316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2267316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52600" y="296640"/>
            <a:ext cx="24061680" cy="115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87756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59640" y="1932984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287756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92548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659132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5964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892548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1659132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2600" y="296640"/>
            <a:ext cx="24061680" cy="115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87756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6"/>
          <p:cNvSpPr/>
          <p:nvPr/>
        </p:nvSpPr>
        <p:spPr>
          <a:xfrm>
            <a:off x="0" y="0"/>
            <a:ext cx="25192080" cy="3027240"/>
          </a:xfrm>
          <a:prstGeom prst="rect">
            <a:avLst/>
          </a:prstGeom>
          <a:solidFill>
            <a:srgbClr val="5ecc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536400" y="3583080"/>
            <a:ext cx="11935080" cy="316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Text Box 14"/>
          <p:cNvSpPr/>
          <p:nvPr/>
        </p:nvSpPr>
        <p:spPr>
          <a:xfrm>
            <a:off x="536400" y="35483760"/>
            <a:ext cx="16560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>
              <a:lnSpc>
                <a:spcPct val="65000"/>
              </a:lnSpc>
              <a:spcBef>
                <a:spcPts val="2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400" spc="-1" strike="noStrike">
                <a:solidFill>
                  <a:srgbClr val="b4dcfa"/>
                </a:solidFill>
                <a:latin typeface="Arial"/>
              </a:rPr>
              <a:t>TEMPLATE DESIGN © 2007</a:t>
            </a:r>
            <a:endParaRPr b="0" lang="en-US" sz="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437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700" spc="-1" strike="noStrike">
                <a:solidFill>
                  <a:srgbClr val="b4dcfa"/>
                </a:solidFill>
                <a:latin typeface="Arial"/>
              </a:rPr>
              <a:t>www.PosterPresentations.com</a:t>
            </a:r>
            <a:endParaRPr b="0" lang="en-US" sz="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Rectangle 25"/>
          <p:cNvSpPr/>
          <p:nvPr/>
        </p:nvSpPr>
        <p:spPr>
          <a:xfrm>
            <a:off x="0" y="0"/>
            <a:ext cx="25192080" cy="35999640"/>
          </a:xfrm>
          <a:prstGeom prst="rect">
            <a:avLst/>
          </a:prstGeom>
          <a:noFill/>
          <a:ln w="3240">
            <a:solidFill>
              <a:srgbClr val="212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40"/>
          <p:cNvSpPr/>
          <p:nvPr/>
        </p:nvSpPr>
        <p:spPr>
          <a:xfrm>
            <a:off x="12876120" y="3583080"/>
            <a:ext cx="11738160" cy="316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Line 44"/>
          <p:cNvSpPr/>
          <p:nvPr/>
        </p:nvSpPr>
        <p:spPr>
          <a:xfrm>
            <a:off x="0" y="3027240"/>
            <a:ext cx="25192080" cy="0"/>
          </a:xfrm>
          <a:prstGeom prst="line">
            <a:avLst/>
          </a:prstGeom>
          <a:ln w="2030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56400" rIns="356400" tIns="-356400" bIns="-3564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25192080" cy="460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36400" y="5256360"/>
            <a:ext cx="5726160" cy="2996244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4603680"/>
            <a:ext cx="25192080" cy="14148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49200" y="35483760"/>
            <a:ext cx="14446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>
              <a:lnSpc>
                <a:spcPct val="65000"/>
              </a:lnSpc>
              <a:spcBef>
                <a:spcPts val="2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400" spc="-1" strike="noStrike">
                <a:solidFill>
                  <a:srgbClr val="808080"/>
                </a:solidFill>
                <a:latin typeface="Arial"/>
              </a:rPr>
              <a:t>POSTER TEMPLATE BY:</a:t>
            </a:r>
            <a:endParaRPr b="0" lang="en-US" sz="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437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www.PosterPresentations.com</a:t>
            </a:r>
            <a:endParaRPr b="0" lang="en-US" sz="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52600" y="1392120"/>
            <a:ext cx="24061680" cy="24084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6400" y="5256000"/>
            <a:ext cx="5726160" cy="29962440"/>
          </a:xfrm>
          <a:prstGeom prst="rect">
            <a:avLst/>
          </a:prstGeom>
          <a:noFill/>
          <a:ln w="0">
            <a:noFill/>
          </a:ln>
        </p:spPr>
        <p:txBody>
          <a:bodyPr lIns="351720" rIns="351720" tIns="351720" bIns="351720" anchor="t">
            <a:normAutofit/>
          </a:bodyPr>
          <a:p>
            <a:pPr marL="263520" indent="-2635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18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0920" indent="-1760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6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85800" indent="-1760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85800" indent="-1760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85800" indent="-1760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0"/>
            <a:ext cx="25192080" cy="35999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6595920" y="5256360"/>
            <a:ext cx="11917440" cy="2996244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883440" y="5256360"/>
            <a:ext cx="5730840" cy="2996244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25192080" cy="460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96720" y="5256360"/>
            <a:ext cx="24317640" cy="2996244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4603680"/>
            <a:ext cx="25192080" cy="14148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49200" y="35483760"/>
            <a:ext cx="14446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>
              <a:lnSpc>
                <a:spcPct val="65000"/>
              </a:lnSpc>
              <a:spcBef>
                <a:spcPts val="2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400" spc="-1" strike="noStrike">
                <a:solidFill>
                  <a:srgbClr val="808080"/>
                </a:solidFill>
                <a:latin typeface="Arial"/>
              </a:rPr>
              <a:t>POSTER TEMPLATE BY:</a:t>
            </a:r>
            <a:endParaRPr b="0" lang="en-US" sz="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437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www.PosterPresentations.com</a:t>
            </a:r>
            <a:endParaRPr b="0" lang="en-US" sz="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52600" y="1392120"/>
            <a:ext cx="24061680" cy="24084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96360" y="5256000"/>
            <a:ext cx="24217560" cy="29962440"/>
          </a:xfrm>
          <a:prstGeom prst="rect">
            <a:avLst/>
          </a:prstGeom>
          <a:noFill/>
          <a:ln w="0">
            <a:noFill/>
          </a:ln>
        </p:spPr>
        <p:txBody>
          <a:bodyPr lIns="351720" rIns="351720" tIns="351720" bIns="351720" anchor="t">
            <a:normAutofit/>
          </a:bodyPr>
          <a:p>
            <a:pPr marL="263520" indent="-2635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18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0920" indent="-1760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6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85800" indent="-1760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85800" indent="-1760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85800" indent="-1760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0"/>
            <a:ext cx="25192080" cy="35999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sterpresentations.com/html/helpdesk.html" TargetMode="Externa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96720" y="1944720"/>
            <a:ext cx="2431116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3186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 Black"/>
              </a:rPr>
              <a:t>Acronym – Name of BOF</a:t>
            </a:r>
            <a:endParaRPr b="0" lang="en-US" sz="5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Text Box 471"/>
          <p:cNvSpPr/>
          <p:nvPr/>
        </p:nvSpPr>
        <p:spPr>
          <a:xfrm>
            <a:off x="542880" y="3583080"/>
            <a:ext cx="11928600" cy="49752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Narrow"/>
              </a:rPr>
              <a:t>About this templa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Text Box 472"/>
          <p:cNvSpPr/>
          <p:nvPr/>
        </p:nvSpPr>
        <p:spPr>
          <a:xfrm>
            <a:off x="538200" y="4079880"/>
            <a:ext cx="11933280" cy="69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760" rIns="356760" tIns="356760" bIns="356760" anchor="t">
            <a:spAutoFit/>
          </a:bodyPr>
          <a:p>
            <a:pPr>
              <a:tabLst>
                <a:tab algn="l" pos="0"/>
                <a:tab algn="l" pos="3381480"/>
                <a:tab algn="l" pos="6762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template was designed to produce a 70cm x 100xm post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You can modify it as needed for your presentation,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3381480"/>
                <a:tab algn="l" pos="6762600"/>
                <a:tab algn="l" pos="1014408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y using this template your poster will look professional, easy to read and save you valuable time from figuring out proper placement of titles, subtitles and text body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poster design beginners we have included many helpful tips you can find on the poster template itself. For better understanding of the poster-making process, we have also added a series of helpful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nline tutorial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hat will guide you through the poster design process and answer most of your poster production questions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3381480"/>
                <a:tab algn="l" pos="6762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3381480"/>
                <a:tab algn="l" pos="6762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You can access the online tutorials from our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lpDesk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page at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3381480"/>
                <a:tab algn="l" pos="6762600"/>
                <a:tab algn="l" pos="10144080"/>
              </a:tabLst>
            </a:pPr>
            <a:r>
              <a:rPr b="0" lang="en-US" sz="2400" spc="-1" strike="noStrike" u="sng">
                <a:solidFill>
                  <a:srgbClr val="56c7aa"/>
                </a:solidFill>
                <a:uFillTx/>
                <a:latin typeface="Arial Narrow"/>
                <a:hlinkClick r:id="rId1"/>
              </a:rPr>
              <a:t>http://www.posterpresentations.com/html/helpdesk.htm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3381480"/>
                <a:tab algn="l" pos="6762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copy and paste this link to your browser or press the F5 key on you keyboard and click on the link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further assistance and to order your printed poster call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sterPresentations.c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.866.649.3004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1" name="Picture 589" descr="instructionsEMF"/>
          <p:cNvPicPr/>
          <p:nvPr/>
        </p:nvPicPr>
        <p:blipFill>
          <a:blip r:embed="rId2"/>
          <a:stretch/>
        </p:blipFill>
        <p:spPr>
          <a:xfrm>
            <a:off x="-21042360" y="0"/>
            <a:ext cx="19556280" cy="1955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" descr="IETF_Logo_EPS_4-24-07.eps"/>
          <p:cNvPicPr/>
          <p:nvPr/>
        </p:nvPicPr>
        <p:blipFill>
          <a:blip r:embed="rId3"/>
          <a:stretch/>
        </p:blipFill>
        <p:spPr>
          <a:xfrm>
            <a:off x="10817280" y="173160"/>
            <a:ext cx="330840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1:24:28Z</dcterms:created>
  <dc:creator>A. Kotoulas</dc:creator>
  <dc:description>Non-authorized printing of this poster template by any commercial printing service other than PosterPresentations.com is strictly prohibited.
Non-profit educational printing centers are exempt.
To obtain printing authorization call:
1.866.649.3004
© 2007 Canterbury Media Services, Inc</dc:description>
  <cp:keywords>poster presentation poster design poster template</cp:keywords>
  <dc:language>en-US</dc:language>
  <cp:lastModifiedBy>Maddy Conner</cp:lastModifiedBy>
  <dcterms:modified xsi:type="dcterms:W3CDTF">2014-10-08T20:38:50Z</dcterms:modified>
  <cp:revision>181</cp:revision>
  <dc:subject>Free PowerPoint poster templates</dc:subject>
  <dc:title>70cm x 100cm Poster Template</dc:title>
</cp:coreProperties>
</file>