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514-7EAB-4D9F-A986-0BC099B0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FC30-D8BA-471F-9219-89A56BD7B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110-47FF-48A4-B102-34A9636F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942-BBCE-4B2E-897F-596FDC4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346-EBDE-465E-9B18-5CFBE8F8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599-4D76-4B53-8017-84B1FE14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9DE-5020-4D9D-9E09-A267E71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7B4-8583-4135-B112-9119F04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254-1222-43BB-9889-71B58BF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B80-A941-476E-BAA5-9CA4912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E70-85B2-4283-A06B-D1DB724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45B-906D-44DA-B90E-8A39F6B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21A-DCC5-49A4-A7AF-F0FE502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7AC-ECF1-4B7F-BE3F-9C22766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C28-6AED-45CD-A3CD-DC1288FF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irsky-bier-pmm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Mirsky gregory.mirsky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 vero.zheng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hen mach.chen@huawe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Fioccola giuseppe.fioccola@telecomitalia.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      1                              2        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1  2 3  4 5  6 7  8 9 0 1 2 3 4  5 6 7  8 9 0 1 2  3 4  5 6 7  8 9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0 1 0 1 |   Ver   |   Len    |                         Entropy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                                   BitString  (first 32 bits)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   BIER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                                                                  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                                  BitString  (last 32 bits)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OAM|       Reserved       |  Proto  |                     BFIR-id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 OAM f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S|D|                 S – sing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-+-+                D – double mark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"/>
          <p:cNvSpPr/>
          <p:nvPr/>
        </p:nvSpPr>
        <p:spPr>
          <a:xfrm>
            <a:off x="380880" y="4267080"/>
            <a:ext cx="1067040" cy="99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068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packets based on time interval to measure packet loss by switching value of the S flag. D flag MUST be set to 0 on transmit and ignored on rece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/Last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imestamp of when S flag value flips. Method is sensitive to packet loss and 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acket Delay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timestamps for each packet received within a single block.  Average of the timestamp is the sum of all the timestamps divided by the total number of packets received. Hence minimally impacted  by a packet loss and no impact if packets get re-or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Rectangle 4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620120" y="560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55308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529240" y="5568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705200" y="560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05320" y="558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324160" y="5597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762120" y="5568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 flipV="1">
            <a:off x="7391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4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5"/>
          <p:cNvSpPr/>
          <p:nvPr/>
        </p:nvSpPr>
        <p:spPr>
          <a:xfrm flipV="1">
            <a:off x="1676520" y="518148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Mark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 flag to create batch of packets as in Sing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 flag to create new set of marked packets that are fully identified over the BI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compare timestamps on D-marked packets to calculate packet delay as well as the minimum and maximum dela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762120" y="6086160"/>
            <a:ext cx="77731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Rectangle 5"/>
          <p:cNvSpPr/>
          <p:nvPr/>
        </p:nvSpPr>
        <p:spPr>
          <a:xfrm>
            <a:off x="762120" y="5454720"/>
            <a:ext cx="76176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09680" y="5467320"/>
            <a:ext cx="99072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29000" y="5467320"/>
            <a:ext cx="91440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70520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529240" y="546732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553080" y="5486400"/>
            <a:ext cx="762120" cy="6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620120" y="5467320"/>
            <a:ext cx="761760" cy="600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620120" y="56624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460548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 flipV="1">
            <a:off x="7467480" y="5233680"/>
            <a:ext cx="0" cy="106668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 flipV="1">
            <a:off x="1676520" y="5192640"/>
            <a:ext cx="0" cy="106704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55308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52924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70520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505320" y="5692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2324160" y="569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0, D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62120" y="56642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=1, D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IER sub-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 A applies Double Mark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Rs B, E, and H record timestamps of D-tagged BIER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181400" y="258588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191120" y="3990960"/>
            <a:ext cx="55224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81400" y="52387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4360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94360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66880" y="32385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666880" y="463392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371600" y="3990960"/>
            <a:ext cx="552600" cy="5144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 flipH="1">
            <a:off x="1923840" y="3495600"/>
            <a:ext cx="742680" cy="6904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5"/>
          <p:cNvSpPr/>
          <p:nvPr/>
        </p:nvSpPr>
        <p:spPr>
          <a:xfrm flipH="1">
            <a:off x="3219480" y="2843280"/>
            <a:ext cx="96192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3219480" y="3511440"/>
            <a:ext cx="971640" cy="7365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9"/>
          <p:cNvSpPr/>
          <p:nvPr/>
        </p:nvSpPr>
        <p:spPr>
          <a:xfrm flipH="1" flipV="1">
            <a:off x="4734000" y="2843280"/>
            <a:ext cx="1209600" cy="6523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757760" y="3495600"/>
            <a:ext cx="1185840" cy="776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"/>
          <p:cNvSpPr/>
          <p:nvPr/>
        </p:nvSpPr>
        <p:spPr>
          <a:xfrm flipH="1" flipV="1">
            <a:off x="4743360" y="4248000"/>
            <a:ext cx="1200240" cy="6429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5"/>
          <p:cNvSpPr/>
          <p:nvPr/>
        </p:nvSpPr>
        <p:spPr>
          <a:xfrm>
            <a:off x="1924200" y="4219560"/>
            <a:ext cx="742680" cy="67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3219480" y="4915080"/>
            <a:ext cx="961920" cy="5806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9"/>
          <p:cNvSpPr/>
          <p:nvPr/>
        </p:nvSpPr>
        <p:spPr>
          <a:xfrm flipV="1">
            <a:off x="4743360" y="4890960"/>
            <a:ext cx="120024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1"/>
          <p:cNvSpPr/>
          <p:nvPr/>
        </p:nvSpPr>
        <p:spPr>
          <a:xfrm flipV="1">
            <a:off x="3200400" y="4330800"/>
            <a:ext cx="990720" cy="6048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1371600" y="4052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2666880" y="33116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267804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4181400" y="26589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4205160" y="406404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4181400" y="53118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2"/>
          <p:cNvSpPr/>
          <p:nvPr/>
        </p:nvSpPr>
        <p:spPr>
          <a:xfrm>
            <a:off x="5961240" y="3311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5943600" y="47070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question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by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17:55:00Z</dcterms:modified>
  <cp:revision>59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