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2B0-2EF5-4DC2-98AC-9AF7DFB8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C57E-D259-4B22-B692-31A21C9DB0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2A1-B8BE-458C-B196-A90CA49E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706-DD29-42D8-B388-6C88436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0FE-E32C-4A2E-B745-7823BF80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C78-91E2-4EA6-9E1C-EBFD614F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763-7762-4DE7-98F6-5E2F2802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D7A-00E3-4B0C-90AC-C31EB820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1E5-1CA0-4660-B233-96CD2161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CF3-B608-4FDB-97ED-5153F69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F42-AB71-4052-9667-431AAEB6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F9B-F2EC-442C-B04B-679BCEA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323-1C93-4137-AF2A-13501A3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0C6-2C31-4595-832C-5E48088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3999-ED77-4FF6-8CE3-9A22F60E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ory.mirsky@ericsson.com" TargetMode="External"/><Relationship Id="rId2" Type="http://schemas.openxmlformats.org/officeDocument/2006/relationships/hyperlink" Target="mailto:cpignata@cisco.com" TargetMode="External"/><Relationship Id="rId3" Type="http://schemas.openxmlformats.org/officeDocument/2006/relationships/hyperlink" Target="mailto:naikumar@cisco.com" TargetMode="External"/><Relationship Id="rId4" Type="http://schemas.openxmlformats.org/officeDocument/2006/relationships/hyperlink" Target="mailto:dekumar@cisco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lay OAM Requiremen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ooamdt-rtgwg-ooam-require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g Mirsky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gory.mirsky@ericss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os Pignatar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pignata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gendra Kum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aikumar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epak Kum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kumar@cisco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,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48320" y="3733920"/>
            <a:ext cx="4419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k Nordmark nordmark@acm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Mozes davidm@mellanox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 Chen mach.chen@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osh Pallagatti santosh.pallagatti@gmail.c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NVO3, SFC and BIER WGs on OAM Framework and Requirements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adaptation, extension of existing OAM protocols (BFD in VX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new mechanism (Transcending Tracero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OAM presentation and discussion at IETF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demand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rm Indication Signal (Sup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l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AM independent from a 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node implicitly serves as M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N-azation of Overlay 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 and on-demand OAM created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irectional Overlay OAM (CC and PM) optimization as services (multicast, SFC) are un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M is about what is going in the transport layer and thus it must be in-band , i.e. fate sharing with data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-directional OAM is important too, e.g. CC-CV and out-of-band Fault Managemen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Defect In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vity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 defect loc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tracing through overl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of mapping between overlay network and client lay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MP discovery and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ping/trac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Management Signals like Alarm Indication Signal to suppress client layer alarms when server layer fault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network survivability may use protection switching and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and Active Performance Measurement OAM are complimentary instruments in OOAM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way active and 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way 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calculation of performance metr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delay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put (delivered through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comments from the W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30T20:12:52Z</dcterms:modified>
  <cp:revision>104</cp:revision>
  <dc:subject/>
  <dc:title>MPLS-TP CV Advertisement in PW VCCV draft-mirsky-mpls-tp-cv-adv-00</dc:title>
</cp:coreProperties>
</file>