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6234-5B7F-42EA-B12A-4C97C8F48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EE85-0EF4-488D-BD33-DAFF78A139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4914-159B-4324-8FFE-E7C5D30A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EFE3-6C5A-45F0-B533-6B9E291A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2FCE-7AE8-4D76-A64F-469F9D58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3219-9D57-443E-BE7A-415C8117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1C55-DF12-496E-8E54-8706D38E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7223-B47E-4AD5-87A8-C3325CD2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E24C-6A45-454C-AD70-5176E146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9599-4C50-48D9-A43E-DF203115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121-2658-4F80-AEEA-B26F3533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E2D7-0335-4537-8BD0-8AC5EA4E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A624-4D07-4244-9480-F8A2F424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9A8-504A-493C-934E-253B2E22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AB6E-E37C-48EA-8207-B78576552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regory.mirsky@ericsson.com" TargetMode="External"/><Relationship Id="rId2" Type="http://schemas.openxmlformats.org/officeDocument/2006/relationships/hyperlink" Target="mailto:cpignata@cisco.com" TargetMode="External"/><Relationship Id="rId3" Type="http://schemas.openxmlformats.org/officeDocument/2006/relationships/hyperlink" Target="mailto:naikumar@cisco.com" TargetMode="External"/><Relationship Id="rId4" Type="http://schemas.openxmlformats.org/officeDocument/2006/relationships/hyperlink" Target="mailto:dekumar@cisco.co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lay OAM Requirement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ooamdt-rtgwg-ooam-requiremen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3733560"/>
            <a:ext cx="3657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g Mirsky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regory.mirsky@ericsso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los Pignataro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pignata@cisco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gendra Kumar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aikumar@cisco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epak Kumar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ekumar@cisco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ETF-95  April, 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648320" y="3733920"/>
            <a:ext cx="44193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ik Nordmark nordmark@acm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vid Mozes davidm@mellanox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 Chen mach.chen@huawe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ntosh Pallagatti santosh.pallagatti@gmail.com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n NVO3, SFC and BIER WGs on OAM Framework and Requirements draf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adaptation, extension of existing OAM protocols (BFD in VXL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new mechanism (Transcending Tracerou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OAM presentation and discussion at IETF-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l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active F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demand F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rm Indication Signal (Supres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l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OAM independent from a transport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node implicitly serves as M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N-azation of Overlay O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active and on-demand OAM created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directional Overlay OAM (CC and PM) optimization as services (multicast, SFC) are unidire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AM is about what is going in the transport layer and thus it must be in-band , i.e. fate sharing with data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-directional OAM is important too, e.g. CC-CV and out-of-band Fault Management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ult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ity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Defect In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vity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 defect loc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tracing through overlay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cation of mapping between overlay network and client laye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MP discovery and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xy ping/trace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ult Management Signals like Alarm Indication Signal to suppress client layer alarms when server layer fault de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lay network survivability may use protection switching and rest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ormance 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ive and Active Performance Measurement OAM are complimentary instruments in OOAM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way active and pa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-way 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calculation of performance metr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delay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put (delivered throughp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come comments from the W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01:32:35Z</dcterms:created>
  <dc:creator>egremir</dc:creator>
  <dc:description/>
  <dc:language>en-US</dc:language>
  <cp:lastModifiedBy>Gregory Mirsky</cp:lastModifiedBy>
  <dcterms:modified xsi:type="dcterms:W3CDTF">2016-03-30T20:12:52Z</dcterms:modified>
  <cp:revision>104</cp:revision>
  <dc:subject/>
  <dc:title>MPLS-TP CV Advertisement in PW VCCV draft-mirsky-mpls-tp-cv-adv-00</dc:title>
</cp:coreProperties>
</file>