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79AE-C951-4337-A2CB-26339D8CB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2825-CE0C-41A8-96CF-3C9F3412F8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EF16-FD37-4A0D-AA62-121CDC5A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C6D-EC49-41FD-9D18-A746218E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F85C-EF0A-4860-9CF4-2AD6BDBA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900F-1A6B-44A0-96C8-BC872244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879-E5F7-48E2-BED6-CFD56A09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A449-ABAD-4CA5-9FDA-033D51D7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898A-6779-4071-8A33-A3541D99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8ED-009D-41FE-8756-4E8EE774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DAC-E373-4ADD-B718-2412E80D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DF1-CA42-437C-9E80-48C3EB42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12A-7AE9-4842-B1C8-78BEB2A7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66F-5B1A-4907-A06D-375EA7DF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937B-64F9-4F14-8D1B-A8EF9BD44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regory.mirsky@ericsson.com" TargetMode="External"/><Relationship Id="rId2" Type="http://schemas.openxmlformats.org/officeDocument/2006/relationships/hyperlink" Target="mailto:nordmark@acm.org" TargetMode="External"/><Relationship Id="rId3" Type="http://schemas.openxmlformats.org/officeDocument/2006/relationships/hyperlink" Target="mailto:cpignata@cisco.com" TargetMode="External"/><Relationship Id="rId4" Type="http://schemas.openxmlformats.org/officeDocument/2006/relationships/hyperlink" Target="mailto:naikumar@cisco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FD in BIER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draft-ooamdt-rtgwg-gap-analysis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373356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g Mirsky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regory.mirsky@ericsso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ik Nordmark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ordmark@acm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los Pignataro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pignata@cisco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gendra Kumar Nainar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aikumar@cisco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ETF-95  April, 2016, Buenos 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648320" y="3733920"/>
            <a:ext cx="44193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epak Nagendra dekumar@cisco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 Chen mach.chen@huawe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ntosh Pallagatti santoshpalagatti@gmail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vid Mozes davidm@mellanox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y OAM Design Team is working on OOAM Requirements and OOAM Gap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ap analysis covers OAM tools to enable Fault Management and Performance Measur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active continuity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demand continuity check and connectivity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and passive performance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rm Indication Signal (Sup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FD with IP/U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0                   1                   2                   3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 0 1 2 3 4 5 6 7 8 9 0 1 2 3 4 5 6 7 8 9 0 1 2 3 4 5 6 7 8 9 0 1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   Label Stack Element   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   Label Stack Element   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BIER-MPLS label          |     |1|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0 1 0 1|  Ver  |  Len  |              Entropy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BitString  (first 32 bits)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                  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BitString  (last 32 bits)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OAM|     Reserved      | Proto |            BFIR-id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     IP Header    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Source Port            |   Destination Port (3784)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Length            |           Checksum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BFD control packet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FD in G-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0                   1                   2                   3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 0 1 2 3 4 5 6 7 8 9 0 1 2 3 4 5 6 7 8 9 0 1 2 3 4 5 6 7 8 9 0 1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   Label Stack Element   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   Label Stack Element   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BIER-MPLS label          |     |1|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0 1 0 1|  Ver  |  Len  |              Entropy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BitString  (first 32 bits)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                  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BitString  (last 32 bits)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OAM|     Reserved      | Proto |            BFIR-id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     IP Header    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Source Port            |   Destination Port (3784)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Length            |           Checksum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BFD control packet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 comments from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01:32:35Z</dcterms:created>
  <dc:creator>egremir</dc:creator>
  <dc:description/>
  <dc:language>en-US</dc:language>
  <cp:lastModifiedBy>Gregory Mirsky</cp:lastModifiedBy>
  <dcterms:modified xsi:type="dcterms:W3CDTF">2016-03-15T21:21:37Z</dcterms:modified>
  <cp:revision>110</cp:revision>
  <dc:subject/>
  <dc:title>MPLS-TP CV Advertisement in PW VCCV draft-mirsky-mpls-tp-cv-adv-00</dc:title>
</cp:coreProperties>
</file>