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0B66-A840-44A1-B5BD-2F729B5CA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2FC-D115-4E08-9E8C-452E460A1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4FB-C743-4E6E-8573-C47EC55F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B70-4152-4A74-828C-6E5C363C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CED-4F50-4A67-B844-329A6F8F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1E5-5779-45AA-A7CA-254810A7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4B6-FA16-485A-B5FF-EA7A6C1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F42-AFBA-4BF6-B72B-9465A7F3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B02-5BBA-44DF-9D6B-D56429F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ADC-AC55-4F05-9BCC-F657962C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238-8DC4-424E-AF8C-90F4B75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8FB-0EA9-4296-9F74-806A624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8A7-063C-4272-9A66-6610618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977-1F32-454F-8AA8-8E61368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C54-D23D-4434-B4EA-0B2C43DB8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ory.mirsky@ericsson.com" TargetMode="External"/><Relationship Id="rId2" Type="http://schemas.openxmlformats.org/officeDocument/2006/relationships/hyperlink" Target="mailto:nordmark@acm.org" TargetMode="External"/><Relationship Id="rId3" Type="http://schemas.openxmlformats.org/officeDocument/2006/relationships/hyperlink" Target="mailto:cpignata@cisco.com" TargetMode="External"/><Relationship Id="rId4" Type="http://schemas.openxmlformats.org/officeDocument/2006/relationships/hyperlink" Target="mailto:naikumar@cisco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F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raft-ooamdt-rtgwg-gap-analysis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g Mirsky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gory.mirsky@ericss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k Nordmark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dmark@acm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os Pignatar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pignata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endra Kumar Nain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ikumar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,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48320" y="3733920"/>
            <a:ext cx="441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ak Nagendra dekumar@cisco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 Chen mach.chen@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osh Pallagatti santoshpalagatti@gmail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ozes davidm@mellanox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 OAM Design Team is working on OOAM Requirements and OOAM 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analysis covers OAM tools to enable Fault Management and Performance Measur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 continu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demand continuity check and connectivity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nd passive performanc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Indication Signal (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with IP/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in G-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comments from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21:21:37Z</dcterms:modified>
  <cp:revision>110</cp:revision>
  <dc:subject/>
  <dc:title>MPLS-TP CV Advertisement in PW VCCV draft-mirsky-mpls-tp-cv-adv-00</dc:title>
</cp:coreProperties>
</file>