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2B32-30FA-4F0C-84A1-214AAA5C5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3350-4B29-458A-9AD6-32F29F4FF7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0A8-792C-454D-AA3F-D3214D14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858-5539-47AB-AEF4-417D0669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BDE-CC92-4DB9-B08F-17854470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FC7-2532-41E6-926C-230806AE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1C8-E5B2-4686-A4A4-038F8E94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74D-27DE-4465-AA3C-1C2F8C3F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B4D-4014-4ABC-8D7D-962DA42C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A81-280C-4494-87FF-AD58F46E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827-BC81-4593-97F9-6352E4A5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79B-E94E-4355-B794-0E50C0F9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40D-3236-4FAF-ACD6-079DAC38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7C3-4075-411E-9C9A-52AB9294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0482-22DB-4705-A5F5-DE15E89DB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easurement with the marking method in BIER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mirsky-bier-pmmm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g Mirsky gregory.mirsky@ericss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 Zheng vero.zheng@huawei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 Chen mach.chen@huawei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useppe Fioccola giuseppe.fioccola@telecomitalia.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-95  April 2016, Buenos 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nd 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                            1                              2                        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1  2 3  4 5  6 7  8 9 0 1 2 3 4  5 6 7  8 9 0 1 2  3 4  5 6 7  8 9 0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 0 1 0 1 |   Ver   |   Len    |                         Entropy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                                    BitString  (first 32 bits)                               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  BIER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                                                                                                     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                                   BitString  (last 32 bits)      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OAM|       Reserved       |  Proto  |                     BFIR-id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                 OAM fiel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S|D|                 S – single mark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                D – double mark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"/>
          <p:cNvSpPr/>
          <p:nvPr/>
        </p:nvSpPr>
        <p:spPr>
          <a:xfrm>
            <a:off x="380880" y="4267080"/>
            <a:ext cx="1067040" cy="9907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Mark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068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ing packets based on time interval to measure packet loss by switching value of the S flag. D flag MUST be set to 0 on transmit and ignored on rece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/Last Packet Delay calc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timestamp of when S flag value flips. Method is sensitive to packet loss and packet re-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Packet Delay calc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timestamps for each packet received within a single block.  Average of the timestamp is the sum of all the timestamps divided by the total number of packets received. Hence minimally impacted  by a packet loss and no impact if packets get re-ord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"/>
          <p:cNvCxnSpPr/>
          <p:nvPr/>
        </p:nvCxnSpPr>
        <p:spPr>
          <a:xfrm>
            <a:off x="762120" y="6086160"/>
            <a:ext cx="777312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59" name="Rectangle 4"/>
          <p:cNvSpPr/>
          <p:nvPr/>
        </p:nvSpPr>
        <p:spPr>
          <a:xfrm>
            <a:off x="762120" y="5454720"/>
            <a:ext cx="76176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2209680" y="5467320"/>
            <a:ext cx="99072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3429000" y="5467320"/>
            <a:ext cx="91440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70520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52924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6553080" y="548640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7620120" y="5467320"/>
            <a:ext cx="76176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620120" y="5602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553080" y="560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5529240" y="5568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4705200" y="560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3505320" y="55832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2324160" y="55976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762120" y="55688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7"/>
          <p:cNvSpPr/>
          <p:nvPr/>
        </p:nvSpPr>
        <p:spPr>
          <a:xfrm flipV="1">
            <a:off x="7391520" y="518148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24"/>
          <p:cNvSpPr/>
          <p:nvPr/>
        </p:nvSpPr>
        <p:spPr>
          <a:xfrm flipV="1">
            <a:off x="460548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25"/>
          <p:cNvSpPr/>
          <p:nvPr/>
        </p:nvSpPr>
        <p:spPr>
          <a:xfrm flipV="1">
            <a:off x="1676520" y="518148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Mark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 flag to create batch of packets as in Single Mark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 flag to create new set of marked packets that are fully identified over the BIER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 and compare timestamps on D-marked packets to calculate packet delay as well as the minimum and maximum delay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4"/>
          <p:cNvCxnSpPr/>
          <p:nvPr/>
        </p:nvCxnSpPr>
        <p:spPr>
          <a:xfrm>
            <a:off x="762120" y="6086160"/>
            <a:ext cx="777312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80" name="Rectangle 5"/>
          <p:cNvSpPr/>
          <p:nvPr/>
        </p:nvSpPr>
        <p:spPr>
          <a:xfrm>
            <a:off x="762120" y="5454720"/>
            <a:ext cx="76176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09680" y="5467320"/>
            <a:ext cx="99072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429000" y="5467320"/>
            <a:ext cx="91440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470520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552924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553080" y="548640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7620120" y="5467320"/>
            <a:ext cx="76176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7620120" y="56624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9"/>
          <p:cNvSpPr/>
          <p:nvPr/>
        </p:nvSpPr>
        <p:spPr>
          <a:xfrm flipV="1">
            <a:off x="460548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0"/>
          <p:cNvSpPr/>
          <p:nvPr/>
        </p:nvSpPr>
        <p:spPr>
          <a:xfrm flipV="1">
            <a:off x="7467480" y="5233680"/>
            <a:ext cx="0" cy="106668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1"/>
          <p:cNvSpPr/>
          <p:nvPr/>
        </p:nvSpPr>
        <p:spPr>
          <a:xfrm flipV="1">
            <a:off x="167652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655308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552924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4"/>
          <p:cNvSpPr/>
          <p:nvPr/>
        </p:nvSpPr>
        <p:spPr>
          <a:xfrm>
            <a:off x="470520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3505320" y="56926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6"/>
          <p:cNvSpPr/>
          <p:nvPr/>
        </p:nvSpPr>
        <p:spPr>
          <a:xfrm>
            <a:off x="232416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7"/>
          <p:cNvSpPr/>
          <p:nvPr/>
        </p:nvSpPr>
        <p:spPr>
          <a:xfrm>
            <a:off x="762120" y="56642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BIER sub-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R A applies Double Mark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Rs B, E, and H record timestamps of D-tagged BIER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181400" y="258588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191120" y="3990960"/>
            <a:ext cx="55224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181400" y="52387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943600" y="32385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943600" y="46339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666880" y="32385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666880" y="46339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371600" y="39909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3"/>
          <p:cNvSpPr/>
          <p:nvPr/>
        </p:nvSpPr>
        <p:spPr>
          <a:xfrm flipH="1">
            <a:off x="1923840" y="3495600"/>
            <a:ext cx="742680" cy="69048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5"/>
          <p:cNvSpPr/>
          <p:nvPr/>
        </p:nvSpPr>
        <p:spPr>
          <a:xfrm flipH="1">
            <a:off x="3219480" y="2843280"/>
            <a:ext cx="961920" cy="6523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7"/>
          <p:cNvSpPr/>
          <p:nvPr/>
        </p:nvSpPr>
        <p:spPr>
          <a:xfrm>
            <a:off x="3219480" y="3511440"/>
            <a:ext cx="971640" cy="73656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9"/>
          <p:cNvSpPr/>
          <p:nvPr/>
        </p:nvSpPr>
        <p:spPr>
          <a:xfrm flipH="1" flipV="1">
            <a:off x="4734000" y="2843280"/>
            <a:ext cx="1209600" cy="6523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1"/>
          <p:cNvSpPr/>
          <p:nvPr/>
        </p:nvSpPr>
        <p:spPr>
          <a:xfrm flipH="1">
            <a:off x="4757760" y="3495600"/>
            <a:ext cx="1185840" cy="7765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23"/>
          <p:cNvSpPr/>
          <p:nvPr/>
        </p:nvSpPr>
        <p:spPr>
          <a:xfrm flipH="1" flipV="1">
            <a:off x="4743360" y="4248000"/>
            <a:ext cx="1200240" cy="64296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25"/>
          <p:cNvSpPr/>
          <p:nvPr/>
        </p:nvSpPr>
        <p:spPr>
          <a:xfrm>
            <a:off x="1924200" y="4219560"/>
            <a:ext cx="742680" cy="6714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27"/>
          <p:cNvSpPr/>
          <p:nvPr/>
        </p:nvSpPr>
        <p:spPr>
          <a:xfrm>
            <a:off x="3219480" y="4915080"/>
            <a:ext cx="961920" cy="58068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29"/>
          <p:cNvSpPr/>
          <p:nvPr/>
        </p:nvSpPr>
        <p:spPr>
          <a:xfrm flipV="1">
            <a:off x="4743360" y="4890960"/>
            <a:ext cx="1200240" cy="6048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31"/>
          <p:cNvSpPr/>
          <p:nvPr/>
        </p:nvSpPr>
        <p:spPr>
          <a:xfrm flipV="1">
            <a:off x="3200400" y="4330800"/>
            <a:ext cx="990720" cy="6048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5"/>
          <p:cNvSpPr/>
          <p:nvPr/>
        </p:nvSpPr>
        <p:spPr>
          <a:xfrm>
            <a:off x="1371600" y="405288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7"/>
          <p:cNvSpPr/>
          <p:nvPr/>
        </p:nvSpPr>
        <p:spPr>
          <a:xfrm>
            <a:off x="2666880" y="331164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8"/>
          <p:cNvSpPr/>
          <p:nvPr/>
        </p:nvSpPr>
        <p:spPr>
          <a:xfrm>
            <a:off x="2678040" y="47070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9"/>
          <p:cNvSpPr/>
          <p:nvPr/>
        </p:nvSpPr>
        <p:spPr>
          <a:xfrm>
            <a:off x="4181400" y="26589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0"/>
          <p:cNvSpPr/>
          <p:nvPr/>
        </p:nvSpPr>
        <p:spPr>
          <a:xfrm>
            <a:off x="4205160" y="406404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1"/>
          <p:cNvSpPr/>
          <p:nvPr/>
        </p:nvSpPr>
        <p:spPr>
          <a:xfrm>
            <a:off x="4181400" y="53118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2"/>
          <p:cNvSpPr/>
          <p:nvPr/>
        </p:nvSpPr>
        <p:spPr>
          <a:xfrm>
            <a:off x="5961240" y="331164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3"/>
          <p:cNvSpPr/>
          <p:nvPr/>
        </p:nvSpPr>
        <p:spPr>
          <a:xfrm>
            <a:off x="5943600" y="47070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questions,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 by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1:32:35Z</dcterms:created>
  <dc:creator>egremir</dc:creator>
  <dc:description/>
  <dc:language>en-US</dc:language>
  <cp:lastModifiedBy>Gregory Mirsky</cp:lastModifiedBy>
  <dcterms:modified xsi:type="dcterms:W3CDTF">2016-03-15T17:55:00Z</dcterms:modified>
  <cp:revision>59</cp:revision>
  <dc:subject/>
  <dc:title>MPLS-TP CV Advertisement in PW VCCV draft-mirsky-mpls-tp-cv-adv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UpdateProcess">
    <vt:lpwstr>End</vt:lpwstr>
  </property>
</Properties>
</file>