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DFC5-2CF1-4706-8B82-FBADED63C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A443-483F-482D-9ABC-87F0CA4CFC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1D2A-66F1-42CB-8E53-F4BE1D48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B7D-2486-4FA9-AD7F-03323015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6C5-6089-4ABC-9DD5-E5FBE7A1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25D-8AD7-4D57-BB82-2F6F499C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AEC5-9644-4DCE-8C12-184E260E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BDFC-DED4-4CA9-8BE0-54ED2E2B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0F1-98EB-4052-A093-EB0B355A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D6EE-24BD-4384-8F37-89FE4DD6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ED1F-14B5-4C1D-9BDA-2E7FAA8D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A514-DC40-401F-9531-0F0AE1DA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6A91-4463-4FA4-9563-C2F184EC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D552-1D4C-4266-9EDF-392E0B55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7B44-F6B5-42B4-A263-1BE53FBFA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easurement with the marking method in BIER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mirsky-bier-pmmm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g Mirsky gregory.mirsky@ericss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o Zheng vero.zheng@huawei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 Chen mach.chen@huawei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useppe Fioccola giuseppe.fioccola@telecomitalia.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ETF-95  April 2016, Buenos 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nd w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                              1                              2                              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1  2 3  4 5  6 7  8 9 0 1 2 3 4  5 6 7  8 9 0 1 2  3 4  5 6 7  8 9 0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 0 1 0 1 |   Ver   |   Len    |                         Entropy         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                                    BitString  (first 32 bits)                               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   BIER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                                                                                                     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                                   BitString  (last 32 bits)               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OAM|       Reserved       |  Proto  |                     BFIR-id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                 OAM fiel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S|D|                 S – single mark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                D – double mark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"/>
          <p:cNvSpPr/>
          <p:nvPr/>
        </p:nvSpPr>
        <p:spPr>
          <a:xfrm>
            <a:off x="380880" y="4267080"/>
            <a:ext cx="1067040" cy="99072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Mark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068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ching packets based on time interval to measure packet loss by switching value of the S flag. D flag MUST be set to 0 on transmit and ignored on rece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/Last Packet Delay calc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e timestamp of when S flag value flips. Method is sensitive to packet loss and packet re-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Packet Delay calc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timestamps for each packet received within a single block.  Average of the timestamp is the sum of all the timestamps divided by the total number of packets received. Hence minimally impacted  by a packet loss and no impact if packets get re-ord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2"/>
          <p:cNvCxnSpPr/>
          <p:nvPr/>
        </p:nvCxnSpPr>
        <p:spPr>
          <a:xfrm>
            <a:off x="762120" y="6086160"/>
            <a:ext cx="7773120" cy="108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59" name="Rectangle 4"/>
          <p:cNvSpPr/>
          <p:nvPr/>
        </p:nvSpPr>
        <p:spPr>
          <a:xfrm>
            <a:off x="762120" y="5454720"/>
            <a:ext cx="76176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2209680" y="5467320"/>
            <a:ext cx="99072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3429000" y="5467320"/>
            <a:ext cx="91440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705200" y="546732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529240" y="546732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6553080" y="548640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7620120" y="5467320"/>
            <a:ext cx="76176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7620120" y="5602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6553080" y="5602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5529240" y="55688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4705200" y="5602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3505320" y="55832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9"/>
          <p:cNvSpPr/>
          <p:nvPr/>
        </p:nvSpPr>
        <p:spPr>
          <a:xfrm>
            <a:off x="2324160" y="55976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"/>
          <p:cNvSpPr/>
          <p:nvPr/>
        </p:nvSpPr>
        <p:spPr>
          <a:xfrm>
            <a:off x="762120" y="55688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7"/>
          <p:cNvSpPr/>
          <p:nvPr/>
        </p:nvSpPr>
        <p:spPr>
          <a:xfrm flipV="1">
            <a:off x="7391520" y="518148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24"/>
          <p:cNvSpPr/>
          <p:nvPr/>
        </p:nvSpPr>
        <p:spPr>
          <a:xfrm flipV="1">
            <a:off x="4605480" y="519264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25"/>
          <p:cNvSpPr/>
          <p:nvPr/>
        </p:nvSpPr>
        <p:spPr>
          <a:xfrm flipV="1">
            <a:off x="1676520" y="518148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Mark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 flag to create batch of packets as in Single Mark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 flag to create new set of marked packets that are fully identified over the BIER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 and compare timestamps on D-marked packets to calculate packet delay as well as the minimum and maximum delay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4"/>
          <p:cNvCxnSpPr/>
          <p:nvPr/>
        </p:nvCxnSpPr>
        <p:spPr>
          <a:xfrm>
            <a:off x="762120" y="6086160"/>
            <a:ext cx="7773120" cy="108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80" name="Rectangle 5"/>
          <p:cNvSpPr/>
          <p:nvPr/>
        </p:nvSpPr>
        <p:spPr>
          <a:xfrm>
            <a:off x="762120" y="5454720"/>
            <a:ext cx="76176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209680" y="5467320"/>
            <a:ext cx="99072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429000" y="5467320"/>
            <a:ext cx="91440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4705200" y="546732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5529240" y="546732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6553080" y="548640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7620120" y="5467320"/>
            <a:ext cx="76176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7620120" y="566244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0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9"/>
          <p:cNvSpPr/>
          <p:nvPr/>
        </p:nvSpPr>
        <p:spPr>
          <a:xfrm flipV="1">
            <a:off x="4605480" y="519264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0"/>
          <p:cNvSpPr/>
          <p:nvPr/>
        </p:nvSpPr>
        <p:spPr>
          <a:xfrm flipV="1">
            <a:off x="7467480" y="5233680"/>
            <a:ext cx="0" cy="106668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1"/>
          <p:cNvSpPr/>
          <p:nvPr/>
        </p:nvSpPr>
        <p:spPr>
          <a:xfrm flipV="1">
            <a:off x="1676520" y="519264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6553080" y="5692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1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3"/>
          <p:cNvSpPr/>
          <p:nvPr/>
        </p:nvSpPr>
        <p:spPr>
          <a:xfrm>
            <a:off x="5529240" y="5692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1, D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4"/>
          <p:cNvSpPr/>
          <p:nvPr/>
        </p:nvSpPr>
        <p:spPr>
          <a:xfrm>
            <a:off x="4705200" y="5692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1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5"/>
          <p:cNvSpPr/>
          <p:nvPr/>
        </p:nvSpPr>
        <p:spPr>
          <a:xfrm>
            <a:off x="3505320" y="56926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0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6"/>
          <p:cNvSpPr/>
          <p:nvPr/>
        </p:nvSpPr>
        <p:spPr>
          <a:xfrm>
            <a:off x="2324160" y="5692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0, D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7"/>
          <p:cNvSpPr/>
          <p:nvPr/>
        </p:nvSpPr>
        <p:spPr>
          <a:xfrm>
            <a:off x="762120" y="566424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1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BIER sub-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FR A applies Double Mark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FRs B, E, and H record timestamps of D-tagged BIER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181400" y="258588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191120" y="3990960"/>
            <a:ext cx="55224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181400" y="523872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5943600" y="323856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943600" y="463392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2666880" y="323856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2666880" y="463392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1371600" y="399096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3"/>
          <p:cNvSpPr/>
          <p:nvPr/>
        </p:nvSpPr>
        <p:spPr>
          <a:xfrm flipH="1">
            <a:off x="1923840" y="3495600"/>
            <a:ext cx="742680" cy="69048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5"/>
          <p:cNvSpPr/>
          <p:nvPr/>
        </p:nvSpPr>
        <p:spPr>
          <a:xfrm flipH="1">
            <a:off x="3219480" y="2843280"/>
            <a:ext cx="961920" cy="65232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7"/>
          <p:cNvSpPr/>
          <p:nvPr/>
        </p:nvSpPr>
        <p:spPr>
          <a:xfrm>
            <a:off x="3219480" y="3511440"/>
            <a:ext cx="971640" cy="73656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9"/>
          <p:cNvSpPr/>
          <p:nvPr/>
        </p:nvSpPr>
        <p:spPr>
          <a:xfrm flipH="1" flipV="1">
            <a:off x="4734000" y="2843280"/>
            <a:ext cx="1209600" cy="65232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21"/>
          <p:cNvSpPr/>
          <p:nvPr/>
        </p:nvSpPr>
        <p:spPr>
          <a:xfrm flipH="1">
            <a:off x="4757760" y="3495600"/>
            <a:ext cx="1185840" cy="77652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23"/>
          <p:cNvSpPr/>
          <p:nvPr/>
        </p:nvSpPr>
        <p:spPr>
          <a:xfrm flipH="1" flipV="1">
            <a:off x="4743360" y="4248000"/>
            <a:ext cx="1200240" cy="64296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25"/>
          <p:cNvSpPr/>
          <p:nvPr/>
        </p:nvSpPr>
        <p:spPr>
          <a:xfrm>
            <a:off x="1924200" y="4219560"/>
            <a:ext cx="742680" cy="67140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27"/>
          <p:cNvSpPr/>
          <p:nvPr/>
        </p:nvSpPr>
        <p:spPr>
          <a:xfrm>
            <a:off x="3219480" y="4915080"/>
            <a:ext cx="961920" cy="58068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29"/>
          <p:cNvSpPr/>
          <p:nvPr/>
        </p:nvSpPr>
        <p:spPr>
          <a:xfrm flipV="1">
            <a:off x="4743360" y="4890960"/>
            <a:ext cx="1200240" cy="60480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31"/>
          <p:cNvSpPr/>
          <p:nvPr/>
        </p:nvSpPr>
        <p:spPr>
          <a:xfrm flipV="1">
            <a:off x="3200400" y="4330800"/>
            <a:ext cx="990720" cy="60480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5"/>
          <p:cNvSpPr/>
          <p:nvPr/>
        </p:nvSpPr>
        <p:spPr>
          <a:xfrm>
            <a:off x="1371600" y="405288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7"/>
          <p:cNvSpPr/>
          <p:nvPr/>
        </p:nvSpPr>
        <p:spPr>
          <a:xfrm>
            <a:off x="2666880" y="331164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8"/>
          <p:cNvSpPr/>
          <p:nvPr/>
        </p:nvSpPr>
        <p:spPr>
          <a:xfrm>
            <a:off x="2678040" y="47070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9"/>
          <p:cNvSpPr/>
          <p:nvPr/>
        </p:nvSpPr>
        <p:spPr>
          <a:xfrm>
            <a:off x="4181400" y="265896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0"/>
          <p:cNvSpPr/>
          <p:nvPr/>
        </p:nvSpPr>
        <p:spPr>
          <a:xfrm>
            <a:off x="4205160" y="4064040"/>
            <a:ext cx="5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1"/>
          <p:cNvSpPr/>
          <p:nvPr/>
        </p:nvSpPr>
        <p:spPr>
          <a:xfrm>
            <a:off x="4181400" y="53118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2"/>
          <p:cNvSpPr/>
          <p:nvPr/>
        </p:nvSpPr>
        <p:spPr>
          <a:xfrm>
            <a:off x="5961240" y="331164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3"/>
          <p:cNvSpPr/>
          <p:nvPr/>
        </p:nvSpPr>
        <p:spPr>
          <a:xfrm>
            <a:off x="5943600" y="47070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questions,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 by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01:32:35Z</dcterms:created>
  <dc:creator>egremir</dc:creator>
  <dc:description/>
  <dc:language>en-US</dc:language>
  <cp:lastModifiedBy>Gregory Mirsky</cp:lastModifiedBy>
  <dcterms:modified xsi:type="dcterms:W3CDTF">2016-03-15T17:55:00Z</dcterms:modified>
  <cp:revision>59</cp:revision>
  <dc:subject/>
  <dc:title>MPLS-TP CV Advertisement in PW VCCV draft-mirsky-mpls-tp-cv-adv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UpdateProcess">
    <vt:lpwstr>End</vt:lpwstr>
  </property>
</Properties>
</file>