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7F9C-7493-4307-85FB-F42F50525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4583-2AB8-4CAF-ADC4-9EF78CB80B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803-C672-4D49-A4ED-52F270BE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706-A58B-4659-ABC8-60300F13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BF2-7AC1-4591-B631-4E2B7306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187-1E2A-4D8D-87F0-3C7DF6AD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B15-3DFB-4530-A81B-27D1C5E8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9B7-BD7A-4D21-B311-90CC461A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AE27-C326-41DD-B6B3-10428D67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E85-D8F1-4DE6-9822-C3469B78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095-01A7-4D08-B4F5-60D6F3C7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E6D-8DDF-4786-804C-5F8308BB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45D6-E1E6-48F6-9C63-43F0466B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BA3-5709-4B66-890C-C25360B5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1D3E-BC85-462D-A133-966F0AEB4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regory.mirsky@ericsson.com" TargetMode="External"/><Relationship Id="rId2" Type="http://schemas.openxmlformats.org/officeDocument/2006/relationships/hyperlink" Target="mailto:nordmark@acm.org" TargetMode="External"/><Relationship Id="rId3" Type="http://schemas.openxmlformats.org/officeDocument/2006/relationships/hyperlink" Target="mailto:cpignata@cisco.com" TargetMode="External"/><Relationship Id="rId4" Type="http://schemas.openxmlformats.org/officeDocument/2006/relationships/hyperlink" Target="mailto:naikumar@cisco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FD in BIER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draft-ooamdt-rtgwg-gap-analysis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373356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g Mirsky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regory.mirsky@ericsso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ik Nordmark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ordmark@acm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los Pignataro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pignata@cisco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gendra Kumar Nainar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aikumar@cisco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ETF-95  April, 2016, Buenos 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648320" y="3733920"/>
            <a:ext cx="44193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epak Nagendra dekumar@cisco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 Chen mach.chen@huawe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ntosh Pallagatti santoshpalagatti@gmail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vid Mozes davidm@mellanox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y OAM Design Team is working on OOAM Requirements and OOAM Gap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ap analysis covers OAM tools to enable Fault Management and Performance Measur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active continuity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demand continuity check and connectivity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and passive performance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rm Indication Signal (Sup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FD with IP/U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0                   1                   2                   3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 0 1 2 3 4 5 6 7 8 9 0 1 2 3 4 5 6 7 8 9 0 1 2 3 4 5 6 7 8 9 0 1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   Label Stack Element   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   Label Stack Element   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BIER-MPLS label          |     |1|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0 1 0 1|  Ver  |  Len  |              Entropy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BitString  (first 32 bits)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                  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BitString  (last 32 bits)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OAM|     Reserved      | Proto |            BFIR-id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     IP Header    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Source Port            |   Destination Port (3784)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Length            |           Checksum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BFD control packet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FD in G-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0                   1                   2                   3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 0 1 2 3 4 5 6 7 8 9 0 1 2 3 4 5 6 7 8 9 0 1 2 3 4 5 6 7 8 9 0 1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   Label Stack Element   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   Label Stack Element   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BIER-MPLS label          |     |1|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0 1 0 1|  Ver  |  Len  |              Entropy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BitString  (first 32 bits)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                  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BitString  (last 32 bits)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OAM|     Reserved      | Proto |            BFIR-id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     IP Header    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Source Port            |   Destination Port (3784)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Length            |           Checksum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BFD control packet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 comments from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01:32:35Z</dcterms:created>
  <dc:creator>egremir</dc:creator>
  <dc:description/>
  <dc:language>en-US</dc:language>
  <cp:lastModifiedBy>Gregory Mirsky</cp:lastModifiedBy>
  <dcterms:modified xsi:type="dcterms:W3CDTF">2016-03-15T21:21:37Z</dcterms:modified>
  <cp:revision>110</cp:revision>
  <dc:subject/>
  <dc:title>MPLS-TP CV Advertisement in PW VCCV draft-mirsky-mpls-tp-cv-adv-00</dc:title>
</cp:coreProperties>
</file>