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B2CB-FE93-4E0A-8C84-907D4E2AD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061F-AEFE-47E4-BE12-2BFA65CADF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E6F1-6AA2-4502-A2FF-E27B0A1C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A5D5-88E0-4BE6-96D0-D86D0364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12E-B465-4841-BCFB-A224AE43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89F6-DFB5-4711-8D9E-7A57CB42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351D-96CA-4B80-8D41-33AAA452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62A8-38F2-4ED4-802C-B1B284C4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98DE-B1BD-4E89-8091-6192880E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53DD-97EA-4555-9C8F-51734038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3F96-5F40-4DFB-896E-B8F8C72C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6E5-3C90-4A5A-A3C4-471D3E15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4D83-0535-423B-8C40-76DC1929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A49-9769-4187-98A2-EFDBC213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D927-2C34-435D-B9E6-7CF30700B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regory.mirsky@ericsson.com" TargetMode="External"/><Relationship Id="rId2" Type="http://schemas.openxmlformats.org/officeDocument/2006/relationships/hyperlink" Target="mailto:nordmark@acm.org" TargetMode="External"/><Relationship Id="rId3" Type="http://schemas.openxmlformats.org/officeDocument/2006/relationships/hyperlink" Target="mailto:cpignata@cisco.com" TargetMode="External"/><Relationship Id="rId4" Type="http://schemas.openxmlformats.org/officeDocument/2006/relationships/hyperlink" Target="mailto:naikumar@cisco.co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FD in BIER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draft-ooamdt-rtgwg-gap-analysis-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373356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g Mirsky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regory.mirsky@ericsso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ik Nordmark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ordmark@acm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los Pignataro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pignata@cisco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gendra Kumar Nainar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naikumar@cisco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ETF-95  April, 2016, Buenos 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648320" y="3733920"/>
            <a:ext cx="44193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epak Nagendra dekumar@cisco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 Chen mach.chen@huawe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ntosh Pallagatti santoshpalagatti@gmail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vid Mozes davidm@mellanox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y OAM Design Team is working on OOAM Requirements and OOAM Gap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ap analysis covers OAM tools to enable Fault Management and Performance Measur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active continuity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demand continuity check and connectivity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and passive performance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rm Indication Signal (Sup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FD with IP/U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0                   1                   2                   3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 0 1 2 3 4 5 6 7 8 9 0 1 2 3 4 5 6 7 8 9 0 1 2 3 4 5 6 7 8 9 0 1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   Label Stack Element       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   Label Stack Element       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BIER-MPLS label          |     |1|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0 1 0 1|  Ver  |  Len  |              Entropy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BitString  (first 32 bits)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                          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BitString  (last 32 bits)    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OAM|     Reserved      | Proto |            BFIR-id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       IP Header          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Source Port            |   Destination Port (3784)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Length            |           Checksum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  BFD control packet      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FD in G-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0                   1                   2                   3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 0 1 2 3 4 5 6 7 8 9 0 1 2 3 4 5 6 7 8 9 0 1 2 3 4 5 6 7 8 9 0 1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   Label Stack Element       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   Label Stack Element       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BIER-MPLS label          |     |1|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0 1 0 1|  Ver  |  Len  |              Entropy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   BitString  (first 32 bits)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                          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BitString  (last 32 bits)          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OAM|     Reserved      | Proto |            BFIR-id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       IP Header          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Source Port            |   Destination Port (3784)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|             Length            |           Checksum            |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~                  BFD control packet                           ~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+-+-+-+-+-+-+-+-+-+-+-+-+-+-+-+-+-+-+-+-+-+-+-+-+-+-+-+-+-+-+-+-+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come comments from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01:32:35Z</dcterms:created>
  <dc:creator>egremir</dc:creator>
  <dc:description/>
  <dc:language>en-US</dc:language>
  <cp:lastModifiedBy>Gregory Mirsky</cp:lastModifiedBy>
  <dcterms:modified xsi:type="dcterms:W3CDTF">2016-03-15T21:21:37Z</dcterms:modified>
  <cp:revision>110</cp:revision>
  <dc:subject/>
  <dc:title>MPLS-TP CV Advertisement in PW VCCV draft-mirsky-mpls-tp-cv-adv-00</dc:title>
</cp:coreProperties>
</file>