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2FA27-79AC-484F-9E1E-2A0CC02DC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240CE-AF0D-4905-A75E-E7949A7A0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E97C6-4E4B-4C48-B650-83ECE9DF3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810A8-90E0-48A5-9745-292322F0E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D599C-F09A-4D4B-9CEB-63B880505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99066-4A7A-4164-AE1D-036B99E5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F2CF6-8277-4D75-B7B1-201CA149C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DB211-56DC-4194-A63B-6AF5AA440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B251E-230E-48D2-BE1F-7FCB93E42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4BC1F-EA20-4BA3-B1E3-0957FF19C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35D6E-3D43-41E2-8D10-5CB543273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E4A2-005C-41CB-8457-DF7D36018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3267-E94D-446C-8872-1040E7B160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regory.mirsky@ericsson.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a:t>
            </a:r>
            <a:r>
              <a:rPr b="0" lang="en-US" sz="1400" spc="-1" strike="noStrike" u="sng">
                <a:solidFill>
                  <a:srgbClr val="009999"/>
                </a:solidFill>
                <a:uFillTx/>
                <a:latin typeface="Arial"/>
                <a:hlinkClick r:id="rId1"/>
              </a:rPr>
              <a:t>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6  July,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zhou Li liyizhou@huawei.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59"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M Header for use in Overlay Networks</a:t>
            </a:r>
            <a:br>
              <a:rPr sz="4000"/>
            </a:br>
            <a:r>
              <a:rPr b="0" lang="en-US" sz="2400" spc="-1" strike="noStrike">
                <a:solidFill>
                  <a:srgbClr val="000000"/>
                </a:solidFill>
                <a:latin typeface="Arial"/>
              </a:rPr>
              <a:t>draft-ooamdt-rtgwg-ooam-header-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a:t>
            </a:r>
            <a:r>
              <a:rPr b="0" lang="en-US" sz="4400" spc="-1" strike="noStrike">
                <a:solidFill>
                  <a:srgbClr val="000000"/>
                </a:solidFill>
                <a:latin typeface="Arial"/>
              </a:rPr>
              <a:t> OAM Header</a:t>
            </a:r>
            <a:endParaRPr b="0" lang="en-US" sz="4400" spc="-1" strike="noStrike">
              <a:solidFill>
                <a:srgbClr val="000000"/>
              </a:solidFill>
              <a:latin typeface="Arial"/>
            </a:endParaRPr>
          </a:p>
        </p:txBody>
      </p:sp>
      <p:sp>
        <p:nvSpPr>
          <p:cNvPr id="62" name=""/>
          <p:cNvSpPr txBox="1"/>
          <p:nvPr/>
        </p:nvSpPr>
        <p:spPr>
          <a:xfrm>
            <a:off x="457200" y="1218960"/>
            <a:ext cx="8229600" cy="5181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 | Msg Type  |     Flags     |          Length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OOAM Control Packet                          ~</a:t>
            </a:r>
            <a:br>
              <a:rPr sz="1400"/>
            </a:br>
            <a:r>
              <a:rPr b="0" lang="en-US" sz="1400" spc="-1" strike="noStrike">
                <a:solidFill>
                  <a:srgbClr val="000000"/>
                </a:solidFill>
                <a:latin typeface="Courier New"/>
                <a:ea typeface="Calibri"/>
              </a:rPr>
              <a:t>   +-+-+-+-+-+-+-+-+-+-+-+-+-+-+-+-+-+-+-+-+-+-+-+-+-+-+-+-+-+-+-+-+</a:t>
            </a:r>
            <a:br>
              <a:rPr sz="2000"/>
            </a:br>
            <a:r>
              <a:rPr b="0" lang="en-US" sz="2000" spc="-1" strike="noStrike">
                <a:solidFill>
                  <a:srgbClr val="000000"/>
                </a:solidFill>
                <a:latin typeface="Arial"/>
                <a:ea typeface="Calibri"/>
              </a:rPr>
              <a:t>where:</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two bits long field indicates the current version of the Overlay OAM Header.  The current value is 0</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g Type - six bits long field identifies OAM protocol, e.g.  Ping or BFD</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 eight bits long field carries bit flags that define optional capability and thus processing of the OOAM control packet, e.g. optional timestamping</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two octets long field that is length of the OOAM control packet in octet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stamp</a:t>
            </a:r>
            <a:endParaRPr b="0" lang="en-US" sz="4000" spc="-1" strike="noStrike">
              <a:solidFill>
                <a:srgbClr val="000000"/>
              </a:solidFill>
              <a:latin typeface="Arial"/>
            </a:endParaRPr>
          </a:p>
        </p:txBody>
      </p:sp>
      <p:sp>
        <p:nvSpPr>
          <p:cNvPr id="64" name=""/>
          <p:cNvSpPr txBox="1"/>
          <p:nvPr/>
        </p:nvSpPr>
        <p:spPr>
          <a:xfrm>
            <a:off x="457200" y="1294920"/>
            <a:ext cx="8229600" cy="5334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comes from work on Residence Time Measurement, interest in measuring Delay and Delay Variation in addition to other Active OAM measur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Arial"/>
              </a:rPr>
              <a:t> </a:t>
            </a:r>
            <a:r>
              <a:rPr b="0" lang="en-US" sz="1400" spc="-1" strike="noStrike">
                <a:solidFill>
                  <a:srgbClr val="000000"/>
                </a:solidFill>
                <a:latin typeface="Courier New"/>
                <a:ea typeface="Courier New"/>
              </a:rPr>
              <a:t>0                   1                   2                   3</a:t>
            </a:r>
            <a:br>
              <a:rPr sz="1400"/>
            </a:br>
            <a:r>
              <a:rPr b="0" lang="en-US" sz="1400" spc="-1" strike="noStrike">
                <a:solidFill>
                  <a:srgbClr val="000000"/>
                </a:solidFill>
                <a:latin typeface="Courier New"/>
                <a:ea typeface="Courier New"/>
              </a:rPr>
              <a:t>    0 1 2 3 4 5 6 7 8 9 0 1 2 3 4 5 6 7 8 9 0 1 2 3 4 5 6 7 8 9 0 1</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QTF  |  RTF  |                   Reserved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1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4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F - Querier timestamp format, e.g. NTP or IEEE-1588v2</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F - Responder timestamp form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tamp 1-4 - 64-bit timestamp val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demand CC/CV for Overlay Networks</a:t>
            </a:r>
            <a:br>
              <a:rPr sz="4000"/>
            </a:br>
            <a:r>
              <a:rPr b="0" lang="en-US" sz="2400" spc="-1" strike="noStrike">
                <a:solidFill>
                  <a:srgbClr val="000000"/>
                </a:solidFill>
                <a:latin typeface="Arial"/>
              </a:rPr>
              <a:t>draft-ooamdt-rtgwg-demand-cc-cv-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a:t>
            </a:r>
            <a:endParaRPr b="0" lang="en-US" sz="4000" spc="-1" strike="noStrike">
              <a:solidFill>
                <a:srgbClr val="000000"/>
              </a:solidFill>
              <a:latin typeface="Arial"/>
            </a:endParaRPr>
          </a:p>
        </p:txBody>
      </p:sp>
      <p:sp>
        <p:nvSpPr>
          <p:cNvPr id="67" name=""/>
          <p:cNvSpPr txBox="1"/>
          <p:nvPr/>
        </p:nvSpPr>
        <p:spPr>
          <a:xfrm>
            <a:off x="457200" y="1413000"/>
            <a:ext cx="8229600" cy="5292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ersion Number        |         Global Flags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Message Type  |   Reply mode  |  Return Code  | Return S.cod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nder's Handl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quence Number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TLVs                             ~</a:t>
            </a:r>
            <a:br>
              <a:rPr sz="1400"/>
            </a:br>
            <a:r>
              <a:rPr b="0" lang="en-US" sz="1400" spc="-1" strike="noStrike">
                <a:solidFill>
                  <a:srgbClr val="000000"/>
                </a:solidFill>
                <a:latin typeface="Courier New"/>
                <a:ea typeface="Calibri"/>
              </a:rPr>
              <a:t>       +-+-+-+-+-+-+-+-+-+-+-+-+-+-+-+-+-+-+-+-+-+-+-+-+-+-+-+-+-+-+-+-+</a:t>
            </a:r>
            <a:br>
              <a:rPr sz="1400"/>
            </a:b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 (cont.)</a:t>
            </a:r>
            <a:endParaRPr b="0" lang="en-US" sz="40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er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reflects the current vers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Flags is a bit vector fiel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ssage Type filed reflects the type of the packet.  Value TBA2 identifies Echo Request and TBA3 -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ly Mode defines the type of the return path requested by the Sender of the Echo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Codes and Subcodes can be used to inform the sender about result of processing its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nder's Handle is filled in by the sender, and returned unchanged by the receiver in the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Number is assigned by the sender and can be, for example, used to detect missed repli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Vs (Type-Length-Value tuples) have the two octets long Type field, two octets long Length field that is length of the Value field in octet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e addressed</a:t>
            </a:r>
            <a:endParaRPr b="0" lang="en-US" sz="40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ID to be used for out-of-band, i.e. IP network, Echo Re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EP ID (OOAM Domain ID + MEP ID) for Connectivity Ver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Return Path Control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o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since IETF-95</a:t>
            </a:r>
            <a:endParaRPr b="0" lang="en-US" sz="40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 Yuzhou joined OOAM DT</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tosh Pallagatti had to leav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to:</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Requirements (many thanks to Ron Bonica and Tal Mizrahi for their review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Gap Analysis (many thanks to Tal Mizrahi for the review)</a:t>
            </a:r>
            <a:endParaRPr b="0" lang="en-US" sz="24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ocuments:</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Head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Echo Request/Reply, a.k.a. 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definitions</a:t>
            </a:r>
            <a:endParaRPr b="0" lang="en-US" sz="4000" spc="-1" strike="noStrike">
              <a:solidFill>
                <a:srgbClr val="000000"/>
              </a:solidFill>
              <a:latin typeface="Arial"/>
            </a:endParaRPr>
          </a:p>
        </p:txBody>
      </p:sp>
      <p:sp>
        <p:nvSpPr>
          <p:cNvPr id="48" name=""/>
          <p:cNvSpPr txBox="1"/>
          <p:nvPr/>
        </p:nvSpPr>
        <p:spPr>
          <a:xfrm>
            <a:off x="457200" y="1417680"/>
            <a:ext cx="8229600" cy="505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Controller: An external standalone or virtual entity with topology awareness and with an ability to interact with network devices for OAM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 nodes: Network nodes participating in the Overlay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 Network or Overlay Layer: A network layer that is built on top another network layer.  VxLAN-GPE over IP network is an example for Overlay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ay Network or Underlay Layer: The network that provides connectivity between the Overlay nodes.  MPLS network providing LSP connectivity between BIER nodes is an example for underlay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Requirements</a:t>
            </a:r>
            <a:endParaRPr b="0" lang="en-US" sz="4000" spc="-1" strike="noStrike">
              <a:solidFill>
                <a:srgbClr val="000000"/>
              </a:solidFill>
              <a:latin typeface="Arial"/>
            </a:endParaRPr>
          </a:p>
        </p:txBody>
      </p:sp>
      <p:sp>
        <p:nvSpPr>
          <p:cNvPr id="50" name=""/>
          <p:cNvSpPr txBox="1"/>
          <p:nvPr/>
        </p:nvSpPr>
        <p:spPr>
          <a:xfrm>
            <a:off x="457200" y="1600200"/>
            <a:ext cx="8229600" cy="4952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8:  Overlay OAM MUST support Path Maximu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mission Unit (MTU) Discovery from th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verlay layer over any transport lay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13: Overlay OAM MAY support fault localization of</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s of Continuity check at transport lay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OAM Passive PM vs. RFC 7799</a:t>
            </a:r>
            <a:endParaRPr b="0" lang="en-US" sz="4000" spc="-1" strike="noStrike">
              <a:solidFill>
                <a:srgbClr val="000000"/>
              </a:solidFill>
              <a:latin typeface="Arial"/>
            </a:endParaRPr>
          </a:p>
        </p:txBody>
      </p:sp>
      <p:sp>
        <p:nvSpPr>
          <p:cNvPr id="52" name=""/>
          <p:cNvSpPr txBox="1"/>
          <p:nvPr/>
        </p:nvSpPr>
        <p:spPr>
          <a:xfrm>
            <a:off x="457200" y="1219320"/>
            <a:ext cx="822960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3.4 and Section 3.5 of RFC 7799 provide the definitions for Active and Passive modes of Performance Measurement (PM) methods. OOAM DT interpretation of what Passive PM is </a:t>
            </a:r>
            <a:endParaRPr b="0" lang="en-US" sz="2400" spc="-1" strike="noStrike">
              <a:solidFill>
                <a:srgbClr val="000000"/>
              </a:solidFill>
              <a:latin typeface="Arial"/>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asurement method that should not modify the actual data packet processing behavior on underlay and overlay network.  </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ly, it should be supported by the Overlay n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Considerations</a:t>
            </a: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requirements for various Overlay encapsulations may have security implications.  For example, if proactive Fault Management (FM) is required, the security implication is that a passive eavesdropper can know when the session is down.  Or, proactive FM may be used either to launch DoS or to highjack session and impact state, e.g. cause protection switchover.  These security implications are natural results of the requirements, and do not depend on the  particular implementation.  Whether existing security mechanisms of existing protocols proposed to be re-used in OAM for overlay networks are adequate or require enhancements is for further study.  New OAM protocols for overlay networks must consider their security mechanism to on per-solution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dated and Extended</a:t>
            </a:r>
            <a:endParaRPr b="0" lang="en-US" sz="40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capsulation of an overlay network uses one of methods discussed in draft-ietf-rtgwg-dt-encap to distinctly identify the payload as OAM, i.e. non-user, pac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verlay OAM protocols share the common Overlay OAM Hea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BFD developed at IETF, e.g. p2p BFD, p2mp BFD, and S-BF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on-demand CC/CV: MPLS Echo Request/Reply, LSP Self-ping, and BIER 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Gregory Mirsky</cp:lastModifiedBy>
  <dcterms:modified xsi:type="dcterms:W3CDTF">2016-07-14T07:23:25Z</dcterms:modified>
  <cp:revision>160</cp:revision>
  <dc:subject/>
  <dc:title>MPLS-TP CV Advertisement in PW VCCV draft-mirsky-mpls-tp-cv-adv-00</dc:title>
</cp:coreProperties>
</file>