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5CB1-3CCB-4FF0-9435-663A1AC82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8D06-A790-4859-965F-DA9C14B7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F471D-2D12-45B6-9246-6180B6711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947DA-52C5-4AE6-A26C-D27314DC5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CA64-6E2E-410A-BBA6-ECD5C5BD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AFCF-93E6-4708-8436-632B40A7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5EE9-FA8D-4640-AEF4-9B8FCDD1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09D5-F90E-419C-B49E-89DB164F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8783-7F52-4B7C-B85A-4295729F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4434-9C55-44F2-9B17-81832148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834D-1C07-4D31-A495-F22A0F26A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A1A7-9DB1-45B4-A4E4-55C40D8F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00F4-F405-4F52-A84D-857E12304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ory.mirsky@ericsso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a:t>
            </a:r>
            <a:r>
              <a:rPr b="0" lang="en-US" sz="1400" spc="-1" strike="noStrike" u="sng">
                <a:solidFill>
                  <a:srgbClr val="009999"/>
                </a:solidFill>
                <a:uFillTx/>
                <a:latin typeface="Arial"/>
                <a:hlinkClick r:id="rId1"/>
              </a:rPr>
              <a:t>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59"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62"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64"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67"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since IETF-95</a:t>
            </a:r>
            <a:endParaRPr b="0" lang="en-US" sz="40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 Yuzhou joined OOAM DT</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osh Pallagatti had to leav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to:</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Requirements (many thanks to Ron Bonica and Tal Mizrahi for their review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Gap Analysis (many thanks to Tal Mizrahi for the review)</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ocumen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Head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Echo Request/Reply, a.k.a. 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definitions</a:t>
            </a:r>
            <a:endParaRPr b="0" lang="en-US" sz="4000" spc="-1" strike="noStrike">
              <a:solidFill>
                <a:srgbClr val="000000"/>
              </a:solidFill>
              <a:latin typeface="Arial"/>
            </a:endParaRPr>
          </a:p>
        </p:txBody>
      </p:sp>
      <p:sp>
        <p:nvSpPr>
          <p:cNvPr id="48" name=""/>
          <p:cNvSpPr txBox="1"/>
          <p:nvPr/>
        </p:nvSpPr>
        <p:spPr>
          <a:xfrm>
            <a:off x="457200" y="1417680"/>
            <a:ext cx="8229600" cy="505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ntroller: An external standalone or virtual entity with topology awareness and with an ability to interact with network devices for OAM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odes: Network nodes participating in the Overlay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etwork or Overlay Layer: A network layer that is built on top another network layer.  VxLAN-GPE over IP network is an example for Ov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ay Network or Underlay Layer: The network that provides connectivity between the Overlay nodes.  MPLS network providing LSP connectivity between BIER nodes is an example for und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0" name=""/>
          <p:cNvSpPr txBox="1"/>
          <p:nvPr/>
        </p:nvSpPr>
        <p:spPr>
          <a:xfrm>
            <a:off x="457200" y="1600200"/>
            <a:ext cx="8229600" cy="495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8:  Overlay OAM MUST support Path Maxim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mission Unit (MTU) Discovery from t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lay layer over any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13: Overlay OAM MAY support fault localization o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s of Continuity check at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OAM Passive PM vs. RFC 7799</a:t>
            </a:r>
            <a:endParaRPr b="0" lang="en-US" sz="4000" spc="-1" strike="noStrike">
              <a:solidFill>
                <a:srgbClr val="000000"/>
              </a:solidFill>
              <a:latin typeface="Arial"/>
            </a:endParaRPr>
          </a:p>
        </p:txBody>
      </p:sp>
      <p:sp>
        <p:nvSpPr>
          <p:cNvPr id="52" name=""/>
          <p:cNvSpPr txBox="1"/>
          <p:nvPr/>
        </p:nvSpPr>
        <p:spPr>
          <a:xfrm>
            <a:off x="457200" y="1219320"/>
            <a:ext cx="82296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4 and Section 3.5 of RFC 7799 provide the definitions for Active and Passive modes of Performance Measurement (PM) methods. OOAM DT interpretation of what Passive PM is </a:t>
            </a:r>
            <a:endParaRPr b="0" lang="en-US" sz="24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surement method that should not modify the actual data packet processing behavior on underlay and overlay network.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ly, it should be supported by the Overlay n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d and Extended</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capsulation of an overlay network uses one of methods discussed in draft-ietf-rtgwg-dt-encap to distinctly identify the payload as OAM, i.e. non-user, pac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verlay OAM protocols share the common Overlay OAM H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BFD developed at IETF, e.g. p2p BFD, p2mp BFD, and S-BF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on-demand CC/CV: MPLS Echo Request/Reply, LSP Self-ping, and BIER 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4T07:23:25Z</dcterms:modified>
  <cp:revision>160</cp:revision>
  <dc:subject/>
  <dc:title>MPLS-TP CV Advertisement in PW VCCV draft-mirsky-mpls-tp-cv-adv-00</dc:title>
</cp:coreProperties>
</file>