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5B36-9E78-4414-90BC-1D787DDBC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ECFE-11A2-44C7-B1A6-1A4F7AAF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D07A6-DA43-4B85-96C3-1A87E790C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3F40A-4751-443E-AF04-E3CBBE237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510F6-88F9-42A5-8579-2F21B591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87E6-497B-46DF-B049-D1AADA22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3A2A-68FF-4C6E-A79E-6FB3FF5B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BA4C2-17DA-4426-B9A9-20079691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9B4D-F949-4396-8944-BD7971CB9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4CDA-ED2D-4EAB-BA6C-B54A5C89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2F08-4C09-48FE-8305-C5A49A371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FCB9-D718-44D7-A82E-3CB58D796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CBBC-FC74-459D-8956-D76B9C613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t>
            </a:r>
            <a:r>
              <a:rPr b="0" lang="en-US" sz="2000" spc="-1" strike="noStrike" u="sng">
                <a:solidFill>
                  <a:srgbClr val="000000"/>
                </a:solidFill>
                <a:uFillTx/>
                <a:latin typeface="Arial"/>
              </a:rPr>
              <a:t>existing</a:t>
            </a:r>
            <a:r>
              <a:rPr b="0" lang="en-US" sz="2000" spc="-1" strike="noStrike">
                <a:solidFill>
                  <a:srgbClr val="000000"/>
                </a:solidFill>
                <a:latin typeface="Arial"/>
              </a:rPr>
              <a:t> </a:t>
            </a:r>
            <a:r>
              <a:rPr b="1" lang="en-US" sz="2000" spc="-1" strike="noStrike">
                <a:solidFill>
                  <a:srgbClr val="000000"/>
                </a:solidFill>
                <a:latin typeface="Arial"/>
              </a:rPr>
              <a:t>OAM Protoc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feature Gaps within each OAM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OAM Protocols to different Over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apsulation of an overlay network uses one of methods discussed in draft-ietf-rtgwg-dt-encap to distinctly identify the payload as OAM, i.e. non-user, pac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verlay OAM protocols share the common Overlay OAM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specific requirements of OAM Protocol (extensions to the underlay enc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6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fontScale="98000"/>
          </a:bodyPr>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M DT report to RTGWG at IETF-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12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is Design Team is chartered to first produce a brief </a:t>
            </a:r>
            <a:r>
              <a:rPr b="1" lang="en-US" sz="1600" spc="-1" strike="noStrike" u="sng">
                <a:solidFill>
                  <a:srgbClr val="000000"/>
                </a:solidFill>
                <a:uFillTx/>
                <a:latin typeface="Courier New"/>
              </a:rPr>
              <a:t>gap analysis</a:t>
            </a:r>
            <a:r>
              <a:rPr b="0" lang="en-US" sz="1600" spc="-1" strike="noStrike">
                <a:solidFill>
                  <a:srgbClr val="000000"/>
                </a:solidFill>
                <a:latin typeface="Courier New"/>
              </a:rPr>
              <a:t> and </a:t>
            </a:r>
            <a:r>
              <a:rPr b="1" lang="en-US" sz="1600" spc="-1" strike="noStrike" u="sng">
                <a:solidFill>
                  <a:srgbClr val="000000"/>
                </a:solidFill>
                <a:uFillTx/>
                <a:latin typeface="Courier New"/>
              </a:rPr>
              <a:t>requirements</a:t>
            </a:r>
            <a:r>
              <a:rPr b="0" lang="en-US" sz="1600" spc="-1" strike="noStrike">
                <a:solidFill>
                  <a:srgbClr val="000000"/>
                </a:solidFill>
                <a:latin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131"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133"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136"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412640"/>
            <a:ext cx="8229600" cy="498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 P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pres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MTU Dis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ty Chec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fect Ind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Verif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em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 defect localiz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racing through overlay net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of mapping between overlay network and client layer ser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localization of Loss of Continuity check at transport lay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MP discovery and ver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ing/tracero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 Signals like Alarm Indication Signal to suppress client layer alarms when server layer fault de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network survivability may use protection switching and rest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Terms at: https://tools.ietf.org/html/rfc7276</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assive PM is different from RFC 77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easurement method that should not modify the actual data packet processing behavior on underlay and overla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42:37Z</dcterms:modified>
  <cp:revision>143</cp:revision>
  <dc:subject/>
  <dc:title>MPLS-TP CV Advertisement in PW VCCV draft-mirsky-mpls-tp-cv-adv-00</dc:title>
</cp:coreProperties>
</file>