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7573-F71C-4E8E-850E-2B64A88C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C5A7-538C-4AB2-AD7F-CF37E5E687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6C3-A367-4C62-BB8F-B6B5E8A1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FFB-EE7D-4456-B7D4-DE9F00B4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17F-B06F-4EA5-962A-E05FE7E5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65F-475E-4806-9391-CD569B98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BFE-CB02-402B-A71F-92A14324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46D-83C9-4099-8A6F-030817B5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604-CFF7-4ECB-9403-7AFCD961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9B6-69E0-4463-BBF8-47AB8FFC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960-720D-478C-948B-3CAC0F88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56A-C848-4774-BA96-D861988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F5E-03EB-4C23-99B7-40B1E5D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525-6977-4633-BC07-63436213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6E5-8ADC-44F7-816D-72FA7857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easurement with the marking metho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irsky-bier-pmmm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Mirsky gregory.mirsky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 Zheng vero.zheng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hen mach.chen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seppe Fioccola giuseppe.fioccola@telecomitalia.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nd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                          1                              2                        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1  2 3  4 5  6 7  8 9 0 1 2 3 4  5 6 7  8 9 0 1 2  3 4  5 6 7  8 9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0 1 0 1 |   Ver   |   Len    |                         Entropy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                                   BitString  (first 32 bits)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  BIER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                                   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BitString  (last 32 bits)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OAM|       Reserved       |  Proto  |                     BFIR-id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 OAM f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S|D|                 S – sing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D – doub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"/>
          <p:cNvSpPr/>
          <p:nvPr/>
        </p:nvSpPr>
        <p:spPr>
          <a:xfrm>
            <a:off x="380880" y="4267080"/>
            <a:ext cx="1067040" cy="990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068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ing packets based on time interval to measure packet loss by switching value of the S flag. D flag MUST be set to 0 on transmit and ignored on rece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/Last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timestamp of when S flag value flips. Method is sensitive to packet loss and packet re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timestamps for each packet received within a single block.  Average of the timestamp is the sum of all the timestamps divided by the total number of packets received. Hence minimally impacted  by a packet loss and no impact if packets get re-or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9" name="Rectangle 4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620120" y="5602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55308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529240" y="5568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470520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3505320" y="558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2324160" y="5597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762120" y="55688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7"/>
          <p:cNvSpPr/>
          <p:nvPr/>
        </p:nvSpPr>
        <p:spPr>
          <a:xfrm flipV="1">
            <a:off x="7391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4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5"/>
          <p:cNvSpPr/>
          <p:nvPr/>
        </p:nvSpPr>
        <p:spPr>
          <a:xfrm flipV="1">
            <a:off x="1676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 flag to create batch of packets as in Sing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 flag to create new set of marked packets that are fully identified over the BI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compare timestamps on D-marked packets to calculate packet delay as well as the minimum and maximum delay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0" name="Rectangle 5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620120" y="56624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 flipV="1">
            <a:off x="7467480" y="5233680"/>
            <a:ext cx="0" cy="106668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1"/>
          <p:cNvSpPr/>
          <p:nvPr/>
        </p:nvSpPr>
        <p:spPr>
          <a:xfrm flipV="1">
            <a:off x="167652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55308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552924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70520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3505320" y="56926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232416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762120" y="56642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BIER sub-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 A applies Doub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s B, E, and H record timestamps of D-tagged BIER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181400" y="258588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191120" y="3990960"/>
            <a:ext cx="55224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181400" y="52387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4360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94360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66688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66688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371600" y="39909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3"/>
          <p:cNvSpPr/>
          <p:nvPr/>
        </p:nvSpPr>
        <p:spPr>
          <a:xfrm flipH="1">
            <a:off x="1923840" y="3495600"/>
            <a:ext cx="742680" cy="6904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5"/>
          <p:cNvSpPr/>
          <p:nvPr/>
        </p:nvSpPr>
        <p:spPr>
          <a:xfrm flipH="1">
            <a:off x="3219480" y="2843280"/>
            <a:ext cx="96192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7"/>
          <p:cNvSpPr/>
          <p:nvPr/>
        </p:nvSpPr>
        <p:spPr>
          <a:xfrm>
            <a:off x="3219480" y="3511440"/>
            <a:ext cx="971640" cy="7365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9"/>
          <p:cNvSpPr/>
          <p:nvPr/>
        </p:nvSpPr>
        <p:spPr>
          <a:xfrm flipH="1" flipV="1">
            <a:off x="4734000" y="2843280"/>
            <a:ext cx="120960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1"/>
          <p:cNvSpPr/>
          <p:nvPr/>
        </p:nvSpPr>
        <p:spPr>
          <a:xfrm flipH="1">
            <a:off x="4757760" y="3495600"/>
            <a:ext cx="1185840" cy="7765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3"/>
          <p:cNvSpPr/>
          <p:nvPr/>
        </p:nvSpPr>
        <p:spPr>
          <a:xfrm flipH="1" flipV="1">
            <a:off x="4743360" y="4248000"/>
            <a:ext cx="1200240" cy="6429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5"/>
          <p:cNvSpPr/>
          <p:nvPr/>
        </p:nvSpPr>
        <p:spPr>
          <a:xfrm>
            <a:off x="1924200" y="4219560"/>
            <a:ext cx="742680" cy="6714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7"/>
          <p:cNvSpPr/>
          <p:nvPr/>
        </p:nvSpPr>
        <p:spPr>
          <a:xfrm>
            <a:off x="3219480" y="4915080"/>
            <a:ext cx="961920" cy="5806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9"/>
          <p:cNvSpPr/>
          <p:nvPr/>
        </p:nvSpPr>
        <p:spPr>
          <a:xfrm flipV="1">
            <a:off x="4743360" y="4890960"/>
            <a:ext cx="120024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31"/>
          <p:cNvSpPr/>
          <p:nvPr/>
        </p:nvSpPr>
        <p:spPr>
          <a:xfrm flipV="1">
            <a:off x="3200400" y="4330800"/>
            <a:ext cx="99072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1371600" y="405288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2666880" y="331164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8"/>
          <p:cNvSpPr/>
          <p:nvPr/>
        </p:nvSpPr>
        <p:spPr>
          <a:xfrm>
            <a:off x="267804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9"/>
          <p:cNvSpPr/>
          <p:nvPr/>
        </p:nvSpPr>
        <p:spPr>
          <a:xfrm>
            <a:off x="4181400" y="26589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0"/>
          <p:cNvSpPr/>
          <p:nvPr/>
        </p:nvSpPr>
        <p:spPr>
          <a:xfrm>
            <a:off x="4205160" y="406404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1"/>
          <p:cNvSpPr/>
          <p:nvPr/>
        </p:nvSpPr>
        <p:spPr>
          <a:xfrm>
            <a:off x="4181400" y="53118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2"/>
          <p:cNvSpPr/>
          <p:nvPr/>
        </p:nvSpPr>
        <p:spPr>
          <a:xfrm>
            <a:off x="5961240" y="3311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3"/>
          <p:cNvSpPr/>
          <p:nvPr/>
        </p:nvSpPr>
        <p:spPr>
          <a:xfrm>
            <a:off x="594360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question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by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17:55:00Z</dcterms:modified>
  <cp:revision>59</cp:revision>
  <dc:subject/>
  <dc:title>MPLS-TP CV Advertisement in PW VCCV draft-mirsky-mpls-tp-cv-adv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Process">
    <vt:lpwstr>End</vt:lpwstr>
  </property>
</Properties>
</file>