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06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0868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060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1FAE-79BB-4FB4-867A-DD58885950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in prog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design to satisfy significa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405-60A0-4B3E-A3D0-25F9B2C7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1031-607A-4427-B4C4-B67D0175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4D7A-EEB3-4C31-9DB1-56A16FD3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C601-0076-4997-B2CA-D561427D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8E9-69B0-4FC6-8EDB-787FB8EA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2FD-26FB-46AE-A633-B0911375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7571-6FA6-4D7C-8EDD-F24850C7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567-4CC1-4759-A540-481CAEAF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992E-8003-4566-B1F7-F2E19EF2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4DB-94DE-46C5-B9CB-B198EA00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DBA-4030-4FFF-86E1-B74CD705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A2FD-0091-40DE-9E68-4AF75AA2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3960" y="6578640"/>
            <a:ext cx="150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7760" y="6559200"/>
            <a:ext cx="4308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37000" y="6540480"/>
            <a:ext cx="15670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597B-DC7B-4EF9-AA45-71C324946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1449000"/>
            <a:ext cx="8216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</a:rPr>
              <a:t>A+P</a:t>
            </a:r>
            <a:br>
              <a:rPr sz="3600"/>
            </a:br>
            <a:r>
              <a:rPr b="1" lang="fr-FR" sz="3600" spc="-1" strike="noStrike">
                <a:solidFill>
                  <a:srgbClr val="333399"/>
                </a:solidFill>
                <a:latin typeface="Arial"/>
              </a:rPr>
              <a:t>in Mesh Softwire Environmen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649116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mi Després - remi.despres@free.f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91160"/>
            <a:ext cx="41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76 th IETF – aplusp BOF - 2009-1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6680" y="5180040"/>
            <a:ext cx="64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: draft-despres-softwire-mesh-sam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4520" y="1628640"/>
            <a:ext cx="8548560" cy="41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l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caps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ssign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ubs-and-Spok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Me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polo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rt-set assignment parameter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rst and Last port nu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rt Mask and Valu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ort Pref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80960" y="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onomy of A+P mechanisms</a:t>
            </a:r>
            <a:br>
              <a:rPr sz="32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where a proposed Mesh-Softwire A+P 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6th IETF - Softwire - Mesh - S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5AC-765E-43F9-8257-F1DB564295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-11-09   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210440" y="2338560"/>
            <a:ext cx="77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61960" y="3254400"/>
            <a:ext cx="890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72160" y="1633680"/>
            <a:ext cx="1693800" cy="3716280"/>
          </a:xfrm>
          <a:custGeom>
            <a:avLst/>
            <a:gdLst>
              <a:gd name="textAreaLeft" fmla="*/ 82440 w 1693800"/>
              <a:gd name="textAreaRight" fmla="*/ 1611360 w 1693800"/>
              <a:gd name="textAreaTop" fmla="*/ 82440 h 3716280"/>
              <a:gd name="textAreaBottom" fmla="*/ 3633840 h 3716280"/>
            </a:gdLst>
            <a:ahLst/>
            <a:rect l="textAreaLeft" t="textAreaTop" r="textAreaRight" b="textAreaBottom"/>
            <a:pathLst>
              <a:path w="21600" h="47386">
                <a:moveTo>
                  <a:pt x="3600" y="0"/>
                </a:moveTo>
                <a:arcTo wR="3600" hR="3600" stAng="16200000" swAng="-5400000"/>
                <a:lnTo>
                  <a:pt x="0" y="43786"/>
                </a:lnTo>
                <a:arcTo wR="3600" hR="3600" stAng="10800000" swAng="-5400000"/>
                <a:lnTo>
                  <a:pt x="18000" y="473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f1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88040" y="3254400"/>
            <a:ext cx="1189080" cy="1695600"/>
          </a:xfrm>
          <a:custGeom>
            <a:avLst/>
            <a:gdLst>
              <a:gd name="textAreaLeft" fmla="*/ 57960 w 1189080"/>
              <a:gd name="textAreaRight" fmla="*/ 1131120 w 1189080"/>
              <a:gd name="textAreaTop" fmla="*/ 57960 h 1695600"/>
              <a:gd name="textAreaBottom" fmla="*/ 1637640 h 1695600"/>
            </a:gdLst>
            <a:ahLst/>
            <a:rect l="textAreaLeft" t="textAreaTop" r="textAreaRight" b="textAreaBottom"/>
            <a:pathLst>
              <a:path w="21600" h="30798">
                <a:moveTo>
                  <a:pt x="3600" y="0"/>
                </a:moveTo>
                <a:arcTo wR="3600" hR="3600" stAng="16200000" swAng="-5400000"/>
                <a:lnTo>
                  <a:pt x="0" y="27198"/>
                </a:lnTo>
                <a:arcTo wR="3600" hR="3600" stAng="10800000" swAng="-5400000"/>
                <a:lnTo>
                  <a:pt x="18000" y="307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ecbd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76640" y="1633680"/>
            <a:ext cx="2620800" cy="2744640"/>
          </a:xfrm>
          <a:custGeom>
            <a:avLst/>
            <a:gdLst>
              <a:gd name="textAreaLeft" fmla="*/ 127800 w 2620800"/>
              <a:gd name="textAreaRight" fmla="*/ 2493000 w 2620800"/>
              <a:gd name="textAreaTop" fmla="*/ 127800 h 2744640"/>
              <a:gd name="textAreaBottom" fmla="*/ 2616840 h 2744640"/>
            </a:gdLst>
            <a:ahLst/>
            <a:rect l="textAreaLeft" t="textAreaTop" r="textAreaRight" b="textAreaBottom"/>
            <a:pathLst>
              <a:path w="21600" h="22621">
                <a:moveTo>
                  <a:pt x="3600" y="0"/>
                </a:moveTo>
                <a:arcTo wR="3600" hR="3600" stAng="16200000" swAng="-5400000"/>
                <a:lnTo>
                  <a:pt x="0" y="19021"/>
                </a:lnTo>
                <a:arcTo wR="3600" hR="3600" stAng="10800000" swAng="-5400000"/>
                <a:lnTo>
                  <a:pt x="18000" y="22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f1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5880" y="2471760"/>
            <a:ext cx="1809720" cy="1695600"/>
          </a:xfrm>
          <a:prstGeom prst="roundRect">
            <a:avLst>
              <a:gd name="adj" fmla="val 16667"/>
            </a:avLst>
          </a:prstGeom>
          <a:solidFill>
            <a:srgbClr val="8ecbd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68920" y="3370320"/>
            <a:ext cx="92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10440" y="4224240"/>
            <a:ext cx="77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"/>
          <p:cNvSpPr/>
          <p:nvPr/>
        </p:nvSpPr>
        <p:spPr>
          <a:xfrm>
            <a:off x="7853400" y="1598760"/>
            <a:ext cx="1065240" cy="1485720"/>
          </a:xfrm>
          <a:prstGeom prst="pie">
            <a:avLst/>
          </a:prstGeom>
          <a:solidFill>
            <a:srgbClr val="d6ecee"/>
          </a:solidFill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loud"/>
          <p:cNvSpPr/>
          <p:nvPr/>
        </p:nvSpPr>
        <p:spPr>
          <a:xfrm>
            <a:off x="7853400" y="3479760"/>
            <a:ext cx="1065240" cy="1486080"/>
          </a:xfrm>
          <a:prstGeom prst="pie">
            <a:avLst/>
          </a:prstGeom>
          <a:solidFill>
            <a:srgbClr val="d6ecee"/>
          </a:solidFill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0960" y="0"/>
            <a:ext cx="822960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of Mesh Softwire A+P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53400" y="1913040"/>
            <a:ext cx="1236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c00"/>
                </a:solidFill>
                <a:latin typeface="Arial"/>
                <a:ea typeface="Times New Roman"/>
              </a:rPr>
              <a:t>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c00"/>
                </a:solidFill>
                <a:latin typeface="Arial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97560" y="1779480"/>
            <a:ext cx="203976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c00"/>
                </a:solidFill>
                <a:latin typeface="Arial"/>
                <a:ea typeface="Times New Roman"/>
              </a:rPr>
              <a:t>IPv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Times New Roman"/>
              </a:rPr>
              <a:t>10.0.0.0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53400" y="3819600"/>
            <a:ext cx="1236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46960" y="3395520"/>
            <a:ext cx="83016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46960" y="4224240"/>
            <a:ext cx="830160" cy="58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46800" y="1938240"/>
            <a:ext cx="790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c00"/>
                </a:solidFill>
                <a:latin typeface="Arial"/>
                <a:ea typeface="Times New Roman"/>
              </a:rPr>
              <a:t>/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46800" y="3819600"/>
            <a:ext cx="790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/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36760" y="2567160"/>
            <a:ext cx="830520" cy="82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36760" y="3395520"/>
            <a:ext cx="830520" cy="586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67280" y="3102120"/>
            <a:ext cx="830160" cy="58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87960" y="1251000"/>
            <a:ext cx="28494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73240" y="1251000"/>
            <a:ext cx="2862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6880" y="2567160"/>
            <a:ext cx="1135080" cy="1188720"/>
          </a:xfrm>
          <a:custGeom>
            <a:avLst/>
            <a:gdLst>
              <a:gd name="textAreaLeft" fmla="*/ 55080 w 1135080"/>
              <a:gd name="textAreaRight" fmla="*/ 1080000 w 1135080"/>
              <a:gd name="textAreaTop" fmla="*/ 55080 h 1188720"/>
              <a:gd name="textAreaBottom" fmla="*/ 1133640 h 1188720"/>
            </a:gdLst>
            <a:ahLst/>
            <a:rect l="textAreaLeft" t="textAreaTop" r="textAreaRight" b="textAreaBottom"/>
            <a:pathLst>
              <a:path w="21600" h="22620">
                <a:moveTo>
                  <a:pt x="3600" y="0"/>
                </a:moveTo>
                <a:arcTo wR="3600" hR="3600" stAng="16200000" swAng="-5400000"/>
                <a:lnTo>
                  <a:pt x="0" y="19020"/>
                </a:lnTo>
                <a:arcTo wR="3600" hR="3600" stAng="10800000" swAng="-5400000"/>
                <a:lnTo>
                  <a:pt x="18000" y="22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f1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1800" y="2894040"/>
            <a:ext cx="830160" cy="58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5920" y="2163600"/>
            <a:ext cx="13460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41920" y="2389320"/>
            <a:ext cx="955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c00"/>
                </a:solidFill>
                <a:latin typeface="Arial"/>
                <a:ea typeface="Times New Roman"/>
              </a:rPr>
              <a:t>/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35600" y="2754360"/>
            <a:ext cx="6062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09960" y="3875040"/>
            <a:ext cx="482760" cy="1154160"/>
          </a:xfrm>
          <a:custGeom>
            <a:avLst/>
            <a:gdLst/>
            <a:ahLst/>
            <a:rect l="l" t="t" r="r" b="b"/>
            <a:pathLst>
              <a:path w="304" h="727">
                <a:moveTo>
                  <a:pt x="0" y="727"/>
                </a:moveTo>
                <a:cubicBezTo>
                  <a:pt x="50" y="606"/>
                  <a:pt x="241" y="151"/>
                  <a:pt x="304" y="0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97440" y="3513240"/>
            <a:ext cx="8906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+/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79680" y="2754360"/>
            <a:ext cx="772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0040" y="2297160"/>
            <a:ext cx="606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c00"/>
                </a:solidFill>
                <a:latin typeface="Arial"/>
                <a:ea typeface="Times New Roman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76640" y="1779480"/>
            <a:ext cx="262080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c00"/>
                </a:solidFill>
                <a:latin typeface="Arial"/>
                <a:ea typeface="Times New Roman"/>
              </a:rPr>
              <a:t>IPv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Times New Roman"/>
              </a:rPr>
              <a:t>192.168.0.0/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86000" y="3305160"/>
            <a:ext cx="8906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+/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1160" y="5029200"/>
            <a:ext cx="52164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=&gt; 2K ports on a global IPv4 @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05040" y="3697200"/>
            <a:ext cx="272880" cy="795600"/>
          </a:xfrm>
          <a:custGeom>
            <a:avLst/>
            <a:gdLst/>
            <a:ahLst/>
            <a:rect l="l" t="t" r="r" b="b"/>
            <a:pathLst>
              <a:path w="172" h="501">
                <a:moveTo>
                  <a:pt x="172" y="501"/>
                </a:moveTo>
                <a:cubicBezTo>
                  <a:pt x="143" y="418"/>
                  <a:pt x="36" y="105"/>
                  <a:pt x="0" y="0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600" y="4684680"/>
            <a:ext cx="47023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=&gt; 64 ports on a global IPv4 @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656320"/>
            <a:ext cx="9090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 communication between sites having  IPv4-only ho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0080" y="3376440"/>
            <a:ext cx="71280" cy="2279880"/>
          </a:xfrm>
          <a:custGeom>
            <a:avLst/>
            <a:gdLst/>
            <a:ahLst/>
            <a:rect l="l" t="t" r="r" b="b"/>
            <a:pathLst>
              <a:path w="45" h="1436">
                <a:moveTo>
                  <a:pt x="45" y="1436"/>
                </a:moveTo>
                <a:cubicBezTo>
                  <a:pt x="38" y="1198"/>
                  <a:pt x="9" y="299"/>
                  <a:pt x="0" y="0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6th IETF - Softwire - Mesh - S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FD87-BC6A-4113-9C3A-E936A5FE64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-11-09   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44520" y="1989000"/>
            <a:ext cx="8548560" cy="41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  <a:ea typeface="Times New Roman"/>
              </a:rPr>
              <a:t>Incl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  <a:ea typeface="Times New Roman"/>
              </a:rPr>
              <a:t>softwire mesh topolog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  <a:ea typeface="Times New Roman"/>
              </a:rPr>
              <a:t>in the sco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  <a:ea typeface="Times New Roman"/>
              </a:rPr>
              <a:t>of the A+P W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80960" y="-360"/>
            <a:ext cx="82296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oposed Conclu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6th IETF - Softwire - Mesh - S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1720-DCF3-47EC-9F8B-CD6B530FBE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-11-09   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8:56:45Z</dcterms:created>
  <dc:creator>RD</dc:creator>
  <dc:description/>
  <dc:language>en-US</dc:language>
  <cp:lastModifiedBy>RD</cp:lastModifiedBy>
  <dcterms:modified xsi:type="dcterms:W3CDTF">2009-11-12T10:51:16Z</dcterms:modified>
  <cp:revision>89</cp:revision>
  <dc:subject/>
  <dc:title>Diapositive 1</dc:title>
</cp:coreProperties>
</file>