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AC05-F17B-4DE4-ADFC-264FE3C262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esign to satisfy significa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C55-6D75-42A7-891E-CC290584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725-089A-45AF-96DD-AFCA1381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A89-5ECD-4693-98C7-2DD25C81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24D-96C5-4BB7-9A77-B6511293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3CE-629A-4E40-93D4-D8CF25DC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D9F-AB98-4B70-9522-D19F4FE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29B-BFFB-4B01-8995-D3AB155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4C4-CF87-4831-9A10-5C9403B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0B4-6F57-4D75-B19B-0232908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12C-FF82-490F-B2CA-E627B71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563-7C48-471C-9897-71E97C6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FB2-3CC4-4E54-9428-731D6EE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3960" y="6578640"/>
            <a:ext cx="150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7760" y="6559200"/>
            <a:ext cx="4308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000" y="6540480"/>
            <a:ext cx="15670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EABC-F25E-448B-BFAC-D0DDEC20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449000"/>
            <a:ext cx="8216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A+P</a:t>
            </a:r>
            <a:br>
              <a:rPr sz="3600"/>
            </a:br>
            <a:r>
              <a:rPr b="1" lang="fr-FR" sz="3600" spc="-1" strike="noStrike">
                <a:solidFill>
                  <a:srgbClr val="333399"/>
                </a:solidFill>
                <a:latin typeface="Arial"/>
              </a:rPr>
              <a:t>in Mesh Softwire Environm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649116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mi Després - remi.despres@free.f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9116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6 th IETF – aplusp BOF - 2009-1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6680" y="5180040"/>
            <a:ext cx="64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: draft-despres-softwire-mesh-sam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4520" y="1628640"/>
            <a:ext cx="854856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sig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ubs-and-Spo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Me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p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-set assignment parameter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and Last port nu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 Mask and Valu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ort Pref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onomy of A+P mechanisms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where a proposed Mesh-Softwire A+P 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CA0-E911-4C6D-B36C-BEA7F347C8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10440" y="2338560"/>
            <a:ext cx="77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61960" y="3254400"/>
            <a:ext cx="89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72160" y="1633680"/>
            <a:ext cx="1693800" cy="3716280"/>
          </a:xfrm>
          <a:custGeom>
            <a:avLst/>
            <a:gdLst>
              <a:gd name="textAreaLeft" fmla="*/ 82440 w 1693800"/>
              <a:gd name="textAreaRight" fmla="*/ 1611360 w 1693800"/>
              <a:gd name="textAreaTop" fmla="*/ 82440 h 3716280"/>
              <a:gd name="textAreaBottom" fmla="*/ 3633840 h 3716280"/>
            </a:gdLst>
            <a:ahLst/>
            <a:rect l="textAreaLeft" t="textAreaTop" r="textAreaRight" b="textAreaBottom"/>
            <a:pathLst>
              <a:path w="21600" h="47386">
                <a:moveTo>
                  <a:pt x="3600" y="0"/>
                </a:moveTo>
                <a:arcTo wR="3600" hR="3600" stAng="16200000" swAng="-5400000"/>
                <a:lnTo>
                  <a:pt x="0" y="43786"/>
                </a:lnTo>
                <a:arcTo wR="3600" hR="3600" stAng="10800000" swAng="-5400000"/>
                <a:lnTo>
                  <a:pt x="18000" y="4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8040" y="3254400"/>
            <a:ext cx="1189080" cy="1695600"/>
          </a:xfrm>
          <a:custGeom>
            <a:avLst/>
            <a:gdLst>
              <a:gd name="textAreaLeft" fmla="*/ 57960 w 1189080"/>
              <a:gd name="textAreaRight" fmla="*/ 1131120 w 1189080"/>
              <a:gd name="textAreaTop" fmla="*/ 57960 h 1695600"/>
              <a:gd name="textAreaBottom" fmla="*/ 1637640 h 1695600"/>
            </a:gdLst>
            <a:ahLst/>
            <a:rect l="textAreaLeft" t="textAreaTop" r="textAreaRight" b="textAreaBottom"/>
            <a:pathLst>
              <a:path w="21600" h="30798">
                <a:moveTo>
                  <a:pt x="3600" y="0"/>
                </a:moveTo>
                <a:arcTo wR="3600" hR="3600" stAng="16200000" swAng="-5400000"/>
                <a:lnTo>
                  <a:pt x="0" y="27198"/>
                </a:lnTo>
                <a:arcTo wR="3600" hR="3600" stAng="10800000" swAng="-5400000"/>
                <a:lnTo>
                  <a:pt x="18000" y="30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ecbd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76640" y="1633680"/>
            <a:ext cx="2620800" cy="2744640"/>
          </a:xfrm>
          <a:custGeom>
            <a:avLst/>
            <a:gdLst>
              <a:gd name="textAreaLeft" fmla="*/ 127800 w 2620800"/>
              <a:gd name="textAreaRight" fmla="*/ 2493000 w 2620800"/>
              <a:gd name="textAreaTop" fmla="*/ 127800 h 2744640"/>
              <a:gd name="textAreaBottom" fmla="*/ 2616840 h 2744640"/>
            </a:gdLst>
            <a:ahLst/>
            <a:rect l="textAreaLeft" t="textAreaTop" r="textAreaRight" b="textAreaBottom"/>
            <a:pathLst>
              <a:path w="21600" h="22621">
                <a:moveTo>
                  <a:pt x="3600" y="0"/>
                </a:moveTo>
                <a:arcTo wR="3600" hR="3600" stAng="16200000" swAng="-5400000"/>
                <a:lnTo>
                  <a:pt x="0" y="19021"/>
                </a:lnTo>
                <a:arcTo wR="3600" hR="3600" stAng="10800000" swAng="-5400000"/>
                <a:lnTo>
                  <a:pt x="18000" y="22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5880" y="2471760"/>
            <a:ext cx="1809720" cy="1695600"/>
          </a:xfrm>
          <a:prstGeom prst="roundRect">
            <a:avLst>
              <a:gd name="adj" fmla="val 16667"/>
            </a:avLst>
          </a:prstGeom>
          <a:solidFill>
            <a:srgbClr val="8ecbd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8920" y="3370320"/>
            <a:ext cx="92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10440" y="4224240"/>
            <a:ext cx="77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853400" y="1598760"/>
            <a:ext cx="1065240" cy="1485720"/>
          </a:xfrm>
          <a:prstGeom prst="pie">
            <a:avLst/>
          </a:prstGeom>
          <a:solidFill>
            <a:srgbClr val="d6ecee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7853400" y="3479760"/>
            <a:ext cx="1065240" cy="1486080"/>
          </a:xfrm>
          <a:prstGeom prst="pie">
            <a:avLst/>
          </a:prstGeom>
          <a:solidFill>
            <a:srgbClr val="d6ecee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Mesh Softwire A+P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53400" y="1913040"/>
            <a:ext cx="1236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c00"/>
                </a:solidFill>
                <a:latin typeface="Arial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97560" y="1779480"/>
            <a:ext cx="20397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10.0.0.0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53400" y="3819600"/>
            <a:ext cx="1236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P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6960" y="3395520"/>
            <a:ext cx="83016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46960" y="422424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6800" y="1938240"/>
            <a:ext cx="79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/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6800" y="3819600"/>
            <a:ext cx="790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6760" y="2567160"/>
            <a:ext cx="830520" cy="82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6760" y="3395520"/>
            <a:ext cx="830520" cy="58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10212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7960" y="1251000"/>
            <a:ext cx="2849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73240" y="1251000"/>
            <a:ext cx="2862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6880" y="2567160"/>
            <a:ext cx="1135080" cy="1188720"/>
          </a:xfrm>
          <a:custGeom>
            <a:avLst/>
            <a:gdLst>
              <a:gd name="textAreaLeft" fmla="*/ 55080 w 1135080"/>
              <a:gd name="textAreaRight" fmla="*/ 1080000 w 1135080"/>
              <a:gd name="textAreaTop" fmla="*/ 55080 h 1188720"/>
              <a:gd name="textAreaBottom" fmla="*/ 1133640 h 1188720"/>
            </a:gdLst>
            <a:ahLst/>
            <a:rect l="textAreaLeft" t="textAreaTop" r="textAreaRight" b="textAreaBottom"/>
            <a:pathLst>
              <a:path w="21600" h="22620">
                <a:moveTo>
                  <a:pt x="3600" y="0"/>
                </a:moveTo>
                <a:arcTo wR="3600" hR="3600" stAng="16200000" swAng="-5400000"/>
                <a:lnTo>
                  <a:pt x="0" y="19020"/>
                </a:lnTo>
                <a:arcTo wR="3600" hR="3600" stAng="10800000" swAng="-5400000"/>
                <a:lnTo>
                  <a:pt x="18000" y="22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f1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1800" y="2894040"/>
            <a:ext cx="830160" cy="58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5920" y="2163600"/>
            <a:ext cx="13460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41920" y="2389320"/>
            <a:ext cx="95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/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5600" y="2754360"/>
            <a:ext cx="6062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9960" y="3875040"/>
            <a:ext cx="482760" cy="1154160"/>
          </a:xfrm>
          <a:custGeom>
            <a:avLst/>
            <a:gdLst/>
            <a:ahLst/>
            <a:rect l="l" t="t" r="r" b="b"/>
            <a:pathLst>
              <a:path w="304" h="727">
                <a:moveTo>
                  <a:pt x="0" y="727"/>
                </a:moveTo>
                <a:cubicBezTo>
                  <a:pt x="50" y="606"/>
                  <a:pt x="241" y="151"/>
                  <a:pt x="304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7440" y="3513240"/>
            <a:ext cx="8906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+/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9680" y="2754360"/>
            <a:ext cx="772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0040" y="2297160"/>
            <a:ext cx="606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c00"/>
                </a:solidFill>
                <a:latin typeface="Arial"/>
                <a:ea typeface="Times New Roman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76640" y="1779480"/>
            <a:ext cx="26208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c00"/>
                </a:solidFill>
                <a:latin typeface="Arial"/>
                <a:ea typeface="Times New Roman"/>
              </a:rPr>
              <a:t>IPv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Times New Roman"/>
              </a:rPr>
              <a:t>192.168.0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86000" y="3305160"/>
            <a:ext cx="8906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+/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160" y="5029200"/>
            <a:ext cx="521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&gt; 2K ports on a global IPv4 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5040" y="3697200"/>
            <a:ext cx="272880" cy="795600"/>
          </a:xfrm>
          <a:custGeom>
            <a:avLst/>
            <a:gdLst/>
            <a:ahLst/>
            <a:rect l="l" t="t" r="r" b="b"/>
            <a:pathLst>
              <a:path w="172" h="501">
                <a:moveTo>
                  <a:pt x="172" y="501"/>
                </a:moveTo>
                <a:cubicBezTo>
                  <a:pt x="143" y="418"/>
                  <a:pt x="36" y="105"/>
                  <a:pt x="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00" y="4684680"/>
            <a:ext cx="47023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=&gt; 64 ports on a global IPv4 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656320"/>
            <a:ext cx="9090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 communication between sites having  IPv4-only h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3376440"/>
            <a:ext cx="71280" cy="2279880"/>
          </a:xfrm>
          <a:custGeom>
            <a:avLst/>
            <a:gdLst/>
            <a:ahLst/>
            <a:rect l="l" t="t" r="r" b="b"/>
            <a:pathLst>
              <a:path w="45" h="1436">
                <a:moveTo>
                  <a:pt x="45" y="1436"/>
                </a:moveTo>
                <a:cubicBezTo>
                  <a:pt x="38" y="1198"/>
                  <a:pt x="9" y="299"/>
                  <a:pt x="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83E-9AB6-4E41-BD92-424638742F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44520" y="1989000"/>
            <a:ext cx="854856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ncl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softwire mesh topolog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n the sc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of the A+P W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posed 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6th IETF - Softwire - Mesh - S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C0C-FC8F-456F-BB39-EF896D3377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-11-09   R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8:56:45Z</dcterms:created>
  <dc:creator>RD</dc:creator>
  <dc:description/>
  <dc:language>en-US</dc:language>
  <cp:lastModifiedBy>RD</cp:lastModifiedBy>
  <dcterms:modified xsi:type="dcterms:W3CDTF">2009-11-12T10:51:16Z</dcterms:modified>
  <cp:revision>89</cp:revision>
  <dc:subject/>
  <dc:title>Diapositive 1</dc:title>
</cp:coreProperties>
</file>