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0C73-62C1-4AC6-84F9-BE34708F87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esign to satisfy significa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B04-E3E9-4B8B-BC2F-B1006B0A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90F-2F75-4CC4-A37C-BB6A9B1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B8C-BEA4-4E36-8DF8-08A95119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591-FEED-4FFA-977C-DEFA46DD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313-C432-4614-BBD7-7A9273C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A1C-82C2-4E01-A598-74FC6C6D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46D-F70A-4BA9-A97E-E37CFB1B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82A-44A6-42D8-B902-BD1B2C20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C83-86A5-4D75-A1B9-5FF7316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3EB-97AA-4ED4-87D0-3294EDF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E65-B3A0-4DD3-AFBF-107F809C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B94-6413-443D-B76C-CB2454F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3600" y="6399360"/>
            <a:ext cx="1957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06640" y="6399360"/>
            <a:ext cx="3998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77280" y="6399360"/>
            <a:ext cx="11095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6A20-5CA4-4765-A565-CFAA1A40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5920" y="1449000"/>
            <a:ext cx="8217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Address + Port addressing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(A+P)</a:t>
            </a:r>
            <a:br>
              <a:rPr sz="3600"/>
            </a:br>
            <a:br>
              <a:rPr sz="14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Purpose and Ori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649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Després - remi.despres@free.f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9116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6 th IETF – aplusp BOF - 2009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80960" y="907560"/>
            <a:ext cx="8005680" cy="52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Coexistence period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(IPv6-enabled and IPv4-only h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IPv6 Sites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having </a:t>
            </a: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shared-only IPv4 address</a:t>
            </a:r>
            <a:r>
              <a:rPr b="0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ssible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rt management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by custom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ssibly</a:t>
            </a:r>
            <a:r>
              <a:rPr b="1" lang="en-US" sz="2800" spc="-1" strike="noStrike">
                <a:solidFill>
                  <a:srgbClr val="01048d"/>
                </a:solidFill>
                <a:latin typeface="Arial"/>
                <a:ea typeface="Times New Roman"/>
              </a:rPr>
              <a:t> coexistence 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with ISP N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Assign to sites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port-restricted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04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Encapsulate</a:t>
            </a:r>
            <a:r>
              <a:rPr b="0" lang="en-US" sz="2400" spc="-1" strike="noStrike">
                <a:solidFill>
                  <a:srgbClr val="01048d"/>
                </a:solidFill>
                <a:latin typeface="Arial"/>
                <a:ea typeface="Times New Roman"/>
              </a:rPr>
              <a:t> IPv4 A+P packets in IPv6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eneral Scope of A+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F5E-7902-4DEE-84C0-FBFBA7F6C6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0560" y="1493640"/>
            <a:ext cx="7559640" cy="46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999-2001 - RS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alm Specific IP - RFC 31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rimental protocol for dynamic A+P on mesh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8-2009 - re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2008: draft-despres-v6ops-apbp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 2008: draft-bajko-v6ops-port-restricted-ipaddr-assign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 2008:  draft-boucadair-port-range-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 2008:  draft-ymbk-aplusp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8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presentation at IETF 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009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lusp B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rief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A8D-A080-4C82-86BA-EFDD2F4C2D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6640" y="1538280"/>
            <a:ext cx="733248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ubs-and-Spok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p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and/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ort-range spec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&amp;La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sk&amp;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ied Variants WITHIN the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28B-1C59-4879-B2B3-7A02326B98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35080" y="1314360"/>
            <a:ext cx="4292640" cy="3149640"/>
            <a:chOff x="235080" y="1314360"/>
            <a:chExt cx="4292640" cy="31496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6673" t="14054" r="7077" b="0"/>
            <a:stretch/>
          </p:blipFill>
          <p:spPr>
            <a:xfrm>
              <a:off x="235080" y="1314360"/>
              <a:ext cx="429264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35080" y="1314360"/>
              <a:ext cx="4292640" cy="29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2920" y="0"/>
            <a:ext cx="82296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IETF 73 Common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681440" y="2708280"/>
            <a:ext cx="3960720" cy="2979720"/>
            <a:chOff x="4681440" y="2708280"/>
            <a:chExt cx="3960720" cy="29797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8048" t="0" r="3097" b="5394"/>
            <a:stretch/>
          </p:blipFill>
          <p:spPr>
            <a:xfrm>
              <a:off x="4681440" y="2708280"/>
              <a:ext cx="396072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681440" y="2708280"/>
              <a:ext cx="3960720" cy="29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527720" y="1833480"/>
            <a:ext cx="16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Arial"/>
                <a:ea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26280" y="5776920"/>
            <a:ext cx="162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8080"/>
                </a:solidFill>
                <a:latin typeface="Arial"/>
                <a:ea typeface="Times New Roman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4376880"/>
            <a:ext cx="4319280" cy="493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+P purpose and origin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535-D5F7-445A-8A13-15B04918F70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ETF 76 - aplusp BO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8:56:45Z</dcterms:created>
  <dc:creator>RD</dc:creator>
  <dc:description/>
  <dc:language>en-US</dc:language>
  <cp:lastModifiedBy>RD</cp:lastModifiedBy>
  <dcterms:modified xsi:type="dcterms:W3CDTF">2009-11-11T02:59:40Z</dcterms:modified>
  <cp:revision>97</cp:revision>
  <dc:subject/>
  <dc:title>Diapositive 1</dc:title>
</cp:coreProperties>
</file>