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060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7800" y="750960"/>
            <a:ext cx="500868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060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952A-C1DA-4D3A-BA19-E523871242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in prog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design to satisfy significant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A245-9B05-4281-A30B-EDA63E65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6A44-1779-4BFB-8858-EF0BDF1F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6CE4-D972-4CF5-9814-31FF3ABE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D4AD-6F43-4B14-BB73-CA382AD6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D729-9F94-4BB5-8FE6-C14D08DA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4F01-F5E2-4E82-AC48-2829A261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4B3F-C57B-4E7D-A582-4A1643DC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0D4E-3C52-4238-8857-E5C210F1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0A16-8FA6-4176-B484-B964CAE2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DE87-FB2E-48EA-B2B9-533D7E46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A09B-FFD4-4A28-B930-06057BFA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CEFA-DB6D-4AFA-B73C-3592EED5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3600" y="6399360"/>
            <a:ext cx="1957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06640" y="6399360"/>
            <a:ext cx="3998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77280" y="6399360"/>
            <a:ext cx="11095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5673-685B-4DF4-941D-8E30EF14E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5920" y="1449000"/>
            <a:ext cx="82170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Arial"/>
              </a:rPr>
              <a:t>Address + Port addressing</a:t>
            </a:r>
            <a:br>
              <a:rPr sz="3600"/>
            </a:br>
            <a:r>
              <a:rPr b="1" lang="fr-FR" sz="3600" spc="-1" strike="noStrike">
                <a:solidFill>
                  <a:srgbClr val="333399"/>
                </a:solidFill>
                <a:latin typeface="Arial"/>
              </a:rPr>
              <a:t>(A+P)</a:t>
            </a:r>
            <a:br>
              <a:rPr sz="3600"/>
            </a:br>
            <a:br>
              <a:rPr sz="1400"/>
            </a:br>
            <a:r>
              <a:rPr b="1" lang="fr-FR" sz="3600" spc="-1" strike="noStrike">
                <a:solidFill>
                  <a:srgbClr val="333399"/>
                </a:solidFill>
                <a:latin typeface="Arial"/>
              </a:rPr>
              <a:t>Purpose and Ori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52880" y="649116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émi Després - remi.despres@free.f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91160"/>
            <a:ext cx="41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76 th IETF – aplusp BOF - 2009-11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80960" y="907560"/>
            <a:ext cx="8005680" cy="52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104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48d"/>
                </a:solidFill>
                <a:latin typeface="Arial"/>
                <a:ea typeface="Times New Roman"/>
              </a:rPr>
              <a:t>Coexistence period</a:t>
            </a:r>
            <a:r>
              <a:rPr b="0" lang="en-US" sz="2400" spc="-1" strike="noStrike">
                <a:solidFill>
                  <a:srgbClr val="01048d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48d"/>
                </a:solidFill>
                <a:latin typeface="Arial"/>
                <a:ea typeface="Times New Roman"/>
              </a:rPr>
              <a:t>(IPv6-enabled and IPv4-only hos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at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04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48d"/>
                </a:solidFill>
                <a:latin typeface="Arial"/>
                <a:ea typeface="Times New Roman"/>
              </a:rPr>
              <a:t>IPv6 Sites</a:t>
            </a:r>
            <a:r>
              <a:rPr b="0" lang="en-US" sz="2400" spc="-1" strike="noStrike">
                <a:solidFill>
                  <a:srgbClr val="01048d"/>
                </a:solidFill>
                <a:latin typeface="Arial"/>
                <a:ea typeface="Times New Roman"/>
              </a:rPr>
              <a:t> having </a:t>
            </a:r>
            <a:r>
              <a:rPr b="1" lang="en-US" sz="2800" spc="-1" strike="noStrike">
                <a:solidFill>
                  <a:srgbClr val="01048d"/>
                </a:solidFill>
                <a:latin typeface="Arial"/>
                <a:ea typeface="Times New Roman"/>
              </a:rPr>
              <a:t>shared-only IPv4 address</a:t>
            </a:r>
            <a:r>
              <a:rPr b="0" lang="en-US" sz="2800" spc="-1" strike="noStrike">
                <a:solidFill>
                  <a:srgbClr val="01048d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104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48d"/>
                </a:solidFill>
                <a:latin typeface="Arial"/>
                <a:ea typeface="Times New Roman"/>
              </a:rPr>
              <a:t>Possible </a:t>
            </a:r>
            <a:r>
              <a:rPr b="1" lang="en-US" sz="2400" spc="-1" strike="noStrike">
                <a:solidFill>
                  <a:srgbClr val="01048d"/>
                </a:solidFill>
                <a:latin typeface="Arial"/>
                <a:ea typeface="Times New Roman"/>
              </a:rPr>
              <a:t>port management</a:t>
            </a:r>
            <a:r>
              <a:rPr b="0" lang="en-US" sz="2400" spc="-1" strike="noStrike">
                <a:solidFill>
                  <a:srgbClr val="01048d"/>
                </a:solidFill>
                <a:latin typeface="Arial"/>
                <a:ea typeface="Times New Roman"/>
              </a:rPr>
              <a:t> by customer s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104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48d"/>
                </a:solidFill>
                <a:latin typeface="Arial"/>
                <a:ea typeface="Times New Roman"/>
              </a:rPr>
              <a:t>Possibly</a:t>
            </a:r>
            <a:r>
              <a:rPr b="1" lang="en-US" sz="2800" spc="-1" strike="noStrike">
                <a:solidFill>
                  <a:srgbClr val="01048d"/>
                </a:solidFill>
                <a:latin typeface="Arial"/>
                <a:ea typeface="Times New Roman"/>
              </a:rPr>
              <a:t> coexistence </a:t>
            </a:r>
            <a:r>
              <a:rPr b="0" lang="en-US" sz="2400" spc="-1" strike="noStrike">
                <a:solidFill>
                  <a:srgbClr val="01048d"/>
                </a:solidFill>
                <a:latin typeface="Arial"/>
                <a:ea typeface="Times New Roman"/>
              </a:rPr>
              <a:t>with ISP N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104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48d"/>
                </a:solidFill>
                <a:latin typeface="Arial"/>
                <a:ea typeface="Times New Roman"/>
              </a:rPr>
              <a:t>Assign to sites </a:t>
            </a:r>
            <a:r>
              <a:rPr b="1" lang="en-US" sz="2400" spc="-1" strike="noStrike">
                <a:solidFill>
                  <a:srgbClr val="01048d"/>
                </a:solidFill>
                <a:latin typeface="Arial"/>
                <a:ea typeface="Times New Roman"/>
              </a:rPr>
              <a:t>port-restricted IPv4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104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48d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1048d"/>
                </a:solidFill>
                <a:latin typeface="Arial"/>
                <a:ea typeface="Times New Roman"/>
              </a:rPr>
              <a:t>Encapsulate</a:t>
            </a:r>
            <a:r>
              <a:rPr b="0" lang="en-US" sz="2400" spc="-1" strike="noStrike">
                <a:solidFill>
                  <a:srgbClr val="01048d"/>
                </a:solidFill>
                <a:latin typeface="Arial"/>
                <a:ea typeface="Times New Roman"/>
              </a:rPr>
              <a:t> IPv4 A+P packets in IPv6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809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eneral Scope of A+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+P purpose and origin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0E95-E215-411D-BD1D-BDE35FC8C88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ETF 76 - aplusp BO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50560" y="1493640"/>
            <a:ext cx="7559640" cy="46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999-2001 - RSI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Realm Specific IP - RFC 31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perimental protocol for dynamic A+P on mesh top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08-2009 - re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2008: draft-despres-v6ops-apbp-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 2008: draft-bajko-v6ops-port-restricted-ipaddr-assign-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 2008:  draft-boucadair-port-range-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 2008:  draft-ymbk-aplusp-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 2008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presentation at IETF 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 2009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lusp B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80960" y="-36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rief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+P purpose and origin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B654-3483-423D-8F93-C200F8B8A5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ETF 76 - aplusp BO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06640" y="1538280"/>
            <a:ext cx="7332480" cy="418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ubs-and-Spok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opolog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ynamic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and/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t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Port-range specif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rst&amp;La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sk&amp;Val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f 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r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efix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80960" y="0"/>
            <a:ext cx="8229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dentified Variants WITHIN the 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+P purpose and origin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C1A8-D28F-422A-8F15-CC704BA620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ETF 76 - aplusp BO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235080" y="1314360"/>
            <a:ext cx="4292640" cy="3149640"/>
            <a:chOff x="235080" y="1314360"/>
            <a:chExt cx="4292640" cy="3149640"/>
          </a:xfrm>
        </p:grpSpPr>
        <p:pic>
          <p:nvPicPr>
            <p:cNvPr id="58" name="" descr=""/>
            <p:cNvPicPr/>
            <p:nvPr/>
          </p:nvPicPr>
          <p:blipFill>
            <a:blip r:embed="rId1"/>
            <a:srcRect l="6673" t="14054" r="7077" b="0"/>
            <a:stretch/>
          </p:blipFill>
          <p:spPr>
            <a:xfrm>
              <a:off x="235080" y="1314360"/>
              <a:ext cx="4292640" cy="31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35080" y="1314360"/>
              <a:ext cx="4292640" cy="297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12920" y="0"/>
            <a:ext cx="822960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he IETF 73 Common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681440" y="2708280"/>
            <a:ext cx="3960720" cy="2979720"/>
            <a:chOff x="4681440" y="2708280"/>
            <a:chExt cx="3960720" cy="2979720"/>
          </a:xfrm>
        </p:grpSpPr>
        <p:pic>
          <p:nvPicPr>
            <p:cNvPr id="62" name="" descr=""/>
            <p:cNvPicPr/>
            <p:nvPr/>
          </p:nvPicPr>
          <p:blipFill>
            <a:blip r:embed="rId2"/>
            <a:srcRect l="8048" t="0" r="3097" b="5394"/>
            <a:stretch/>
          </p:blipFill>
          <p:spPr>
            <a:xfrm>
              <a:off x="4681440" y="2708280"/>
              <a:ext cx="3960720" cy="29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681440" y="2708280"/>
              <a:ext cx="3960720" cy="29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527720" y="1833480"/>
            <a:ext cx="1620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8080"/>
                </a:solidFill>
                <a:latin typeface="Arial"/>
                <a:ea typeface="Times New Roman"/>
              </a:rPr>
              <a:t>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26280" y="5776920"/>
            <a:ext cx="1620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8080"/>
                </a:solidFill>
                <a:latin typeface="Arial"/>
                <a:ea typeface="Times New Roman"/>
              </a:rPr>
              <a:t>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27720" y="4376880"/>
            <a:ext cx="4319280" cy="493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+P purpose and origin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5F33-7B3F-4AAD-9939-92434819CBD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ETF 76 - aplusp BO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8:56:45Z</dcterms:created>
  <dc:creator>RD</dc:creator>
  <dc:description/>
  <dc:language>en-US</dc:language>
  <cp:lastModifiedBy>RD</cp:lastModifiedBy>
  <dcterms:modified xsi:type="dcterms:W3CDTF">2009-11-11T02:59:40Z</dcterms:modified>
  <cp:revision>97</cp:revision>
  <dc:subject/>
  <dc:title>Diapositive 1</dc:title>
</cp:coreProperties>
</file>